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4CC6-7AE3-482B-A705-FB9C2DC933A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4D6F-3923-45CD-85DE-C075DA993CC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609E-2857-4EA3-81F4-F7E28A10D86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25D-D325-408C-8154-BB1DFCF1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8158-4B19-4C56-A9C7-A1B2F292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F3AE-A1E7-4164-B5D0-84BD023C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A939-1802-4EF0-B457-95E948A8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7418-9397-40E9-8CE1-01CD30E6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EAC6-6874-41C4-8283-FF04955A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67DB-264D-4E69-958B-61852BDA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0F73-B107-474C-BEEE-273440E4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3781-534E-450E-87A1-8AED3E9D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5592-DD59-44E0-8D02-8A09F2CB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E851-66DD-4F4B-BE61-6EA2C7F6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E9EA-1F54-4A0D-9550-B1DD6F54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6925-BF5B-4E72-A482-C5663DB9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F4733-12EB-41F6-A9F1-1C23D6F5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B5C4-D90B-42AE-A6F0-00C07CD5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2D4E-50C6-4845-8FA7-7C916700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6B05-DFE4-4C7F-97E3-BFC5781F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34DB-3122-4AD2-AFEE-BDAD146D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0237-5261-4098-9B11-3B6BAE97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7775-388E-4A50-A932-66A49BDA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46B-5BF8-4124-81FE-3E077891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708-B6EE-4F2A-8108-C414DF7C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EA3-967B-4FBB-BDC8-B3F5F9B9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4694-DED8-4A50-9B0C-C66C3DBA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A365-CBE4-4FB8-B84B-E8996E4C139B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90DC-D13C-410C-B858-B9504051436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Utopia i antyutopi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na Błaszkie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Francis Bacon „Nowa Atlantyda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ole tekstowe 4"/>
          <p:cNvSpPr/>
          <p:nvPr/>
        </p:nvSpPr>
        <p:spPr>
          <a:xfrm>
            <a:off x="611280" y="134136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Francis Bacon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ngielski filozof, żyjący w latach 1561-162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 1632 r. napisał utopijną powieść o mitycznej krainie Bensalem, którą rządzą naukowcy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– są wynalazcami (tworzą np. nowe gatunki roślin i zwierząt) i cudotwórcami (np. potrafią latać). Posiedzenia parlamentu są naukowymi debatami nad wynikami eksperymentów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O czym mówią utopie renesansow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ole tekstowe 4"/>
          <p:cNvSpPr/>
          <p:nvPr/>
        </p:nvSpPr>
        <p:spPr>
          <a:xfrm>
            <a:off x="611280" y="1197000"/>
            <a:ext cx="7993080" cy="31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Opisują zagubione na dalekich oceanach wyspy szczęśliwe, nie dając swoim współczesnym żadnych wskazówek, jak tam dopłynąć. Utopie mogą wręcz wydawać się oderwanymi od rzeczywistości igraszkami intelektualnymi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zacki J,. Historia myśli socjologicznej, Wydawnictwo Naukowe PWN, Warszawa 2002, s. 5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Obraz 3" descr="Island_near_Fiji.jpg"/>
          <p:cNvPicPr/>
          <p:nvPr/>
        </p:nvPicPr>
        <p:blipFill>
          <a:blip r:embed="rId1"/>
          <a:stretch/>
        </p:blipFill>
        <p:spPr>
          <a:xfrm>
            <a:off x="395280" y="3933720"/>
            <a:ext cx="831852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onathan Swift „Podróże Guliwera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ole tekstowe 4"/>
          <p:cNvSpPr/>
          <p:nvPr/>
        </p:nvSpPr>
        <p:spPr>
          <a:xfrm>
            <a:off x="611280" y="1341360"/>
            <a:ext cx="79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Jonathan Swift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pisarz irlandzki żyjący w latach 1667-1745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1726 r. napisał „Podróże Guliwera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połączenie parodii powieści podróżniczej i satyry na naturę ludzką. W książce przedstawił bezlitosną krytykę XVIII-wiecznej Anglii: jej ustroju parlamentarnego polityki, sądownictwa i nauki.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Bohater książki, Lemuel Guliwer, w swojej podróży odwiedza m.in.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spę Lilliputu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której mieszkańcy mają po 15 cm wzrost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Brobdingna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kraj olbrzymów, gdzie bohater staje się m.in. lalką małej dziewczynk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spę Laputę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ządzoną przez uczo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Glubbdubdribu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krainę zamieszkałą przez jasnowidzów i czarownik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raj Luggnaggów,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zamieszały przez ludzi skazanych na nieśmiertelnoś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jczyznę Houyhnhnmó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pięknych i szlachetnych koni, którym służą Jahusi – odrażający, zdegenerowani ludz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gnacy Krasicki „Mikołaja Doświadczyńskiego przypadki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ole tekstowe 4"/>
          <p:cNvSpPr/>
          <p:nvPr/>
        </p:nvSpPr>
        <p:spPr>
          <a:xfrm>
            <a:off x="3203640" y="1989000"/>
            <a:ext cx="54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gnacy Krasick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żyjący w latach 1735 – 1801 jeden z głównych przedstawicieli polskiego oświecenia, związany z programem reform Stanisława August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 1776 r. opublikował „Mikołaja Doświadczyńskiego przypadki”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uznawane z pierwszą nowożytną powieść polską. Jej bohater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rafia na utopijną wyspę Nipu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gdzie pod wpływem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ędrca Xaoo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pracy z Nipuanami zmienia swoje poglądy i postępowani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Obraz 3" descr="Ignacy_Krasicki.jpg"/>
          <p:cNvPicPr/>
          <p:nvPr/>
        </p:nvPicPr>
        <p:blipFill>
          <a:blip r:embed="rId1"/>
          <a:stretch/>
        </p:blipFill>
        <p:spPr>
          <a:xfrm>
            <a:off x="395280" y="1989000"/>
            <a:ext cx="2637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Na wyspie Nip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4"/>
          <p:cNvSpPr/>
          <p:nvPr/>
        </p:nvSpPr>
        <p:spPr>
          <a:xfrm>
            <a:off x="611280" y="1341360"/>
            <a:ext cx="7993080" cy="45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Nie masz u Nipuanów słów wyrażających kłamstwo, kradzież, zdradę, pochlebstwo. Terminów prawnych nie znają. Choroby nie mają szczególnych nazwisk; ale też ani dworaków, ani jurystów, ani doktorów nie masz. (…) W zgromadzeniu naszym nie masz żadnej innej zwierzchności politycznej prócz naturalnej rodziców nad dziećmi. (…) Człowiek jednakowo z drugim człowiekiem rodzący się nie może, a przynajmniej nie powinien by sobie przywłaszczać zwierzchności nad nim;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wszyscy są równi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rasicki I., Mikołaja Doświadczyńskiego przypadki, Zakład Narodowy im. Ossolińskich, Wrocław 197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ole tekstowe 2"/>
          <p:cNvSpPr/>
          <p:nvPr/>
        </p:nvSpPr>
        <p:spPr>
          <a:xfrm>
            <a:off x="0" y="260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Herbert George Wells „Wehikuł czasu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ole tekstowe 4"/>
          <p:cNvSpPr/>
          <p:nvPr/>
        </p:nvSpPr>
        <p:spPr>
          <a:xfrm>
            <a:off x="611280" y="134136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Herbert George Wells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żyjący w latach 1866-1946 powieściopisarz angielsk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1895 r. napisał powieść fantastyczną „Wehikuł czasu”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tórej głównym bohaterem 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dróżnik w Czasie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anonimowy naukowiec mieszkający w Richmond. Testując stworzony przez siebie wehikuł czasu, przenosi się do roku 802 701, gdzie spotyka m.in.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Elojów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rasę żyjącą w małych grupach, niepracującą i jedzącą tylko owoce. Odkrywa też, że nieświadomi Elojowie służą jak pokarm dla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orloków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bezwłosych albinosów zamieszkujących podziemi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Utopie heroiczne i eskapistycz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ole tekstowe 4"/>
          <p:cNvSpPr/>
          <p:nvPr/>
        </p:nvSpPr>
        <p:spPr>
          <a:xfrm>
            <a:off x="611280" y="1341360"/>
            <a:ext cx="799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ocjolog Jerzy Szacki dzieli utopie n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heroiczn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łączą wizję lepszego świata z wezwaniem do działania, które będzie prowadzić do zmiany rzeczywistości tak, by odpowiadała ludzkim potrzebom;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eskapistyczne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pozwalają na ucieczkę od trudnej rzeczywistości do idealnego świata marzeń; ich elementem nie jest walka o wprowadzanie zmia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Definicja antyutop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le tekstowe 4"/>
          <p:cNvSpPr/>
          <p:nvPr/>
        </p:nvSpPr>
        <p:spPr>
          <a:xfrm>
            <a:off x="611280" y="1125360"/>
            <a:ext cx="7993080" cy="49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Antyutopia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– utopia negatywna, przedstawiająca – zazwyczaj w formie powieści – społeczeństwo przyszłości jako nadmiernie zorganizowane, rządzone metodami dyktatorskimi, niszczące w człowieku jego indywidualność. </a:t>
            </a:r>
            <a:r>
              <a:rPr b="1" i="1" lang="pl-PL" sz="2000" spc="-1" strike="noStrike">
                <a:solidFill>
                  <a:srgbClr val="000000"/>
                </a:solidFill>
                <a:latin typeface="Calibri"/>
              </a:rPr>
              <a:t>Antyutopie są zwykle polemikami z utopiami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, z ich ideologią i wiarą w świetlaną przyszłość; to, co w utopii jest traktowane jako przejaw idealnej organizacji społeczeństwa, w antyutopii jest przedstawiane jako czynnik ograniczający swobodę jednostki, dominacji nad nią systemu i maszyn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yt. za: Sławiński J. (red.), Słownik terminów literackich, Ossolineum, Wrocław 2000, s. 3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Literackie przykłady antyutop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ole tekstowe 4"/>
          <p:cNvSpPr/>
          <p:nvPr/>
        </p:nvSpPr>
        <p:spPr>
          <a:xfrm>
            <a:off x="3492360" y="2276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ldous Huxley „Nowy wspaniały świat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eorge Orwell „Rok 198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Obraz 3" descr="1984-Big-Brother.jpg"/>
          <p:cNvPicPr/>
          <p:nvPr/>
        </p:nvPicPr>
        <p:blipFill>
          <a:blip r:embed="rId1"/>
          <a:stretch/>
        </p:blipFill>
        <p:spPr>
          <a:xfrm>
            <a:off x="324000" y="1484280"/>
            <a:ext cx="272232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ole tekstowe 2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Aldous Huxley „Nowy wspaniały świat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ole tekstowe 4"/>
          <p:cNvSpPr/>
          <p:nvPr/>
        </p:nvSpPr>
        <p:spPr>
          <a:xfrm>
            <a:off x="684360" y="1628640"/>
            <a:ext cx="79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Aldous Huxle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– angielski powieściopisarz i eseista, żył w latach 1894-196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owy wspaniały świat” napisał w 1932 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rzy hasła Republiki Świata, którą opisuje, 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spólność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wyraża się zasadą „każdy jest dla każdego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dentycznoś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która jest efektem klonowania i przejawia się w sferze upodobań i poglądów, a w niższych klasach społecznych – także wygląd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tabilność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wypływa z zachowania identyczności i wspólności, a udaje się to osiągnąć za pomocą nieustającej kontroli i tępienia zachowań nieprzewidzianych normą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ole tekstowe 4"/>
          <p:cNvSpPr/>
          <p:nvPr/>
        </p:nvSpPr>
        <p:spPr>
          <a:xfrm>
            <a:off x="611280" y="1197000"/>
            <a:ext cx="79930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efinicja pojęcia „utopia”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ybrane teksty filozoficzne i literackie , w których pojawia się wątek utopii  (Platon, More, Campanella, Bacon, Swift, Krasicki, Wells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ział utopii na heroiczne i eskapistyczn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efinicja pojęcia „antyutopia”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jważniejsze powieści antyutopijne („Nowy wspaniały świat” Huxleya i „Rok 1984” Orwella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tywy antyutopijne w filmie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bliografi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Jak żyją obywatele Republiki Świ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4"/>
          <p:cNvSpPr/>
          <p:nvPr/>
        </p:nvSpPr>
        <p:spPr>
          <a:xfrm>
            <a:off x="611280" y="1341360"/>
            <a:ext cx="7993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siągnęli powszechną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zczęśliwość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wstają w wyniku sztucznego zapłodnienia i klonowania – od narodzin są poddawani warunkowaniu psychologicznemu i biologicznemu, by jako dorośli być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dealnymi członkami społeczności pozbawionej indywidualizmu,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agnień i uczuć wyższych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ą idealnymi pracownikam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: nie żądają podwyżek, nie strajkują, nie intryguj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ch ewentualne niepokoje uśmierza soma – narkotyk, na którego używanie są warunkowani od dzieck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George Orwell „Rok 1984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4"/>
          <p:cNvSpPr/>
          <p:nvPr/>
        </p:nvSpPr>
        <p:spPr>
          <a:xfrm>
            <a:off x="611280" y="1341360"/>
            <a:ext cx="79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eorge Orwell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właściwie Eric Blair) – angielski pisarz i publicysta, żył w latach 1903 – 1950. Uczestniczył w wojnie domowej w Hiszpanii. W czasie II wojny światowej napisał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„Folwark zwierzęcy” –  powieść alegoryczną i paraboliczną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w warstwie dosłownej będącą satyrą na rewolucję rosyjską.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 1949 r. wydał antyutopijną powieść  „Rok 1984”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w której przedstawił wizję Oceanii – państwa totalitarnego, na czele którego stoi nieomylny i wszechmocny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elki Brat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 państwie Wielkiego Br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4"/>
          <p:cNvSpPr/>
          <p:nvPr/>
        </p:nvSpPr>
        <p:spPr>
          <a:xfrm>
            <a:off x="611280" y="981000"/>
            <a:ext cx="79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szechobecna inwigilacj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Policja Myśli, donosicielstwo, teleekrany, podsłuchy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angsoc – ustrój oparty na przemocy i nienawi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Tydzień Nienawiśc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połeczeństwo hierarchiczne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Partia Wewnętrzna – 2 proc. ludności, Partia Zewnętrzna – 13 proc. ludności, prole – 85 proc. ludnośc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hasła Partii: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wojna to pokój”, „wolność to niewola”, „ignorancja to siła”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opaganda sukcesu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inisterstwo Prawdy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podlegała mu prasa, rozrywka, oświata i sztuka)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inisterstwo Pokoju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zajmowało się prowadzeniem wojny)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inisterstwo Miło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pilnowało ładu i porządku)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inisterstwo Obfito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zajmowało się gospodark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owomow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urzędowy język Oceanii, ukształtowany tak, by uniemożliwić formułowanie myśli uznawanych za niewłaściwe (myślozbrod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iągłe zmienianie przeszłości (dwójmyśleni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Antyutopie w film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ole tekstowe 4"/>
          <p:cNvSpPr/>
          <p:nvPr/>
        </p:nvSpPr>
        <p:spPr>
          <a:xfrm>
            <a:off x="611280" y="1341360"/>
            <a:ext cx="8137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k 1984”, reż. Michael Radford, 1984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dny świat”, reż. Kevin Costner, 1995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atrix”, reż. Andy i Lenny Wachowscy, 1999 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V jak Vendetta”, reż. James McTeigue, 2006 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4"/>
          <p:cNvSpPr/>
          <p:nvPr/>
        </p:nvSpPr>
        <p:spPr>
          <a:xfrm>
            <a:off x="250920" y="1052640"/>
            <a:ext cx="8713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acon F., Nowa Atlantyda, PAX, Warszawa 195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Campanella T., Miasto słońca, Alfa, Warszawa, 199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Huxley A., Nowy Wspaniały Świat, Muza, Warszawa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opaliński W., Słownik mitów i tradycji kultury, tom 3, Wydawnictwo Rzeczpospolita HPS, Warszawa 200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rasicki I., Mikołaja Doświadczyńskiego przypadki, Zakład Narodowy im. Ossolińskich, Wrocław 197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ore (Morus) T., Utopia, Daimonion, Lublin 19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rwell G., Rok 1984, Da Capo, Warszawa 199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laton, Państwo, Antyk, Kęty 199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ławiński J. (red.), Słownik terminów literackich, Ossolineum, Wrocław 2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wift J., Podróże Guliwera, http://wolnelektury.pl/katalog/lektura/podroze-guliwera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zacki J., Spotkania z utopią, Sic!, Warszawa 2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zacki J,. Historia myśli socjologicznej, Wydawnictwo Naukowe PWN, Warszawa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ells H.G., Wehikuł czasu, Amber, Warszawa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ykorzystane zdjęcia i graf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le tekstowe 3"/>
          <p:cNvSpPr/>
          <p:nvPr/>
        </p:nvSpPr>
        <p:spPr>
          <a:xfrm>
            <a:off x="684360" y="1197000"/>
            <a:ext cx="77752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1. Platon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fragment fresku „Szkoła ateńska”, autor: Rafael Santi, źródło: Wikimedia Commons, http://pl.wikipedia.org/wiki/Plik:Plato-raphael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2. Wysp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, fot. Remember, źródło: Wikimedia Commons, http://pl.wikipedia.org/wiki/Plik:Island_near_Fiji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3. Ignacy Krasicki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fotograficzna reprodukcja portretu, autor obrazu: Per Krafft the Elder, źródło: Wikimedia Commons, http://pl.wikipedia.org/wiki/Plik:Ignacy_Krasicki_111.P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4. Big brother is watching you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autor: Frederic Guimonta, źródło: Wikimedia Commons, http://pl.wikipedia.org/wiki/Plik:1984-Big-Brother.jpg, licencja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ree Art License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http://artlibre.org/licence/lal/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Definicja utop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4"/>
          <p:cNvSpPr/>
          <p:nvPr/>
        </p:nvSpPr>
        <p:spPr>
          <a:xfrm>
            <a:off x="611280" y="1341360"/>
            <a:ext cx="7993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Utopi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– nie mająca szans urzeczywistnienia i nie licząca się z realnym stanem rzeczy i stosunków społecznych </a:t>
            </a: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wizja idealnego, egalitarnego społeczeństwa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. Nazwa pochodzi od tytułu łac. dzieła </a:t>
            </a: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Thomasa Morusa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Calibri"/>
              </a:rPr>
              <a:t>Potocznie – mrzonka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, plan, pomysł wzniosły, idealny, ale nieżyciowy, nierealny, nieziszczalny, fantastyczn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yt. za: Kopaliński W., Słownik mitów i tradycji kultury, tom 3, Wydawnictwo Rzeczpospolita HPS, Warszawa 2007, s. 37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Utopia w filozofii i literatur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ole tekstowe 4"/>
          <p:cNvSpPr/>
          <p:nvPr/>
        </p:nvSpPr>
        <p:spPr>
          <a:xfrm>
            <a:off x="611280" y="1341360"/>
            <a:ext cx="799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laton „Państwo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homas More (Morus) „Utopi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ommaso Campanella „Miasto słońc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rancis Bacon „Nowa Atlantyda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onathan Swift „Podróże Guliwera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gnacy Krasicki „Mikołaja Doświadczyńskiego przypadki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erbert George Wells „Wehikuł czasu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az 3" descr="Plato-raphael.jpg"/>
          <p:cNvPicPr/>
          <p:nvPr/>
        </p:nvPicPr>
        <p:blipFill>
          <a:blip r:embed="rId1"/>
          <a:stretch/>
        </p:blipFill>
        <p:spPr>
          <a:xfrm>
            <a:off x="755640" y="981000"/>
            <a:ext cx="1871640" cy="1994040"/>
          </a:xfrm>
          <a:prstGeom prst="rect">
            <a:avLst/>
          </a:prstGeom>
          <a:ln w="0">
            <a:noFill/>
          </a:ln>
        </p:spPr>
      </p:pic>
      <p:sp>
        <p:nvSpPr>
          <p:cNvPr id="104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ton „Państwo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4"/>
          <p:cNvSpPr/>
          <p:nvPr/>
        </p:nvSpPr>
        <p:spPr>
          <a:xfrm>
            <a:off x="3059280" y="981000"/>
            <a:ext cx="5689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laton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grecki filozof, żyjący ok. 427-347 p.n.e., krytycznie oceniał ateńską demokrację i uważał, że żyje w czasach upadku i zepsucia. Jego zdaniem żadne realnie funkcjonujące państwo nie jest idealne.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4"/>
          <p:cNvSpPr/>
          <p:nvPr/>
        </p:nvSpPr>
        <p:spPr>
          <a:xfrm>
            <a:off x="684360" y="3213000"/>
            <a:ext cx="79912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latońskie państwo idealne przypomina organizm: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jest najpodobniejsze do jednego człowieka. Tak, jak kiedyś u kogoś z nas palec zostanie zraniony, to cała wspólnota cielesna, do której i dusza należy i wraz z nią tworzy jeden układ w niej panujący, spostrzega to i cała równocześnie wraz z tym palcem cierpi – cała, chociaż palec to tylko jej część”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laton, Państwo, tłum. Władysław Witwicki, Antyk, Kęty 1997, s. 1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 platońskim państwie idealny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4"/>
          <p:cNvSpPr/>
          <p:nvPr/>
        </p:nvSpPr>
        <p:spPr>
          <a:xfrm>
            <a:off x="611280" y="1341360"/>
            <a:ext cx="79930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ie ma nierówności społecznych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m.in. podziału na ubogich i bogatych, stąd postulat likwidacji własności prywatne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ieczna jest pewna uniformizacja obywatel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 także w zakresie ich myśli i uczuć, czemu sprzyjać ma kontrola nad wszystkimi sferami życia jednostek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stnieją trzy kasty: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ędrcy, wojownicy i lud – każdy człowiek zajmuje się tym, do czego się najlepiej nadaj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Thomas More (Morus) „Utopia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4"/>
          <p:cNvSpPr/>
          <p:nvPr/>
        </p:nvSpPr>
        <p:spPr>
          <a:xfrm>
            <a:off x="611280" y="1341360"/>
            <a:ext cx="7993080" cy="35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Thomas More (Morus)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żyjący w latach 1478 – 1535 angielski myśliciel, pisarz i mąż stanu.  Jako kanclerz Anglii sprzeciwił się rozwodowi Henryka VIII i uznaniu go za głowę Kościoła anglikańskiego. Skazany na ścięcie i stracony, został uznany za męczennika i kanonizowan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1516 r. napisał „Utopię”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– pełen tytuł: „Książeczka zaiste złota i niemniej pożyteczna jak przyjemna o najlepszym ustroju państwa i nieznanej dotąd wyspie Utopii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ole tekstowe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Idealne społeczeństwo w „Utopii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4"/>
          <p:cNvSpPr/>
          <p:nvPr/>
        </p:nvSpPr>
        <p:spPr>
          <a:xfrm>
            <a:off x="611280" y="1341360"/>
            <a:ext cx="79930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analiza sposobu funkcjonowania renesansowej Anglii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doprowadziła do wniosku, że konieczna jest przebudowa systemu społeczno-ekonomicznego – równy podział dóbr między wszystkich i brak własności prywatne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dealne państwo zapewnia wszystkim obywatelom dobrobyt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terialny, dostęp do nauki, kultury i oświaty; ludzie pracują dla dobra ogółu, nie istnieje własność prywatna i pieniądz, a społeczeństwo jest tolerancyjne, pokojowo nastawione, panuje w nim równouprawnienie kobiet i mężczyzn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ole tekstowe 2"/>
          <p:cNvSpPr/>
          <p:nvPr/>
        </p:nvSpPr>
        <p:spPr>
          <a:xfrm>
            <a:off x="0" y="333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Tommaso Campanella „Miasto słońca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4"/>
          <p:cNvSpPr/>
          <p:nvPr/>
        </p:nvSpPr>
        <p:spPr>
          <a:xfrm>
            <a:off x="611280" y="1341360"/>
            <a:ext cx="799308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Tommaso Campanella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żyjący w latach 1568-1639 włoski teolog i filozof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1602 r. napisał „Miasto słońca” – utwór o idealnym społeczeństwi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a czele Solariuszy stoi Metafizyk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władca absolutny, a wspiera go trzech współwładców (Pon – Moc, Sin – Mądrość i Mor – Miłość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ieszkańcy mogą wyrazić swoją wolę, poskarżyć się albo przedstawić swoje potrzeby w czasie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ielkich Zgromadzeń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ie istnieje niewolnictwo, praca fizyczna cieszy się wielkim szacunkiem, a dzięki dobrej organizacji mieszkańcy pracują nie więcej niż 4 godziny dzienni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borem par i wychowaniem dzieci zarządzają odpowiedni urzędnicy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olariusze są jednakowo boga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bo mają dostęp do wszystkich dóbr)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i jednakowo  biedn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ponieważ nic nie jest ich własnością)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nia</dc:creator>
  <dc:description/>
  <dc:language>en-US</dc:language>
  <cp:lastModifiedBy>joa</cp:lastModifiedBy>
  <dcterms:modified xsi:type="dcterms:W3CDTF">2013-04-03T16:40:45Z</dcterms:modified>
  <cp:revision>71</cp:revision>
  <dc:subject/>
  <dc:title>Slajd 1</dc:title>
</cp:coreProperties>
</file>