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73AB-4B6D-454D-A5C9-3C66D12CA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B80B-127D-4CB9-8E20-394260A6F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6357-CDFE-413D-BBB2-A23194E18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3295-AEA0-4E7E-A4D9-35FEF0AA9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63C4-6F11-4C61-9C9D-548DC508F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90DA-AD0C-4592-8664-CE266865D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4FCA-0440-4A3A-B4B1-43D132BF2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3E79-A32B-41F9-A8AA-47C9B403E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B126-098C-4901-96E0-968C2865F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2A6F-090C-4DD7-A2FA-F7CB0285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0767-8A9E-4447-AF72-639DBDC7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A4DA-75CC-4F88-AC26-86E8F312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10265-FE21-4CDC-A110-728DBCDDDAE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44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ole tekstowe 7"/>
          <p:cNvSpPr/>
          <p:nvPr/>
        </p:nvSpPr>
        <p:spPr>
          <a:xfrm>
            <a:off x="285840" y="2214720"/>
            <a:ext cx="8643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Czy rewolucja to droga do demokracji czy totalitaryzmu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ole tekstowe 8"/>
          <p:cNvSpPr/>
          <p:nvPr/>
        </p:nvSpPr>
        <p:spPr>
          <a:xfrm>
            <a:off x="1214280" y="37861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7f7f7f"/>
                </a:solidFill>
                <a:latin typeface="Tahoma"/>
                <a:ea typeface="Tahoma"/>
              </a:rPr>
              <a:t>Radosław Marzęck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139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ole tekstowe 7"/>
          <p:cNvSpPr/>
          <p:nvPr/>
        </p:nvSpPr>
        <p:spPr>
          <a:xfrm>
            <a:off x="1143000" y="857160"/>
            <a:ext cx="71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Bibliograf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ole tekstowe 8"/>
          <p:cNvSpPr/>
          <p:nvPr/>
        </p:nvSpPr>
        <p:spPr>
          <a:xfrm>
            <a:off x="285840" y="1928880"/>
            <a:ext cx="842940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ole tekstowe 9"/>
          <p:cNvSpPr/>
          <p:nvPr/>
        </p:nvSpPr>
        <p:spPr>
          <a:xfrm>
            <a:off x="571680" y="214308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ole tekstowe 10"/>
          <p:cNvSpPr/>
          <p:nvPr/>
        </p:nvSpPr>
        <p:spPr>
          <a:xfrm>
            <a:off x="285840" y="1928880"/>
            <a:ext cx="84294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N. Davies, </a:t>
            </a:r>
            <a:r>
              <a:rPr b="0" i="1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Europa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, Kraków 200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S. Huntington, </a:t>
            </a:r>
            <a:r>
              <a:rPr b="0" i="1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Trzecia fala demokratyzacji,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Warszawa 1995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G. Sartori, </a:t>
            </a:r>
            <a:r>
              <a:rPr b="0" i="1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Teoria demokracji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, Warszawa 1995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J. Staniszkis, </a:t>
            </a:r>
            <a:r>
              <a:rPr b="0" i="1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Samoograniczająca się rewolucja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, Gdańsk 2010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P. Sztompka, </a:t>
            </a:r>
            <a:r>
              <a:rPr b="0" i="1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Socjologia zmian społecznych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, Kraków 2007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http://sjp.p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148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ole tekstowe 7"/>
          <p:cNvSpPr/>
          <p:nvPr/>
        </p:nvSpPr>
        <p:spPr>
          <a:xfrm>
            <a:off x="1071720" y="2214720"/>
            <a:ext cx="71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Dziękuję za uwagę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51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ole tekstowe 7"/>
          <p:cNvSpPr/>
          <p:nvPr/>
        </p:nvSpPr>
        <p:spPr>
          <a:xfrm>
            <a:off x="1071720" y="857160"/>
            <a:ext cx="71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Plan prezentacj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ole tekstowe 9"/>
          <p:cNvSpPr/>
          <p:nvPr/>
        </p:nvSpPr>
        <p:spPr>
          <a:xfrm>
            <a:off x="487440" y="1928880"/>
            <a:ext cx="81680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Wyjaśnienie kluczowych pojęć i relacji pomiędzy nim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Niejednoznaczność efektów rewolucj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Demokracja i totalitaryzm jako efekt rewolucj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Czy przemoc jest nieodłączną cechą rewolucji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Czy możliwa jest pokojowa rewolucja? Pojęcie „samoograniczającej się” rewolucj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ole tekstowe 17" descr=""/>
          <p:cNvPicPr/>
          <p:nvPr/>
        </p:nvPicPr>
        <p:blipFill>
          <a:blip r:embed="rId1"/>
          <a:stretch/>
        </p:blipFill>
        <p:spPr>
          <a:xfrm>
            <a:off x="3328920" y="2419200"/>
            <a:ext cx="1895400" cy="1622520"/>
          </a:xfrm>
          <a:prstGeom prst="rect">
            <a:avLst/>
          </a:prstGeom>
          <a:ln w="0">
            <a:noFill/>
          </a:ln>
        </p:spPr>
      </p:pic>
      <p:sp>
        <p:nvSpPr>
          <p:cNvPr id="56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3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59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rostokąt 9" descr=""/>
          <p:cNvPicPr/>
          <p:nvPr/>
        </p:nvPicPr>
        <p:blipFill>
          <a:blip r:embed="rId4"/>
          <a:stretch/>
        </p:blipFill>
        <p:spPr>
          <a:xfrm>
            <a:off x="706320" y="2651040"/>
            <a:ext cx="2841840" cy="2805120"/>
          </a:xfrm>
          <a:prstGeom prst="rect">
            <a:avLst/>
          </a:prstGeom>
          <a:ln w="0">
            <a:noFill/>
          </a:ln>
        </p:spPr>
      </p:pic>
      <p:pic>
        <p:nvPicPr>
          <p:cNvPr id="62" name="Prostokąt 11" descr=""/>
          <p:cNvPicPr/>
          <p:nvPr/>
        </p:nvPicPr>
        <p:blipFill>
          <a:blip r:embed="rId5"/>
          <a:stretch/>
        </p:blipFill>
        <p:spPr>
          <a:xfrm>
            <a:off x="4906800" y="1474920"/>
            <a:ext cx="3176640" cy="3047760"/>
          </a:xfrm>
          <a:prstGeom prst="rect">
            <a:avLst/>
          </a:prstGeom>
          <a:ln w="0">
            <a:noFill/>
          </a:ln>
        </p:spPr>
      </p:pic>
      <p:pic>
        <p:nvPicPr>
          <p:cNvPr id="63" name="Prostokąt 12" descr=""/>
          <p:cNvPicPr/>
          <p:nvPr/>
        </p:nvPicPr>
        <p:blipFill>
          <a:blip r:embed="rId6"/>
          <a:stretch/>
        </p:blipFill>
        <p:spPr>
          <a:xfrm>
            <a:off x="4913280" y="3267000"/>
            <a:ext cx="3048120" cy="2968560"/>
          </a:xfrm>
          <a:prstGeom prst="rect">
            <a:avLst/>
          </a:prstGeom>
          <a:ln w="0">
            <a:noFill/>
          </a:ln>
        </p:spPr>
      </p:pic>
      <p:sp>
        <p:nvSpPr>
          <p:cNvPr id="64" name="pole tekstowe 16"/>
          <p:cNvSpPr/>
          <p:nvPr/>
        </p:nvSpPr>
        <p:spPr>
          <a:xfrm>
            <a:off x="1071720" y="857160"/>
            <a:ext cx="71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Kluczowe pojęc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rostokąt 18"/>
          <p:cNvSpPr/>
          <p:nvPr/>
        </p:nvSpPr>
        <p:spPr>
          <a:xfrm>
            <a:off x="214200" y="2428920"/>
            <a:ext cx="3643560" cy="2357280"/>
          </a:xfrm>
          <a:prstGeom prst="rect">
            <a:avLst/>
          </a:prstGeom>
          <a:solidFill>
            <a:srgbClr val="eeece1"/>
          </a:solidFill>
          <a:ln w="25560">
            <a:solidFill>
              <a:srgbClr val="eeece1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1. 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«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zbrojne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wystąpienie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dużej części społeczeństwa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przeciw istniejącej władzy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, mające na celu zmianę ustroju w państwie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2. 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«proces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gwałtownych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zmian w jakiejś dziedzinie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trzałka w lewo i prawo 19"/>
          <p:cNvSpPr/>
          <p:nvPr/>
        </p:nvSpPr>
        <p:spPr>
          <a:xfrm>
            <a:off x="3286080" y="3143160"/>
            <a:ext cx="2000160" cy="571680"/>
          </a:xfrm>
          <a:prstGeom prst="leftRightArrow">
            <a:avLst>
              <a:gd name="adj1" fmla="val 50000"/>
              <a:gd name="adj2" fmla="val 49987"/>
            </a:avLst>
          </a:prstGeom>
          <a:solidFill>
            <a:srgbClr val="e46c0a"/>
          </a:solidFill>
          <a:ln w="25560">
            <a:solidFill>
              <a:srgbClr val="984807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ffffff"/>
                </a:solidFill>
                <a:latin typeface="Tahoma"/>
                <a:ea typeface="Tahoma"/>
              </a:rPr>
              <a:t>continuu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rostokąt 21"/>
          <p:cNvSpPr/>
          <p:nvPr/>
        </p:nvSpPr>
        <p:spPr>
          <a:xfrm>
            <a:off x="357120" y="4857840"/>
            <a:ext cx="8562960" cy="785880"/>
          </a:xfrm>
          <a:prstGeom prst="rect">
            <a:avLst/>
          </a:prstGeom>
          <a:solidFill>
            <a:srgbClr val="eeece1"/>
          </a:solidFill>
          <a:ln w="25560">
            <a:solidFill>
              <a:srgbClr val="eeece1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Wniosek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Przejście między demokracją i totalitaryzmem jest płynn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Demokracja nie jest dana raz na zawsze – o jakość demokracji trzeba nieustannie zabiegać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rostokąt 22"/>
          <p:cNvSpPr/>
          <p:nvPr/>
        </p:nvSpPr>
        <p:spPr>
          <a:xfrm>
            <a:off x="4643280" y="1571760"/>
            <a:ext cx="4286520" cy="1643040"/>
          </a:xfrm>
          <a:prstGeom prst="rect">
            <a:avLst/>
          </a:prstGeom>
          <a:solidFill>
            <a:srgbClr val="eeece1"/>
          </a:solidFill>
          <a:ln w="25560">
            <a:solidFill>
              <a:srgbClr val="eeece1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Cechy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Jedna oficjalna ideolog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Monopol rządu na broń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Rządowy monopol dysponowania środkami masowego przekaz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Terrorystyczny system policyjn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Scentralizowane zarządzanie gospodark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rostokąt 23"/>
          <p:cNvSpPr/>
          <p:nvPr/>
        </p:nvSpPr>
        <p:spPr>
          <a:xfrm>
            <a:off x="4643280" y="3286080"/>
            <a:ext cx="4286520" cy="1643040"/>
          </a:xfrm>
          <a:prstGeom prst="rect">
            <a:avLst/>
          </a:prstGeom>
          <a:solidFill>
            <a:srgbClr val="eeece1"/>
          </a:solidFill>
          <a:ln w="25560">
            <a:solidFill>
              <a:srgbClr val="eeece1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Cechy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System, w którym nikt nie może sam siebie wybra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Nikt nie może powierzyć sobie władz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Nikt nie może przywłaszczyć sobie nieograniczonej władz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2986 0.15448 L -0.3816 0.15217 C -0.35052 0.1524 -0.30521 0.14477 -0.25868 0.13182 C -0.20573 0.11679 -0.16407 0.09967 -0.13577 0.08279 L 0.00069 0.00509 E">
                                      <p:cBhvr>
                                        <p:cTn id="52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7197E-006 L 0.04218 -0.14963 E">
                                      <p:cBhvr>
                                        <p:cTn id="54" dur="1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73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ole tekstowe 16"/>
          <p:cNvSpPr/>
          <p:nvPr/>
        </p:nvSpPr>
        <p:spPr>
          <a:xfrm>
            <a:off x="428760" y="1714680"/>
            <a:ext cx="84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Prawdziwym efektem zmian systemowych wcale nie musi być demokracja taka, jaką znamy. Możliwości zwykle jest kilk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ole tekstowe 10"/>
          <p:cNvSpPr/>
          <p:nvPr/>
        </p:nvSpPr>
        <p:spPr>
          <a:xfrm>
            <a:off x="357120" y="857160"/>
            <a:ext cx="850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Demokracja czy totalitaryzm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ole tekstowe 8"/>
          <p:cNvSpPr/>
          <p:nvPr/>
        </p:nvSpPr>
        <p:spPr>
          <a:xfrm>
            <a:off x="785880" y="2643120"/>
            <a:ext cx="17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Autorytaryz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ole tekstowe 9"/>
          <p:cNvSpPr/>
          <p:nvPr/>
        </p:nvSpPr>
        <p:spPr>
          <a:xfrm>
            <a:off x="4219200" y="2571840"/>
            <a:ext cx="16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Totalitaryz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ole tekstowe 11"/>
          <p:cNvSpPr/>
          <p:nvPr/>
        </p:nvSpPr>
        <p:spPr>
          <a:xfrm>
            <a:off x="2783880" y="307188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Dyktatu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ole tekstowe 12"/>
          <p:cNvSpPr/>
          <p:nvPr/>
        </p:nvSpPr>
        <p:spPr>
          <a:xfrm>
            <a:off x="6572160" y="2928960"/>
            <a:ext cx="17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Demokrac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rostokąt 13"/>
          <p:cNvSpPr/>
          <p:nvPr/>
        </p:nvSpPr>
        <p:spPr>
          <a:xfrm>
            <a:off x="285840" y="3571920"/>
            <a:ext cx="8572320" cy="2071800"/>
          </a:xfrm>
          <a:prstGeom prst="rect">
            <a:avLst/>
          </a:prstGeom>
          <a:solidFill>
            <a:srgbClr val="eeece1"/>
          </a:solidFill>
          <a:ln w="25560">
            <a:solidFill>
              <a:srgbClr val="eeece1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Dodatkowo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Szczytne cele rewolucjonistów w teorii nie zawsze przekładały się na praktykę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Czasem trudno przewidzieć bieg wypadków – sytuacja może „wymknąć się” spod kontrol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Znamy rewolucje, które zapoczątkowały ustrój totalitarny, ale także i takie, które umocniły demokrację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Znamy też sytuacje, kiedy władzę oddawano dyktatorom w sposób w pełni demokratyczny(A. Hitler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rostokąt 14"/>
          <p:cNvSpPr/>
          <p:nvPr/>
        </p:nvSpPr>
        <p:spPr>
          <a:xfrm>
            <a:off x="642960" y="2428920"/>
            <a:ext cx="7929720" cy="100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Demokracja   </a:t>
            </a:r>
            <a:r>
              <a:rPr b="1" lang="pl-P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---------------</a:t>
            </a:r>
            <a:r>
              <a:rPr b="1" lang="pl-P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Niedemokrac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86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ole tekstowe 16"/>
          <p:cNvSpPr/>
          <p:nvPr/>
        </p:nvSpPr>
        <p:spPr>
          <a:xfrm>
            <a:off x="428760" y="1714680"/>
            <a:ext cx="8429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Tzw.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„wielkie” rewolucje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angielska (164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amerykańska (177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francuska (1789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doprowadziły do narodzin epoki nowoczesnej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ole tekstowe 10"/>
          <p:cNvSpPr/>
          <p:nvPr/>
        </p:nvSpPr>
        <p:spPr>
          <a:xfrm>
            <a:off x="357120" y="857160"/>
            <a:ext cx="850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Demokracja czy totalitaryzm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ole tekstowe 8"/>
          <p:cNvSpPr/>
          <p:nvPr/>
        </p:nvSpPr>
        <p:spPr>
          <a:xfrm>
            <a:off x="4405320" y="1785960"/>
            <a:ext cx="314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Demokracja parlamentar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ole tekstowe 11"/>
          <p:cNvSpPr/>
          <p:nvPr/>
        </p:nvSpPr>
        <p:spPr>
          <a:xfrm>
            <a:off x="6184440" y="2286000"/>
            <a:ext cx="30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Ograniczenie absolutyzm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ole tekstowe 12"/>
          <p:cNvSpPr/>
          <p:nvPr/>
        </p:nvSpPr>
        <p:spPr>
          <a:xfrm>
            <a:off x="4063320" y="2714760"/>
            <a:ext cx="27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Wolność i niepodległoś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ole tekstowe 13"/>
          <p:cNvSpPr/>
          <p:nvPr/>
        </p:nvSpPr>
        <p:spPr>
          <a:xfrm>
            <a:off x="3723120" y="3357720"/>
            <a:ext cx="26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Równość wobec praw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ole tekstowe 14"/>
          <p:cNvSpPr/>
          <p:nvPr/>
        </p:nvSpPr>
        <p:spPr>
          <a:xfrm>
            <a:off x="6814080" y="307188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Prawa człowie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ole tekstowe 15"/>
          <p:cNvSpPr/>
          <p:nvPr/>
        </p:nvSpPr>
        <p:spPr>
          <a:xfrm>
            <a:off x="5424840" y="385776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Suwerenność narod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le tekstowe 17"/>
          <p:cNvSpPr/>
          <p:nvPr/>
        </p:nvSpPr>
        <p:spPr>
          <a:xfrm>
            <a:off x="7025760" y="4357800"/>
            <a:ext cx="20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Trójpodział wład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rostokąt 18"/>
          <p:cNvSpPr/>
          <p:nvPr/>
        </p:nvSpPr>
        <p:spPr>
          <a:xfrm>
            <a:off x="3500280" y="1643040"/>
            <a:ext cx="5500800" cy="3071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Egzekuc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Woj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Terr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Ofi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Zniszczenie dóbr kultu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101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ole tekstowe 16"/>
          <p:cNvSpPr/>
          <p:nvPr/>
        </p:nvSpPr>
        <p:spPr>
          <a:xfrm>
            <a:off x="428760" y="1714680"/>
            <a:ext cx="84294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Rewolucj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rosyjska (191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chińska (1949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rozpoczęły okres komunizm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ole tekstowe 10"/>
          <p:cNvSpPr/>
          <p:nvPr/>
        </p:nvSpPr>
        <p:spPr>
          <a:xfrm>
            <a:off x="357120" y="857160"/>
            <a:ext cx="850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Demokracja czy totalitaryzm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ole tekstowe 8"/>
          <p:cNvSpPr/>
          <p:nvPr/>
        </p:nvSpPr>
        <p:spPr>
          <a:xfrm>
            <a:off x="4468680" y="178596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Cenzu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ole tekstowe 11"/>
          <p:cNvSpPr/>
          <p:nvPr/>
        </p:nvSpPr>
        <p:spPr>
          <a:xfrm>
            <a:off x="6465960" y="2143080"/>
            <a:ext cx="17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Zakaz strajkó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ole tekstowe 12"/>
          <p:cNvSpPr/>
          <p:nvPr/>
        </p:nvSpPr>
        <p:spPr>
          <a:xfrm>
            <a:off x="4065480" y="2714760"/>
            <a:ext cx="348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Nacjonalizacja fabryk i bankó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ole tekstowe 13"/>
          <p:cNvSpPr/>
          <p:nvPr/>
        </p:nvSpPr>
        <p:spPr>
          <a:xfrm>
            <a:off x="3736440" y="3357720"/>
            <a:ext cx="186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Wojna domow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ole tekstowe 14"/>
          <p:cNvSpPr/>
          <p:nvPr/>
        </p:nvSpPr>
        <p:spPr>
          <a:xfrm>
            <a:off x="7467480" y="3071880"/>
            <a:ext cx="8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Terr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ole tekstowe 15"/>
          <p:cNvSpPr/>
          <p:nvPr/>
        </p:nvSpPr>
        <p:spPr>
          <a:xfrm>
            <a:off x="5448960" y="3857760"/>
            <a:ext cx="152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Miliony ofi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rostokąt 19"/>
          <p:cNvSpPr/>
          <p:nvPr/>
        </p:nvSpPr>
        <p:spPr>
          <a:xfrm>
            <a:off x="1000080" y="5072040"/>
            <a:ext cx="7286760" cy="571680"/>
          </a:xfrm>
          <a:prstGeom prst="rect">
            <a:avLst/>
          </a:prstGeom>
          <a:solidFill>
            <a:srgbClr val="984807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  <a:ea typeface="Tahoma"/>
              </a:rPr>
              <a:t>Żadna z nich nie miała jednak POKOJOWEGO charakte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115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ole tekstowe 16"/>
          <p:cNvSpPr/>
          <p:nvPr/>
        </p:nvSpPr>
        <p:spPr>
          <a:xfrm>
            <a:off x="428760" y="928800"/>
            <a:ext cx="84294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Z kolei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rewolucje antykomunistyczne  w Europie Środkowej i Wschodniej (1989) zakończyły okres komunizm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rostokąt 17"/>
          <p:cNvSpPr/>
          <p:nvPr/>
        </p:nvSpPr>
        <p:spPr>
          <a:xfrm>
            <a:off x="928800" y="2143080"/>
            <a:ext cx="7286400" cy="571680"/>
          </a:xfrm>
          <a:prstGeom prst="rect">
            <a:avLst/>
          </a:prstGeom>
          <a:solidFill>
            <a:srgbClr val="984807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  <a:ea typeface="Tahoma"/>
              </a:rPr>
              <a:t>W większości miały POKOJOWY charak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ole tekstowe 18"/>
          <p:cNvSpPr/>
          <p:nvPr/>
        </p:nvSpPr>
        <p:spPr>
          <a:xfrm>
            <a:off x="357120" y="4857840"/>
            <a:ext cx="8429760" cy="810000"/>
          </a:xfrm>
          <a:prstGeom prst="rect">
            <a:avLst/>
          </a:prstGeom>
          <a:solidFill>
            <a:srgbClr val="ddd9c3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Większość ludzi nie marzy już o rewolucjach, </a:t>
            </a:r>
            <a:r>
              <a:rPr b="1" i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ale się ich bo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i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i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i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i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i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Piotr Sztomp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14200" y="2928960"/>
          <a:ext cx="8715600" cy="1781280"/>
        </p:xfrm>
        <a:graphic>
          <a:graphicData uri="http://schemas.openxmlformats.org/drawingml/2006/table">
            <a:tbl>
              <a:tblPr/>
              <a:tblGrid>
                <a:gridCol w="2178000"/>
                <a:gridCol w="2179800"/>
                <a:gridCol w="2179800"/>
                <a:gridCol w="2178000"/>
              </a:tblGrid>
              <a:tr h="285840">
                <a:tc gridSpan="4"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Drogi do demokracji w latach 70., 80. i 90. XX wiek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480">
                <a:tc gridSpan="2"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Krwaw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Bezkrwaw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1360"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Ustępstwa rządu pod wpływem walk zbrojny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Zbrojne obalenie reżim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Dobrowolne ustępstwa lub negocjacje rządu z opozycj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sowe pokojowe protesty społeczeństw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98600"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zykład: Nikaragua, Salwador, RP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zykład: Portugalia, Rumunia, Pana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zykład: Polska, Węgry, Hiszpa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zykład: NRD, Czechosłowac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124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ole tekstowe 16"/>
          <p:cNvSpPr/>
          <p:nvPr/>
        </p:nvSpPr>
        <p:spPr>
          <a:xfrm>
            <a:off x="285840" y="2286000"/>
            <a:ext cx="8429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Po pierwsz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Rewolucje zwykle zakładają </a:t>
            </a: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użycie przemocy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– stąd strach przed konsekwencjami jej użyc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Rewolucja to… </a:t>
            </a:r>
            <a:r>
              <a:rPr b="0" i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szybka, fundamentalna i gwałtowna wewnętrzna zmiana obejmująca dominujące wartości i mity społeczne, instytucje polityczne, strukturę społeczną, formy przywództwa, działania rządowe i polityk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Rewolucja to… </a:t>
            </a:r>
            <a:r>
              <a:rPr b="0" i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proces zmiany politycznej dzięki masowemu ruchowi społecznemu przez obalenie przemocą istniejącego reżimu i utworzenie nowego rząd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rostokąt 17"/>
          <p:cNvSpPr/>
          <p:nvPr/>
        </p:nvSpPr>
        <p:spPr>
          <a:xfrm>
            <a:off x="0" y="857160"/>
            <a:ext cx="5500800" cy="1071720"/>
          </a:xfrm>
          <a:prstGeom prst="rect">
            <a:avLst/>
          </a:prstGeom>
          <a:solidFill>
            <a:srgbClr val="984807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  <a:ea typeface="Tahoma"/>
              </a:rPr>
              <a:t>W większości miały POKOJOWY charak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  <a:ea typeface="Tahoma"/>
              </a:rPr>
              <a:t>DLACZEGO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131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ole tekstowe 16"/>
          <p:cNvSpPr/>
          <p:nvPr/>
        </p:nvSpPr>
        <p:spPr>
          <a:xfrm>
            <a:off x="285840" y="2286000"/>
            <a:ext cx="842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Po drugie: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Te państwa już wcześniej doświadczyły wielkiej przemo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Po trzecie: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Reformatorzy byli na tyle silni, że władza obawiała się stosowania przemo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Po czwarte: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Odrzucano przemoc ze względów ideologicznych – raczej organizowano marsze czy demonstracje przeciwko reżimowi (tzw. niestosowanie przemocy, ang. </a:t>
            </a:r>
            <a:r>
              <a:rPr b="0" i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non-violence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rostokąt 17"/>
          <p:cNvSpPr/>
          <p:nvPr/>
        </p:nvSpPr>
        <p:spPr>
          <a:xfrm>
            <a:off x="0" y="857160"/>
            <a:ext cx="5500800" cy="1071720"/>
          </a:xfrm>
          <a:prstGeom prst="rect">
            <a:avLst/>
          </a:prstGeom>
          <a:solidFill>
            <a:srgbClr val="984807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  <a:ea typeface="Tahoma"/>
              </a:rPr>
              <a:t>W większości miały POKOJOWY charak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  <a:ea typeface="Tahoma"/>
              </a:rPr>
              <a:t>DLACZEGO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rostokąt 8"/>
          <p:cNvSpPr/>
          <p:nvPr/>
        </p:nvSpPr>
        <p:spPr>
          <a:xfrm>
            <a:off x="785880" y="4786200"/>
            <a:ext cx="7286400" cy="571680"/>
          </a:xfrm>
          <a:prstGeom prst="rect">
            <a:avLst/>
          </a:prstGeom>
          <a:solidFill>
            <a:srgbClr val="984807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  <a:ea typeface="Tahoma"/>
              </a:rPr>
              <a:t>Stąd pojęcie: „SAMOOGRANICZAJĄCA SIĘ REWOLUCJA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7T11:32:01Z</dcterms:created>
  <dc:creator>Łukasz</dc:creator>
  <dc:description/>
  <dc:language>en-US</dc:language>
  <cp:lastModifiedBy>iwona</cp:lastModifiedBy>
  <dcterms:modified xsi:type="dcterms:W3CDTF">2013-08-15T19:56:25Z</dcterms:modified>
  <cp:revision>122</cp:revision>
  <dc:subject/>
  <dc:title>Slajd 1</dc:title>
</cp:coreProperties>
</file>