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3BB1-A757-40DE-BD68-916D442D89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C41-FBF3-4F79-9542-7BF4156A97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9BD-3D31-4A50-ACF1-619A927E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11C-92C2-43DA-A8DD-87AA16E1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C10-1912-4477-AB82-587A9390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60E-037A-4DDE-AD2B-D3092148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9B0-9A65-4EF3-BB8E-F8CB1AD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B58-00E4-445D-AAB0-58843520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A8C-A0EA-47B0-8E56-9B711AB8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560-C7B5-4FA7-A483-A79FEDB3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278-D671-4B25-AFB8-E2AD37C5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015-D1B3-4D96-A869-13DA2C6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F88-F0F9-4E4B-BB3D-3EF508F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FD4-5C1D-412C-A6D9-8EE5B26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6631-35E1-4B7B-88B4-F4B068724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stanie państwa polskieg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 Mieszka I do Bolesława Krzywouste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ezentacja do pracy przy stanowiskach internetowyc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pływ stosunków feudalnych na rządy Władysława Hermana i Bolesława Krzywoustego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pl.wikipedia.org/wiki/W%C5%82adys%C5%82aw_I_H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pl.wikipedia.org/wiki/Boles%C5%82aw_III_Krzywoust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e powstania państ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za Polski – koncepc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państwo powstało w drodze rozwoju od systemu rodowego, poprzez plemię, państwo plemienne do państwa ponadplemienneg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azdu zewnętr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 plemiona słowiańskie najechali Normanowie (lub znormanizowani Słowianie – Lechici)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boju wewnętr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jsilniejsze z państw plemiennych podbiło pozostałe; koncepcja ta różni się od ewolucyjnej tylko ostatnim etap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http://forum.historia.org.pl/topic/117-dwie-teorie-czyli-geneza-powstania-panstwa-polskiego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ganizacja państ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2. Organizacja państw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ystem grodowy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wokół grodu system osad służebnych, płacących daniny w formie wyspecjalizowanych produktów (skóry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trzały, hełmy itp.) – dowody do dziś w nazwach miejscowości (Grotniki, Szczytniki, Garbary it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awo książęce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system monopoli i prac przymusowych, daniny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rużyn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zawodowa siła zbrojn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dzielona między grody, w razie wojny wspierana pospolitym ruszeni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Kościół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struktura religijna, ale i administrac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http://pl.wikipedia.org/wiki/Prawo_Polski_protofeudal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oncepcje poli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3. Koncepcje polityczne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Mieszko I – państwo chrześcijańsk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olesław Chrobry – monarchia słowiańs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olesław Szczodry – monarchia suweren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www.historia.azv.pl/monarchia-boleslawa-chrobrego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michaelstanislaus.salon24.pl/43743,tragedia-piastow-boleslaw-szczodry-biskup-ze-szczepan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alehistoria.blox.pl/2012/01/935-LAT-TEMU-BOLESLAW-SZCZODRY-KORONOWAL-SIE-NA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oncepcja zjednoczonej monarchii chrześcijański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Polska_960_-_992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65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508720" y="1844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pl.wikipedia.org/wiki/Plik:Polska_960_-_99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ia słowiań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Polska_992_-_1025"/>
          <p:cNvPicPr/>
          <p:nvPr/>
        </p:nvPicPr>
        <p:blipFill>
          <a:blip r:embed="rId1"/>
          <a:stretch/>
        </p:blipFill>
        <p:spPr>
          <a:xfrm>
            <a:off x="324000" y="1257480"/>
            <a:ext cx="4679640" cy="4619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6084720" y="2133720"/>
            <a:ext cx="1366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rolowie.info/boleslaw-chrobry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ział kraju – skutki wczesnego feudalizmu – Zbigniew i Bolesław III Krzywou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Plik:Polska 1102 - 1138.png"/>
          <p:cNvPicPr/>
          <p:nvPr/>
        </p:nvPicPr>
        <p:blipFill>
          <a:blip r:embed="rId1"/>
          <a:stretch/>
        </p:blipFill>
        <p:spPr>
          <a:xfrm>
            <a:off x="4284720" y="1773360"/>
            <a:ext cx="4056120" cy="385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lik:Mapa podziału Księstwa Polskiego w 1102.jpg"/>
          <p:cNvPicPr/>
          <p:nvPr/>
        </p:nvPicPr>
        <p:blipFill>
          <a:blip r:embed="rId2"/>
          <a:stretch/>
        </p:blipFill>
        <p:spPr>
          <a:xfrm>
            <a:off x="395280" y="1773360"/>
            <a:ext cx="3794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dział państwa w 113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Plik:Ustawa sukcesyjna Bolesława Krzywoustego.jpg"/>
          <p:cNvPicPr/>
          <p:nvPr/>
        </p:nvPicPr>
        <p:blipFill>
          <a:blip r:embed="rId1"/>
          <a:stretch/>
        </p:blipFill>
        <p:spPr>
          <a:xfrm>
            <a:off x="611280" y="1700280"/>
            <a:ext cx="4897440" cy="410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6156360" y="1628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zielnica senioralna - czerwo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nno Polski pod kontrolą princepsa - żół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a Władysława II - fio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a Bolesława IV – ciemna ziele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e Mieszka III - oliw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e Henryka – jasna ziele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awa wdowia Salomei - róż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zys monarch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34-10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yskusja nadal trw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www.historycy.org/index.php?showtopic=471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. Barański, Dynastia Piastów w Polsce. Warszawa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3T20:06:19Z</dcterms:modified>
  <cp:revision>10</cp:revision>
  <dc:subject/>
  <dc:title>Slajd 1</dc:title>
</cp:coreProperties>
</file>