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58B4-05B7-472F-B5C2-3A59576875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C5D5-B4D8-47A9-942C-EB48E1D0A7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AA0-32E4-4BF6-8367-B3EEE79BC5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474-96F6-4943-BF18-0CBB81A96E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A46-C051-460B-8D00-77CEC3F9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3D1-35A9-45D7-982F-2CA828DC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DFE-00FA-42F1-9A0F-F35E7C8D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32A-3E76-4B81-9E16-873D0B0C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9461-13FE-4BBF-8287-486D3FC7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669-740E-44A8-831E-5F3517CC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4EEB-9015-4D33-B2CD-8FF1FCAC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1C4-E669-42F8-901B-5F65A049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C9E-6059-4B9C-9DB9-0B36A8EC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F25-CF89-4B68-9646-D400464F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B5DB-2098-43D3-AFFE-FC4A2294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75F-19BC-46D9-BADC-13C34BEC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967-82BA-46C9-9709-BE22999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FD3-4E3E-439B-9E9E-824BA32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9534-4E91-4910-B894-84820DF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2AF5-7ED7-469F-943E-0ED4DAD8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72D6-F280-4924-80C1-F8F5B458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255-3127-4881-874D-7136156D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8C0-58C0-4FD7-9C1C-6005450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61B-E574-43DC-A750-4F4DE9CF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374-C64F-4EE8-B6BD-3BBC6D41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67F-6E0E-471F-A11E-3B08C93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315-FBA9-49FA-B675-817C10E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673-A6C8-424D-A87D-A6738678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DA6-60CE-4043-A2C0-6365F948ADC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0C7-DC41-4CDC-B72A-3A6CB196C69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połeczeństwo polskie w dobie przebudowy – obraz Polski po 1989 ro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Radosław Marzę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Transformacja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15"/>
          <p:cNvSpPr/>
          <p:nvPr/>
        </p:nvSpPr>
        <p:spPr>
          <a:xfrm>
            <a:off x="500040" y="150012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Tahoma"/>
                <a:ea typeface="Tahoma"/>
              </a:rPr>
              <a:t>Kapitał społe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7"/>
          <p:cNvSpPr/>
          <p:nvPr/>
        </p:nvSpPr>
        <p:spPr>
          <a:xfrm>
            <a:off x="538920" y="2214720"/>
            <a:ext cx="19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ZAUF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8"/>
          <p:cNvSpPr/>
          <p:nvPr/>
        </p:nvSpPr>
        <p:spPr>
          <a:xfrm>
            <a:off x="631440" y="2786040"/>
            <a:ext cx="537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GOTOWOŚĆ DO WSPÓŁ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9"/>
          <p:cNvSpPr/>
          <p:nvPr/>
        </p:nvSpPr>
        <p:spPr>
          <a:xfrm>
            <a:off x="654120" y="3357720"/>
            <a:ext cx="61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OBYWATELSKIE ZAANGAŻOW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1"/>
          <p:cNvSpPr/>
          <p:nvPr/>
        </p:nvSpPr>
        <p:spPr>
          <a:xfrm>
            <a:off x="857160" y="4214880"/>
            <a:ext cx="735804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Tahoma"/>
              </a:rPr>
              <a:t>DEMOKRACJA JAKO WSPÓLNE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pozornie wydaje się inaczej, to nasz pojedynczy głos w wyborach lub jednostkowa aktywność społeczna czy polityczna ma niebagatelne znaczenie: jest wyrazem współodpowiedzialności za wspólną demokracj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ną barierą jest jednak brak poczucia wpływu na bieg spra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Ile się zmienił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grafik.rp.pl/grafika2/1014972,9.jpg"/>
          <p:cNvPicPr/>
          <p:nvPr/>
        </p:nvPicPr>
        <p:blipFill>
          <a:blip r:embed="rId1"/>
          <a:stretch/>
        </p:blipFill>
        <p:spPr>
          <a:xfrm>
            <a:off x="714240" y="1643040"/>
            <a:ext cx="7610760" cy="40719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5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3"/>
          <p:cNvSpPr/>
          <p:nvPr/>
        </p:nvSpPr>
        <p:spPr>
          <a:xfrm>
            <a:off x="500040" y="1643040"/>
            <a:ext cx="82152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rpiński J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rzecia niepodległość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arszawa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utnam R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w działaniu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19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oszkowski W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ajnowsza historia Polski: 1980-2006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ydawnictwo Świat Książki, Warszawa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hmitter Ph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– zagrożenia i problem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[w:] Śpiewak P. [red.]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szłość demokracj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tompka P., </a:t>
            </a:r>
            <a:r>
              <a:rPr b="0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ufanie. Fundament społeczeństw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285840" y="16430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m jest dla nas woln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miany gospodarcze po 1989 roku – plan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fekty planu Balcerowi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ie społeczeństwo wczoraj i dziś – bogatsi czy biedniejs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lska gospodarka rynk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e skutki transform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1"/>
          <p:cNvSpPr/>
          <p:nvPr/>
        </p:nvSpPr>
        <p:spPr>
          <a:xfrm>
            <a:off x="285840" y="5716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Nie o taką Polskę walczyliśm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grafik.rp.pl/grafika2/1018455,9.jpg"/>
          <p:cNvPicPr/>
          <p:nvPr/>
        </p:nvPicPr>
        <p:blipFill>
          <a:blip r:embed="rId1"/>
          <a:stretch/>
        </p:blipFill>
        <p:spPr>
          <a:xfrm>
            <a:off x="1143000" y="1500120"/>
            <a:ext cx="6723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7"/>
          <p:cNvSpPr/>
          <p:nvPr/>
        </p:nvSpPr>
        <p:spPr>
          <a:xfrm>
            <a:off x="7185240" y="6072120"/>
            <a:ext cx="174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Andrzej Krauze,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28584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kiet reform gospodarczo-ustrojowych, którego realizacja zaczęła się w 1990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5"/>
          <p:cNvSpPr/>
          <p:nvPr/>
        </p:nvSpPr>
        <p:spPr>
          <a:xfrm>
            <a:off x="214200" y="2643120"/>
            <a:ext cx="4143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cześniej – zmiany w Konstytucji PR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„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zeczpospolita Polska jest demokratycznym państwem prawnym, urzeczywistniającym zasady sprawiedliwości społecznej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mi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pisów o socjalizmie i gospodarce planow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www.balcerowicz.pl/img/galerie/3/2010_11/39.jpg"/>
          <p:cNvPicPr/>
          <p:nvPr/>
        </p:nvPicPr>
        <p:blipFill>
          <a:blip r:embed="rId1"/>
          <a:stretch/>
        </p:blipFill>
        <p:spPr>
          <a:xfrm>
            <a:off x="3657600" y="1596960"/>
            <a:ext cx="5907240" cy="508968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7"/>
          <p:cNvSpPr/>
          <p:nvPr/>
        </p:nvSpPr>
        <p:spPr>
          <a:xfrm>
            <a:off x="7188840" y="607212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balcerowicz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3"/>
          <p:cNvSpPr/>
          <p:nvPr/>
        </p:nvSpPr>
        <p:spPr>
          <a:xfrm>
            <a:off x="357120" y="7142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285840" y="164304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: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ansformacja gospodarcz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od gospodarki centralnie sterowanej do rynkowe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ałoże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zywrócenie równowagi gospodarki, w tym ograniczenie hiperinfl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ywa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prowadzenie mechanizmów rynk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eforma systemu podatk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stabilizowanie kursu walutowego i wprowadzenie wymienialności złotego na inne walu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Wykres 7" descr=""/>
          <p:cNvPicPr/>
          <p:nvPr/>
        </p:nvPicPr>
        <p:blipFill>
          <a:blip r:embed="rId1"/>
          <a:stretch/>
        </p:blipFill>
        <p:spPr>
          <a:xfrm>
            <a:off x="208080" y="1352520"/>
            <a:ext cx="3582720" cy="251316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8" descr=""/>
          <p:cNvPicPr/>
          <p:nvPr/>
        </p:nvPicPr>
        <p:blipFill>
          <a:blip r:embed="rId2"/>
          <a:stretch/>
        </p:blipFill>
        <p:spPr>
          <a:xfrm>
            <a:off x="4280040" y="1706400"/>
            <a:ext cx="4400280" cy="3872160"/>
          </a:xfrm>
          <a:prstGeom prst="rect">
            <a:avLst/>
          </a:prstGeom>
          <a:ln w="0">
            <a:noFill/>
          </a:ln>
        </p:spPr>
      </p:pic>
      <p:pic>
        <p:nvPicPr>
          <p:cNvPr id="112" name="Wykres 9" descr=""/>
          <p:cNvPicPr/>
          <p:nvPr/>
        </p:nvPicPr>
        <p:blipFill>
          <a:blip r:embed="rId3"/>
          <a:stretch/>
        </p:blipFill>
        <p:spPr>
          <a:xfrm>
            <a:off x="208080" y="3925800"/>
            <a:ext cx="3582720" cy="229896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10"/>
          <p:cNvSpPr/>
          <p:nvPr/>
        </p:nvSpPr>
        <p:spPr>
          <a:xfrm>
            <a:off x="191880" y="6286680"/>
            <a:ext cx="126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ziennik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Balcerowicza - ef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7342200" y="621504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cbos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292960" cy="4786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10"/>
          <p:cNvSpPr/>
          <p:nvPr/>
        </p:nvSpPr>
        <p:spPr>
          <a:xfrm>
            <a:off x="176760" y="6215040"/>
            <a:ext cx="161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freetheworl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5742000" cy="428652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5"/>
          <p:cNvSpPr/>
          <p:nvPr/>
        </p:nvSpPr>
        <p:spPr>
          <a:xfrm>
            <a:off x="6208560" y="342900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6208560" y="3857760"/>
            <a:ext cx="285840" cy="285480"/>
          </a:xfrm>
          <a:prstGeom prst="rect">
            <a:avLst/>
          </a:prstGeom>
          <a:solidFill>
            <a:srgbClr val="9bbb5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rostokąt 8"/>
          <p:cNvSpPr/>
          <p:nvPr/>
        </p:nvSpPr>
        <p:spPr>
          <a:xfrm>
            <a:off x="6208560" y="4286160"/>
            <a:ext cx="28584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9"/>
          <p:cNvSpPr/>
          <p:nvPr/>
        </p:nvSpPr>
        <p:spPr>
          <a:xfrm>
            <a:off x="6208560" y="471492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1"/>
          <p:cNvSpPr/>
          <p:nvPr/>
        </p:nvSpPr>
        <p:spPr>
          <a:xfrm>
            <a:off x="6527160" y="335772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2"/>
          <p:cNvSpPr/>
          <p:nvPr/>
        </p:nvSpPr>
        <p:spPr>
          <a:xfrm>
            <a:off x="6527520" y="3786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wol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3"/>
          <p:cNvSpPr/>
          <p:nvPr/>
        </p:nvSpPr>
        <p:spPr>
          <a:xfrm>
            <a:off x="6503760" y="421488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zględnie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14"/>
          <p:cNvSpPr/>
          <p:nvPr/>
        </p:nvSpPr>
        <p:spPr>
          <a:xfrm>
            <a:off x="6510600" y="4643280"/>
            <a:ext cx="26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 większości bez wolnoś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15"/>
          <p:cNvSpPr/>
          <p:nvPr/>
        </p:nvSpPr>
        <p:spPr>
          <a:xfrm>
            <a:off x="928800" y="142884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Wolności Gospodarczej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Index of Economic Freedom, IE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6"/>
          <p:cNvSpPr/>
          <p:nvPr/>
        </p:nvSpPr>
        <p:spPr>
          <a:xfrm>
            <a:off x="357120" y="50004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lska a wolny rynek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0"/>
          <p:cNvSpPr/>
          <p:nvPr/>
        </p:nvSpPr>
        <p:spPr>
          <a:xfrm>
            <a:off x="245880" y="6429240"/>
            <a:ext cx="164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http://www.doingbusiness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5"/>
          <p:cNvSpPr/>
          <p:nvPr/>
        </p:nvSpPr>
        <p:spPr>
          <a:xfrm>
            <a:off x="3714840" y="142884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skaźnik Łatwości Prowadzenia Interesów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ase of Doing Business Index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7120" y="1214280"/>
          <a:ext cx="2712960" cy="5175360"/>
        </p:xfrm>
        <a:graphic>
          <a:graphicData uri="http://schemas.openxmlformats.org/drawingml/2006/table">
            <a:tbl>
              <a:tblPr/>
              <a:tblGrid>
                <a:gridCol w="1357560"/>
                <a:gridCol w="1355400"/>
              </a:tblGrid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ŃS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EJS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e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elka Bryt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wajc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and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łowa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ęg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sembur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0736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c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" marR="9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3" name="Prostokąt 17"/>
          <p:cNvSpPr/>
          <p:nvPr/>
        </p:nvSpPr>
        <p:spPr>
          <a:xfrm>
            <a:off x="3714840" y="25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raporcie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ing Bussines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gotowanym przez Bank Światowy na 2013 rok Polska zajęła 55. miejsce na 185 gospodarek świat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śród państw europejskich znalazła się jednak za Estonią, Słowenią, Słowacją czy Węgr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Łukasz</cp:lastModifiedBy>
  <dcterms:modified xsi:type="dcterms:W3CDTF">2013-03-15T12:07:31Z</dcterms:modified>
  <cp:revision>21</cp:revision>
  <dc:subject/>
  <dc:title>Slajd 1</dc:title>
</cp:coreProperties>
</file>