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9013-7ACD-416B-BE58-150DD28FFF8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37EC-E90F-4371-9831-52719010C75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D839-BB1A-4DB9-9A4A-47E907FE9A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385D-7C82-4B96-B172-7A03C6B4F2E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FB69-1451-4B47-A1D0-3C9D91FC0B3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E7E8-4512-46B5-8768-83283943831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E89A-6EFA-4862-8AC2-3560FDAF6C7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D1EE-3BD0-4ACB-BA09-B9C11D9959B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A6B4-1001-4B6D-9CC4-8BCF7A4E983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8232-13F5-4E81-AD9B-0EE74FAF31D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F256-D801-446F-A261-0DDDD67FD73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725B-E2BB-4CB2-BE89-0A9C99AEF54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B684-0C5D-4F14-8ED6-8266BA76D09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17AE-C38F-450A-AA3B-2AECC59E81B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C06F-D6D6-462B-B253-9659BA66A21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A03C-C402-4F1F-A6C7-4C2252A695B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8B4A-CA2E-4E8E-9AFF-814E915EBC8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892-E004-482B-8A7B-82802DC6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055-E78D-4137-A24B-B536ADA5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438-A0BA-4570-B4CC-7AF91235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F98-4213-403F-AE92-74DFCCCA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EE9D-7782-4FBB-A83D-6EBA6E3B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A115-912D-43D5-B659-AC2D7759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D7D3-A487-49A7-ACF5-1E420DA6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3C84-5D65-48F9-BDB4-D9121BBE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C8DE-A2DF-444C-BC23-8A6D4EA7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880C-FB95-41A3-952B-EB0C6DEB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5CC3-1908-4817-859F-B7EEEA2A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4284-DDAB-42E0-AE25-D4CD0A0B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F585-DC73-4AC1-999E-87972D08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E2BF-5059-458C-8D97-40E25283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1C62-C19A-4E2C-ADEC-BAFED792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AD23-4B85-4617-A56A-70B21CA1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4964-FD0B-4753-9EEA-BA7AB8A4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73E-07C0-499C-A947-E57E195C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971-BCCC-4591-B8BD-D9325580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53F-85E4-4940-9562-7A12A65F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A50-9621-442C-BE96-EF3DBCAC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9EB-97D4-4849-A1AA-3703882C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A621-FB17-4498-B558-D1E0CBBA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034-E1B3-4D4E-8566-6B2D13DC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67E7-3E63-4F55-B409-B22722F00D2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74D5-68B7-421E-ADAE-561B9352241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hyperlink" Target="http://www.pmk-wuppertal.de/kwartalnik_nasz_kosciol/kwartalnik25/swienta_swientych.htm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rchidiecezja.pl/include/article_img/olesnicki.jpg" TargetMode="External"/><Relationship Id="rId2" Type="http://schemas.openxmlformats.org/officeDocument/2006/relationships/hyperlink" Target="http://wiadomosci.wp.pl/kat,1342,title,Chcial-zabic-Gomulke-stracono-go-na-szubienicy,wid,14042997,wiadomosc.html?ticaid=110c53&amp;_ticrsn=5" TargetMode="External"/><Relationship Id="rId3" Type="http://schemas.openxmlformats.org/officeDocument/2006/relationships/hyperlink" Target="http://www.archidiecezja.pl/include/article_img/olesnicki.jpg" TargetMode="External"/><Relationship Id="rId4" Type="http://schemas.openxmlformats.org/officeDocument/2006/relationships/hyperlink" Target="https://upload.wikimedia.org/wikipedia/en/thumb/4/42/Wyszy&#324;ski.jpg/220px-Wyszy&#324;ski.jpg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epozytorium.fn.org.pl/?q=pl/node/4517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ustronauki.files.wordpress.com/2011/05/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pn.poczytaj.pl/116252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repozytorium.fn.org.pl/?q=pl/node/5576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p2w.pl/pl/33769/0/Biskup_Czeslaw_Kaczmarek_1895-1963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zb35PwkKgk" TargetMode="External"/><Relationship Id="rId2" Type="http://schemas.openxmlformats.org/officeDocument/2006/relationships/hyperlink" Target="http://www.youtube.com/watch?v=aVD-lgaLOs0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19280" y="1591920"/>
            <a:ext cx="5113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9. Polski Panteon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17.Kościół katolicki wobec komuniz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411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324000" y="4869000"/>
            <a:ext cx="287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mk-wuppertal.de/kwartalnik_nasz_kosciol/kwartalnik25/swienta_swientych.ht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9" descr="11"/>
          <p:cNvPicPr/>
          <p:nvPr/>
        </p:nvPicPr>
        <p:blipFill>
          <a:blip r:embed="rId3"/>
          <a:stretch/>
        </p:blipFill>
        <p:spPr>
          <a:xfrm>
            <a:off x="395280" y="1268280"/>
            <a:ext cx="2476440" cy="3038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Owieczki Wyszyńskiego kontra barany Gomułki, czyli Mille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(196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rostokąt 6"/>
          <p:cNvSpPr/>
          <p:nvPr/>
        </p:nvSpPr>
        <p:spPr>
          <a:xfrm>
            <a:off x="4859280" y="4076640"/>
            <a:ext cx="42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iadomosci.wp.pl/kat,1342,title,Chcial-zabic-Gomulke-stracono-go-na-szubienicy,wid,14042997,wiadomosc.html?ticaid=110c53&amp;_ticrsn=5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rostokąt 7"/>
          <p:cNvSpPr/>
          <p:nvPr/>
        </p:nvSpPr>
        <p:spPr>
          <a:xfrm>
            <a:off x="0" y="4292640"/>
            <a:ext cx="190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upload.wikimedia.org/wikipedia/en/thumb/4/42/Wyszy%C5%84ski.jpg/220px-Wyszy%C5%84ski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ostęp 21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" descr="220px-Wyszy%C5%84ski"/>
          <p:cNvPicPr/>
          <p:nvPr/>
        </p:nvPicPr>
        <p:blipFill>
          <a:blip r:embed="rId5"/>
          <a:stretch/>
        </p:blipFill>
        <p:spPr>
          <a:xfrm>
            <a:off x="179280" y="1557360"/>
            <a:ext cx="2095560" cy="2705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pap_gomulka_600"/>
          <p:cNvPicPr/>
          <p:nvPr/>
        </p:nvPicPr>
        <p:blipFill>
          <a:blip r:embed="rId6"/>
          <a:stretch/>
        </p:blipFill>
        <p:spPr>
          <a:xfrm>
            <a:off x="4859280" y="1484280"/>
            <a:ext cx="3721320" cy="2481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6"/>
          <p:cNvSpPr/>
          <p:nvPr/>
        </p:nvSpPr>
        <p:spPr>
          <a:xfrm>
            <a:off x="2340000" y="2421000"/>
            <a:ext cx="2376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óba zawłaszczenia rocznicy chrztu (jako 1000-lecie państwa polskieg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wrót do polityki ateizacji kra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Koniec części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Zapraszam na część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19280" y="1591920"/>
            <a:ext cx="5113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9. Polski Panteon 17.Kościół katolicki wobec komunizmu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.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zęść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dtytuł 2"/>
          <p:cNvSpPr/>
          <p:nvPr/>
        </p:nvSpPr>
        <p:spPr>
          <a:xfrm>
            <a:off x="2411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rostokąt 3"/>
          <p:cNvSpPr/>
          <p:nvPr/>
        </p:nvSpPr>
        <p:spPr>
          <a:xfrm>
            <a:off x="324000" y="551664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http://www.niedziela.pl/artykul/77068/nd/Ojciec-Swiety-Jan-Pawel-II-o-Stefanie 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7" descr="n200524_010"/>
          <p:cNvPicPr/>
          <p:nvPr/>
        </p:nvPicPr>
        <p:blipFill>
          <a:blip r:embed="rId2"/>
          <a:stretch/>
        </p:blipFill>
        <p:spPr>
          <a:xfrm>
            <a:off x="324000" y="2043000"/>
            <a:ext cx="2952720" cy="2916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324000" y="501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ot. Archiwum Instytutu Prymasowskiego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3964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Nieznaczna normalizacja w I połowie lat 70-t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916280"/>
            <a:ext cx="540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mowy ze Stolicą Apostolsk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gody na budowy kościołów (m.in. w Nowej Hucie, która miała być miastem bez kościołów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10" descr="Plik:KościółMatkiBożejKrólowejPolski(Arka)-UlicaObrońcówKrzyża-POL, Kraków.jpg"/>
          <p:cNvPicPr/>
          <p:nvPr/>
        </p:nvPicPr>
        <p:blipFill>
          <a:blip r:embed="rId1"/>
          <a:stretch/>
        </p:blipFill>
        <p:spPr>
          <a:xfrm>
            <a:off x="5651640" y="1700280"/>
            <a:ext cx="3090600" cy="23176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6804000" y="4057920"/>
            <a:ext cx="1979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pl.wikipedia.org/wiki/Plik:Ko%C5%9Bci%C3%B3%C5%82MatkiBo%C5%BCejKr%C3%B3lowejPolski(Arka)-UlicaObro%C5%84c%C3%B3wKrzy%C5%BCa-POL,_Krak%C3%B3w.jpg, dostęp 29/05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33200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Jan Paweł II (1978 - 200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50920" y="292428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rwsza pielgrzymka do Ojczyzny – 1979 – spotkania z wiernymi uważane są za początek końca komunizmu. Polscy katolicy zobaczyli, że są liczni, zorganizowani i siln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ruga (1983) – obudziła załamanego stanem wojennym ducha opozy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lgrzymek do Polski błogosławiony papież odbył jeszcze sześ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79280" y="522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 ze streszczeniem pielgrzyme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7xXt03ODl0E, dostęp 20.05.201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1" descr="Plik:JohannesPaul2-portrait.jpg"/>
          <p:cNvPicPr/>
          <p:nvPr/>
        </p:nvPicPr>
        <p:blipFill>
          <a:blip r:embed="rId1"/>
          <a:stretch/>
        </p:blipFill>
        <p:spPr>
          <a:xfrm>
            <a:off x="250920" y="404640"/>
            <a:ext cx="1800000" cy="22003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2"/>
          <p:cNvSpPr/>
          <p:nvPr/>
        </p:nvSpPr>
        <p:spPr>
          <a:xfrm>
            <a:off x="2124000" y="166608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pl.wikipedia.org/wiki/Plik:JohannesPaul2-portrait.jpg, dostęp 20.05.20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6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Zaangażowanie Kościoła po stronie „Solidarności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Ks. Jerzy Popiełuszko, kapelan „Solidarności” i jego męczeńska śmier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Prymasowski Komitet Pomocy Osobom Pozbawionym Wolności i Ich Rodzinom  był niezastąpionym wsparciem dla opozycji w czasach stanu wojenne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Ostrożna polityka prymasa Józefa Glempa i zaangażowanie w pośredniczeniu między władzą a opozycją w krytycznych latach 1988-8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odtytuł 3"/>
          <p:cNvSpPr/>
          <p:nvPr/>
        </p:nvSpPr>
        <p:spPr>
          <a:xfrm>
            <a:off x="250920" y="33336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Ostatnia runda – 1980-19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50920" y="56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 (długi): http://www.youtube.com/watch?v=hbjvOj0Yyxw, dostęp 20.05.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Bolesław Bierut (oficjalnie bezpartyjny prezydent) demonstracyjnie brał udział we Mszach Św. Celem było przekonanie prostych ludzi o patriotyczno-religijnym charakterze nowych władz. Jednocześnie odwołano konkordat ze Stolicą Apostolsk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6337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emonstracyjna pobożność partyjnych przywódc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84360" y="24998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epozytorium.fn.org.pl/?q=pl/node/4517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organizacje_mlodziezowe_1947-49_400_267"/>
          <p:cNvPicPr/>
          <p:nvPr/>
        </p:nvPicPr>
        <p:blipFill>
          <a:blip r:embed="rId2"/>
          <a:stretch/>
        </p:blipFill>
        <p:spPr>
          <a:xfrm>
            <a:off x="1187280" y="3213000"/>
            <a:ext cx="3810240" cy="2543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5580000" y="357336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olesław Bierut uczestniczy we Mszy św. we Wrześ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850920" y="3933720"/>
            <a:ext cx="2050920" cy="50328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rostokąt 5"/>
          <p:cNvSpPr/>
          <p:nvPr/>
        </p:nvSpPr>
        <p:spPr>
          <a:xfrm>
            <a:off x="179280" y="5589720"/>
            <a:ext cx="2016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ustronauki.files.wordpress.com/2011/05/5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Dostęp 19.05.201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7" descr="5"/>
          <p:cNvPicPr/>
          <p:nvPr/>
        </p:nvPicPr>
        <p:blipFill>
          <a:blip r:embed="rId2"/>
          <a:stretch/>
        </p:blipFill>
        <p:spPr>
          <a:xfrm>
            <a:off x="179280" y="1197000"/>
            <a:ext cx="7201080" cy="4386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7524720" y="1484280"/>
            <a:ext cx="1368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 maja 1946 – pacyfikacja pochodu krakowskich studentów, wychodzących ze Mszy św. w Kościele Mariackim. Oficjalnie nie była to jeszcze walka z Kościołem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68360" y="404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taki nieoficjal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468360" y="40464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taki nieoficjalne c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39640" y="1052640"/>
            <a:ext cx="70567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 ataków (zwłaszcza prasowych) na Kościół wykorzystano sprawę pogromu kieleckiego z 4 lipca 1946 rok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mimo odczytywanego w Kościołach listu pasterskiego, posłuszna władzy prasa twierdziła, że ciągle nie ma oświadczenia Kościoła, potępiającego pogr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ledztwo w sprawie prowadzone było tak, by udowodnić, że mordowali „Polacy – katolicy, Andersowcy i zwolennicy PSL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rostokąt 3"/>
          <p:cNvSpPr/>
          <p:nvPr/>
        </p:nvSpPr>
        <p:spPr>
          <a:xfrm>
            <a:off x="324000" y="48690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pn.poczytaj.pl/116252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9640" y="476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zw. księża – patrioci (1949 -19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9" descr="Ruch Księży patriotów w województwie katowickim w latach 1949-1956"/>
          <p:cNvPicPr/>
          <p:nvPr/>
        </p:nvPicPr>
        <p:blipFill>
          <a:blip r:embed="rId2"/>
          <a:stretch/>
        </p:blipFill>
        <p:spPr>
          <a:xfrm>
            <a:off x="3348000" y="1197000"/>
            <a:ext cx="2857680" cy="4143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539640" y="1413000"/>
            <a:ext cx="23036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mysł z 1949 wyszedł od rosyjskiego gen. Iwana Sierow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sięża ci działali przy oficjalnej organizacji kombatanckiej (ZBOWiD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900000" y="558900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repozytorium.fn.org.pl/?q=pl/node/5576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1.06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6588000" y="1268280"/>
            <a:ext cx="2305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ama nazwa sugerowała, że patriotami są tylko ci księża, którzy współpracują z władz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Porozumienie z 195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360" y="1268280"/>
            <a:ext cx="69832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ładze gwarantowały nauczanie religii w szkołach (usunięto w praktyce kilka lat później, przywrócono i znów i w 1961 r. zlikwidowano do 199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ściół potępiał działalność antypaństwow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ściół uznawał zmiany terytorium państw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Sprawa biskupa Czesława Kaczma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rostokąt 5"/>
          <p:cNvSpPr/>
          <p:nvPr/>
        </p:nvSpPr>
        <p:spPr>
          <a:xfrm>
            <a:off x="324000" y="4221000"/>
            <a:ext cx="201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jp2w.pl/pl/33769/0/Biskup_Czeslaw_Kaczmarek_1895-1963.htm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8" descr="przesladowanie_kosciola_bp_stanislaw_kaczmarek"/>
          <p:cNvPicPr/>
          <p:nvPr/>
        </p:nvPicPr>
        <p:blipFill>
          <a:blip r:embed="rId2"/>
          <a:stretch/>
        </p:blipFill>
        <p:spPr>
          <a:xfrm>
            <a:off x="324000" y="1413000"/>
            <a:ext cx="2027160" cy="280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2987640" y="1484280"/>
            <a:ext cx="54007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esztowany 21 stycznia 195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ezwzględnie torturowany w śledztw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kazany pod zarzutem szpiegostwa w pokazowym procesie (153) na 12 lat więzien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wolniony w 1957 roku, nadal prześladowany przez władze (żądano jego zwolnienia ze stanowisk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iedy nie udało się złamać biskupa sięgnięto po oszczerstwa, publikowane przez działacza ruchu księży-patriot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Uwięziony Pry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1953-19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11"/>
          <p:cNvPicPr/>
          <p:nvPr/>
        </p:nvPicPr>
        <p:blipFill>
          <a:blip r:embed="rId1"/>
          <a:stretch/>
        </p:blipFill>
        <p:spPr>
          <a:xfrm>
            <a:off x="250920" y="1197000"/>
            <a:ext cx="3462120" cy="424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4859280" y="1413000"/>
            <a:ext cx="39592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esztowanie przywódcy polskiego Kościoł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esztowania wielu księży, próba zastraszania pozostał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 dziennika księdza kardynała (1954): „Ostatnia modlitwa - za naszych dozorców, zwłaszcza za tych, co teraz siedzą na korytarzach, i za żołnierzy, stojących wokół w śniegu, wśród lasu, na posterunkach. Wiemy, że tym ludziom musi być najboleśniej, najciężej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rędzie biskupów polskich do biskupów niemieckich- 19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11280" y="177336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[…] Prosimy Was, katoliccy Pasterze Narodu niemieckiego, abyście na własny sposób obchodzili z nami nasze chrześcijańskie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Milleniu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tym jak najbardziej chrześcijańskim, ale i bardzo ludzkim duchu, wyciągamy do Was, siedzących tu, na ławach kończącego się Soboru, nasze ręce oraz udzielamy wybaczenia i prosimy o nie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50920" y="450792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Kzb35PwkKgk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23.05.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11280" y="5445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isteryczna reakcja PZPR – „nie prosimy i nie wybaczamy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324000" y="494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 2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aVD-lgaLOs0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23.05. 201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27T17:35:05Z</dcterms:modified>
  <cp:revision>37</cp:revision>
  <dc:subject/>
  <dc:title>Slajd 1</dc:title>
</cp:coreProperties>
</file>