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C4C-DFA8-4A3A-B2C0-98650DD291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1B47-3654-4D11-9B83-8FCAF80451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14C-51DD-4398-BBFC-D49E1255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C95-EDC5-46F9-9983-A8EF9BB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CB1-C09A-4FF7-9F8F-B415D5CD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56B-62E8-463D-94C5-6D2A1432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739-D232-4712-84F4-9DE0596B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3DA-7965-4A95-AA36-7CFE91CA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6F4-B8DE-4CF4-9A8A-C39528D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E5E-36D3-4A25-A06B-52105046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BA1-E5B1-4B7C-BBF8-B82C6DA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8C4-C3F7-4BAA-B5ED-BF9C6C6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156-D87C-41CE-AC55-1B895CD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958-9A2C-4604-91F6-52F1311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52D-6A99-421E-B735-D336EA836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zajęć opartych na internetowym dysku wirtualny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eneza Polski – zadania dla grup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najdź w Internecie, używając wyszukiwarki  informacje na temat koncepcji powstania państwa polskiego. Przedyskutuj znalezione dane i przygotuj krótki (do 10 zdań) referat na ten temat. Umieść go na swoim koncie Google Drive (Dysk Google) i udostępnij go dla wszystkich uczestników lek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1 – teoria ewoluc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2 – teoria najazdu zewnętr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upy z nr 3 – teoria podboju wewnętr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Wyszukaj w Wikipedii hasło „prawo książęce”, rozwiń wszystkie związane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nim linki zapoznając się </a:t>
            </a:r>
            <a:br>
              <a:rPr sz="3600"/>
            </a:b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z umieszczonym tam materiał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Calibri"/>
              </a:rPr>
              <a:t>Przygotuj samodzielnie krótką definicję prawa książęcego. Możesz przedyskutować ją z innymi przy użyciu Google Dr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nij poniższy link. Obejrzyj uważnie zamieszczoną na stronie dyskusję. Zwróć uwagę na opini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kadiusza Bednarczyk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 zajęciach sięgnij do książk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archia słowiańska -obsz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754280"/>
            <a:ext cx="4176720" cy="4122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4960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łowiańska monarchia w ramach 4 części chrześcijaństwa, według koncepcji Otton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wróć uwagę na równorzędność (ta sama wielkość postaci) 4 części chrześcijaństwa i hierarchię honorową – o kolejności decyduje data przyjęcia chrześcijaństwa (od prawej – Italia, Francja, Germania i Słowiańszczyz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6408720" cy="3548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 flipV="1">
            <a:off x="684360" y="3428640"/>
            <a:ext cx="574560" cy="647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7020000" y="177336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arturgabrysiak.tumblr.com/page/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Bolesław Szczodry – monarchia suweren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ól, przedstawiany w ikonografii do XIX w. wyłącznie jako „zabójca świętego”, był postacią wyjątkowo mocno akcentującą suwerenność monarchy. Prawdopodobnie nie panował nad swoim gniewem. Połączenie tych dwóch cech kosztowało go utratę wład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00520" cy="3810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56360" y="11253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ródło: http://blogmedia24.pl/node/57269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4T00:28:05Z</dcterms:modified>
  <cp:revision>13</cp:revision>
  <dc:subject/>
  <dc:title>Slajd 1</dc:title>
</cp:coreProperties>
</file>