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3F04-89E7-454A-BBB7-56E9029F026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0A24-676C-49C6-86D2-9B1CFB5FD6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5EA-B482-4082-96AE-6FFB3A6675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4AF-581D-4D3B-9DB4-76BF24A5CF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5DB-DEBF-41BF-8355-67290A3A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CE9-80E4-40EE-82BC-8DFD1C84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AF6-C2B0-4021-A82B-86153F7B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417-C78D-47B3-8132-291F5E9A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E04-2FAC-444B-8CDD-C068611C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E4F4-2464-4C74-9A10-3303038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A7FD-37F9-4EB3-923F-81FA9D6B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8F3C-AA73-4E5C-9A72-E79CB80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3673-10B5-457F-9BDF-16DD9C36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6D4-4034-45F3-A71B-6D84BE40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7D4F-8BA6-425D-B4F0-1ADEF5D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8C5-5010-4FAA-BF2C-FFE0A86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EABD-4447-4317-9340-A2AE510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B93F-F88B-4923-AC1A-6808540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866D-A1DA-400B-B366-CEA1A0FE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D884-227C-4711-ADAB-641CABB0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E64D-C09D-4355-B5C3-B4850090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2F8-0F4C-4F69-8393-7173256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66C-F1AB-4932-90D0-B446A312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E48-27D5-4724-97A6-9FAEE45B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74D-640D-4AAE-B439-6D35C79F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949-D399-460B-B7F7-71A2453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37E-4623-440D-8E36-0A1EAFB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90B-A018-49FD-9315-8FF1211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11D-B3A7-4F26-B858-43A76501092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F273-BF66-4F91-B376-83B73D196F7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w dobie przebudowy – obraz Polski po 1989 rok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adosław Marzę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Transformacja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15"/>
          <p:cNvSpPr/>
          <p:nvPr/>
        </p:nvSpPr>
        <p:spPr>
          <a:xfrm>
            <a:off x="500040" y="150012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Tahoma"/>
                <a:ea typeface="Tahoma"/>
              </a:rPr>
              <a:t>Kapitał społe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7"/>
          <p:cNvSpPr/>
          <p:nvPr/>
        </p:nvSpPr>
        <p:spPr>
          <a:xfrm>
            <a:off x="538920" y="221472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ZAUF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8"/>
          <p:cNvSpPr/>
          <p:nvPr/>
        </p:nvSpPr>
        <p:spPr>
          <a:xfrm>
            <a:off x="631440" y="2786040"/>
            <a:ext cx="53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GOTOWOŚĆ DO WSPÓŁ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9"/>
          <p:cNvSpPr/>
          <p:nvPr/>
        </p:nvSpPr>
        <p:spPr>
          <a:xfrm>
            <a:off x="654120" y="3357720"/>
            <a:ext cx="61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OBYWATELSKIE ZAANGAŻOW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1"/>
          <p:cNvSpPr/>
          <p:nvPr/>
        </p:nvSpPr>
        <p:spPr>
          <a:xfrm>
            <a:off x="857160" y="4214880"/>
            <a:ext cx="73580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DEMOKRACJA JAKO WSPÓLNE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pozornie wydaje się inaczej, to nasz pojedynczy głos w wyborach lub jednostkowa aktywność społeczna czy polityczna ma niebagatelne znaczenie: jest wyrazem współodpowiedzialności za wspólną demokracj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ną barierą jest jednak brak poczucia wpływu na bieg spra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5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Ile się zmienił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grafik.rp.pl/grafika2/1014972,9.jpg"/>
          <p:cNvPicPr/>
          <p:nvPr/>
        </p:nvPicPr>
        <p:blipFill>
          <a:blip r:embed="rId1"/>
          <a:stretch/>
        </p:blipFill>
        <p:spPr>
          <a:xfrm>
            <a:off x="714240" y="1643040"/>
            <a:ext cx="7610760" cy="40719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7185240" y="6072120"/>
            <a:ext cx="174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Andrzej Krauze,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5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3"/>
          <p:cNvSpPr/>
          <p:nvPr/>
        </p:nvSpPr>
        <p:spPr>
          <a:xfrm>
            <a:off x="500040" y="1643040"/>
            <a:ext cx="82152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rpiński J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rzecia niepodległość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arszawa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utnam R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w działaniu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raków 19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oszkowski W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ajnowsza historia Polski: 1980-2006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Wydawnictwo Świat Książki, Warszawa 200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chmitter Ph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– zagrożenia i problem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[w:] Śpiewak P. [red.]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szłość demokracj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tompka P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ufanie. Fundament społeczeństw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balcerowic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cbos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doingbusiness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dziennik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freetheworld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rp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1"/>
          <p:cNvSpPr/>
          <p:nvPr/>
        </p:nvSpPr>
        <p:spPr>
          <a:xfrm>
            <a:off x="28584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285840" y="16430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m jest dla nas woln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miany gospodarcze po 1989 roku – plan Balcerowi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Efekty planu Balcerowi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lskie społeczeństwo wczoraj i dziś – bogatsi czy biedniejs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lska gospodarka rynk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połeczne skutki transform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1"/>
          <p:cNvSpPr/>
          <p:nvPr/>
        </p:nvSpPr>
        <p:spPr>
          <a:xfrm>
            <a:off x="28584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Nie o taką Polskę walczyliśm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grafik.rp.pl/grafika2/1018455,9.jpg"/>
          <p:cNvPicPr/>
          <p:nvPr/>
        </p:nvPicPr>
        <p:blipFill>
          <a:blip r:embed="rId1"/>
          <a:stretch/>
        </p:blipFill>
        <p:spPr>
          <a:xfrm>
            <a:off x="1143000" y="1500120"/>
            <a:ext cx="6723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7"/>
          <p:cNvSpPr/>
          <p:nvPr/>
        </p:nvSpPr>
        <p:spPr>
          <a:xfrm>
            <a:off x="7185240" y="6072120"/>
            <a:ext cx="174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Andrzej Krauze,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ole tekstowe 3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4"/>
          <p:cNvSpPr/>
          <p:nvPr/>
        </p:nvSpPr>
        <p:spPr>
          <a:xfrm>
            <a:off x="285840" y="1643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kiet reform gospodarczo-ustrojowych, którego realizacja zaczęła się w 1990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5"/>
          <p:cNvSpPr/>
          <p:nvPr/>
        </p:nvSpPr>
        <p:spPr>
          <a:xfrm>
            <a:off x="214200" y="2643120"/>
            <a:ext cx="4143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cześniej – zmiany w Konstytucji PR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„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zeczpospolita Polska jest demokratycznym państwem prawnym, urzeczywistniającym zasady sprawiedliwości społecznej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ami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apisów o socjalizmie i gospodarce plan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www.balcerowicz.pl/img/galerie/3/2010_11/39.jpg"/>
          <p:cNvPicPr/>
          <p:nvPr/>
        </p:nvPicPr>
        <p:blipFill>
          <a:blip r:embed="rId1"/>
          <a:stretch/>
        </p:blipFill>
        <p:spPr>
          <a:xfrm>
            <a:off x="3657600" y="1596960"/>
            <a:ext cx="5907240" cy="508968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7"/>
          <p:cNvSpPr/>
          <p:nvPr/>
        </p:nvSpPr>
        <p:spPr>
          <a:xfrm>
            <a:off x="7188840" y="607212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balcerowicz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3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285840" y="164304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ransformacja gospodarcz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od gospodarki centralnie sterowanej do rynkowe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ałoże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zywrócenie równowagi gospodarki, w tym ograniczenie hiperinfl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ywa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prowadzenie mechanizmów rynk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eforma systemu podatk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stabilizowanie kursu walutowego i wprowadzenie wymienialności złotego na inne walu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 - ef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Wykres 7" descr=""/>
          <p:cNvPicPr/>
          <p:nvPr/>
        </p:nvPicPr>
        <p:blipFill>
          <a:blip r:embed="rId1"/>
          <a:stretch/>
        </p:blipFill>
        <p:spPr>
          <a:xfrm>
            <a:off x="208080" y="1352520"/>
            <a:ext cx="3582720" cy="2513160"/>
          </a:xfrm>
          <a:prstGeom prst="rect">
            <a:avLst/>
          </a:prstGeom>
          <a:ln w="0">
            <a:noFill/>
          </a:ln>
        </p:spPr>
      </p:pic>
      <p:pic>
        <p:nvPicPr>
          <p:cNvPr id="111" name="Wykres 8" descr=""/>
          <p:cNvPicPr/>
          <p:nvPr/>
        </p:nvPicPr>
        <p:blipFill>
          <a:blip r:embed="rId2"/>
          <a:stretch/>
        </p:blipFill>
        <p:spPr>
          <a:xfrm>
            <a:off x="4280040" y="1706400"/>
            <a:ext cx="4400280" cy="3872160"/>
          </a:xfrm>
          <a:prstGeom prst="rect">
            <a:avLst/>
          </a:prstGeom>
          <a:ln w="0">
            <a:noFill/>
          </a:ln>
        </p:spPr>
      </p:pic>
      <p:pic>
        <p:nvPicPr>
          <p:cNvPr id="112" name="Wykres 9" descr=""/>
          <p:cNvPicPr/>
          <p:nvPr/>
        </p:nvPicPr>
        <p:blipFill>
          <a:blip r:embed="rId3"/>
          <a:stretch/>
        </p:blipFill>
        <p:spPr>
          <a:xfrm>
            <a:off x="208080" y="3925800"/>
            <a:ext cx="3582720" cy="2298960"/>
          </a:xfrm>
          <a:prstGeom prst="rect">
            <a:avLst/>
          </a:prstGeom>
          <a:ln w="0">
            <a:noFill/>
          </a:ln>
        </p:spPr>
      </p:pic>
      <p:sp>
        <p:nvSpPr>
          <p:cNvPr id="113" name="pole tekstowe 10"/>
          <p:cNvSpPr/>
          <p:nvPr/>
        </p:nvSpPr>
        <p:spPr>
          <a:xfrm>
            <a:off x="191880" y="6286680"/>
            <a:ext cx="126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dziennik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 - ef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7342200" y="621504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cbos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292960" cy="4786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lska a wolny rynek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0"/>
          <p:cNvSpPr/>
          <p:nvPr/>
        </p:nvSpPr>
        <p:spPr>
          <a:xfrm>
            <a:off x="176760" y="6215040"/>
            <a:ext cx="161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freetheworl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5742000" cy="4286520"/>
          </a:xfrm>
          <a:prstGeom prst="rect">
            <a:avLst/>
          </a:prstGeom>
          <a:ln w="0">
            <a:noFill/>
          </a:ln>
        </p:spPr>
      </p:pic>
      <p:sp>
        <p:nvSpPr>
          <p:cNvPr id="120" name="Prostokąt 5"/>
          <p:cNvSpPr/>
          <p:nvPr/>
        </p:nvSpPr>
        <p:spPr>
          <a:xfrm>
            <a:off x="6208560" y="342900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7"/>
          <p:cNvSpPr/>
          <p:nvPr/>
        </p:nvSpPr>
        <p:spPr>
          <a:xfrm>
            <a:off x="6208560" y="3857760"/>
            <a:ext cx="285840" cy="285480"/>
          </a:xfrm>
          <a:prstGeom prst="rect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rostokąt 8"/>
          <p:cNvSpPr/>
          <p:nvPr/>
        </p:nvSpPr>
        <p:spPr>
          <a:xfrm>
            <a:off x="6208560" y="4286160"/>
            <a:ext cx="28584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9"/>
          <p:cNvSpPr/>
          <p:nvPr/>
        </p:nvSpPr>
        <p:spPr>
          <a:xfrm>
            <a:off x="6208560" y="471492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1"/>
          <p:cNvSpPr/>
          <p:nvPr/>
        </p:nvSpPr>
        <p:spPr>
          <a:xfrm>
            <a:off x="6527160" y="3357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 większości wol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2"/>
          <p:cNvSpPr/>
          <p:nvPr/>
        </p:nvSpPr>
        <p:spPr>
          <a:xfrm>
            <a:off x="6527520" y="3786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zględnie wol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3"/>
          <p:cNvSpPr/>
          <p:nvPr/>
        </p:nvSpPr>
        <p:spPr>
          <a:xfrm>
            <a:off x="6503760" y="421488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zględnie bez woln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14"/>
          <p:cNvSpPr/>
          <p:nvPr/>
        </p:nvSpPr>
        <p:spPr>
          <a:xfrm>
            <a:off x="6510600" y="464328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 większości bez woln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15"/>
          <p:cNvSpPr/>
          <p:nvPr/>
        </p:nvSpPr>
        <p:spPr>
          <a:xfrm>
            <a:off x="928800" y="142884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skaźnik Wolności Gospodarczej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(Index of Economic Freedom, IE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lska a wolny rynek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0"/>
          <p:cNvSpPr/>
          <p:nvPr/>
        </p:nvSpPr>
        <p:spPr>
          <a:xfrm>
            <a:off x="245880" y="6429240"/>
            <a:ext cx="164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doingbusiness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5"/>
          <p:cNvSpPr/>
          <p:nvPr/>
        </p:nvSpPr>
        <p:spPr>
          <a:xfrm>
            <a:off x="3714840" y="142884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skaźnik Łatwości Prowadzenia Interesów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ase of Doing Business Index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214280"/>
          <a:ext cx="2712960" cy="5175360"/>
        </p:xfrm>
        <a:graphic>
          <a:graphicData uri="http://schemas.openxmlformats.org/drawingml/2006/table">
            <a:tbl>
              <a:tblPr/>
              <a:tblGrid>
                <a:gridCol w="1357560"/>
                <a:gridCol w="1355400"/>
              </a:tblGrid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ŃS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EJS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e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lka Bryt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we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wajc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łow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łowa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ęg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sembur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3" name="Prostokąt 17"/>
          <p:cNvSpPr/>
          <p:nvPr/>
        </p:nvSpPr>
        <p:spPr>
          <a:xfrm>
            <a:off x="3714840" y="25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raporcie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ing Bussines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gotowanym przez Bank Światowy na 2013 rok Polska zajęła 55. miejsce na 185 gospodarek świat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śród państw europejskich znalazła się jednak za Estonią, Słowenią, Słowacją czy Węgr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Łukasz</cp:lastModifiedBy>
  <dcterms:modified xsi:type="dcterms:W3CDTF">2013-03-15T12:07:31Z</dcterms:modified>
  <cp:revision>21</cp:revision>
  <dc:subject/>
  <dc:title>Slajd 1</dc:title>
</cp:coreProperties>
</file>