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87ED-59C0-434F-80BB-7012F2EE4FD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3098-205D-42E7-A95C-7015BD61F98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5862-06A4-42A2-8305-8D9A99F0E1F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203D-EA82-4F12-BB64-E13D4AA69F4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EBD-AC04-4B6F-8CEF-F2C87A8F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FF3-183C-4D3C-AD1E-FB05401A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11F-AAA4-4B41-9D96-8600AF92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8D9-5EFC-41D5-8CDD-D7902F0E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04FC-A6EA-4ECA-AC58-50D43864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6621-448A-4BCA-8C19-96776B99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739B-48DF-4684-AB78-97A357D9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5540-9989-4F93-890B-47FD9EBD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DF01-D3B6-4011-BB18-B2EBF3DE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7166-07E1-4A95-8205-199881CF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3876-DC1F-4260-A738-E9CDA639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1D00-4C43-4E54-9446-0F586EFB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B439-786D-418E-A35A-54748AAF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B4DB-31CE-4F80-B0A7-C1C3A815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4F53-E9D4-4249-B32A-084D6D43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C7CE-F0AA-4E45-AB1D-C0BB4657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4C0D-D555-49C5-A543-B912C598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7B77-F24D-44DF-B6B2-2D0BFE8C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751-2A49-4818-A064-E6D9F412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E496-50F1-4453-9C3C-E0EAE13B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2F47-1390-462B-8003-3FCD511C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814-35FB-4931-8988-DA19419B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1A10-FAD4-4AB4-AE14-557481A5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762-39AD-44B0-8A76-FFF381FF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C7D1-0BC0-487C-A0E4-D4D012BB0AC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BB7C-A703-4F5C-947C-03EFB600C32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Społeczeństwo polskie w dobie przebudowy – obraz Polski po 1989 roku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Radosław Marzęc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ole tekstowe 6"/>
          <p:cNvSpPr/>
          <p:nvPr/>
        </p:nvSpPr>
        <p:spPr>
          <a:xfrm>
            <a:off x="357120" y="5000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Transformacja społecz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rostokąt 15"/>
          <p:cNvSpPr/>
          <p:nvPr/>
        </p:nvSpPr>
        <p:spPr>
          <a:xfrm>
            <a:off x="500040" y="1500120"/>
            <a:ext cx="735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Tahoma"/>
                <a:ea typeface="Tahoma"/>
              </a:rPr>
              <a:t>Kapitał społecz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ole tekstowe 7"/>
          <p:cNvSpPr/>
          <p:nvPr/>
        </p:nvSpPr>
        <p:spPr>
          <a:xfrm>
            <a:off x="538920" y="2214720"/>
            <a:ext cx="19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  <a:ea typeface="Tahoma"/>
              </a:rPr>
              <a:t>ZAUFA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ole tekstowe 8"/>
          <p:cNvSpPr/>
          <p:nvPr/>
        </p:nvSpPr>
        <p:spPr>
          <a:xfrm>
            <a:off x="631440" y="2786040"/>
            <a:ext cx="53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  <a:ea typeface="Tahoma"/>
              </a:rPr>
              <a:t>GOTOWOŚĆ DO WSPÓŁP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9"/>
          <p:cNvSpPr/>
          <p:nvPr/>
        </p:nvSpPr>
        <p:spPr>
          <a:xfrm>
            <a:off x="654120" y="3357720"/>
            <a:ext cx="61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  <a:ea typeface="Tahoma"/>
              </a:rPr>
              <a:t>OBYWATELSKIE ZAANGAŻOWA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11"/>
          <p:cNvSpPr/>
          <p:nvPr/>
        </p:nvSpPr>
        <p:spPr>
          <a:xfrm>
            <a:off x="857160" y="4214880"/>
            <a:ext cx="735804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  <a:ea typeface="Tahoma"/>
              </a:rPr>
              <a:t>DEMOKRACJA JAKO WSPÓLNE DOB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hociaż pozornie wydaje się inaczej, to nasz pojedynczy głos w wyborach lub jednostkowa aktywność społeczna czy polityczna ma niebagatelne znaczenie: jest wyrazem współodpowiedzialności za wspólną demokrację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Istotną barierą jest jednak brak poczucia wpływu na bieg spraw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ole tekstowe 5"/>
          <p:cNvSpPr/>
          <p:nvPr/>
        </p:nvSpPr>
        <p:spPr>
          <a:xfrm>
            <a:off x="357120" y="7142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Ile się zmienił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http://grafik.rp.pl/grafika2/1014972,9.jpg"/>
          <p:cNvPicPr/>
          <p:nvPr/>
        </p:nvPicPr>
        <p:blipFill>
          <a:blip r:embed="rId1"/>
          <a:stretch/>
        </p:blipFill>
        <p:spPr>
          <a:xfrm>
            <a:off x="714240" y="1643040"/>
            <a:ext cx="7610760" cy="4071960"/>
          </a:xfrm>
          <a:prstGeom prst="rect">
            <a:avLst/>
          </a:prstGeom>
          <a:ln w="0">
            <a:noFill/>
          </a:ln>
        </p:spPr>
      </p:pic>
      <p:sp>
        <p:nvSpPr>
          <p:cNvPr id="142" name="pole tekstowe 7"/>
          <p:cNvSpPr/>
          <p:nvPr/>
        </p:nvSpPr>
        <p:spPr>
          <a:xfrm>
            <a:off x="7185240" y="6072120"/>
            <a:ext cx="174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Andrzej Krauze, http://www.rp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ole tekstowe 5"/>
          <p:cNvSpPr/>
          <p:nvPr/>
        </p:nvSpPr>
        <p:spPr>
          <a:xfrm>
            <a:off x="357120" y="7142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3"/>
          <p:cNvSpPr/>
          <p:nvPr/>
        </p:nvSpPr>
        <p:spPr>
          <a:xfrm>
            <a:off x="500040" y="1643040"/>
            <a:ext cx="82152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Karpiński J., </a:t>
            </a:r>
            <a:r>
              <a:rPr b="0" i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Trzecia niepodległość,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Warszawa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utnam R., </a:t>
            </a:r>
            <a:r>
              <a:rPr b="0" i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Demokracja w działaniu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Kraków 199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Roszkowski W., </a:t>
            </a:r>
            <a:r>
              <a:rPr b="0" i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Najnowsza historia Polski: 1980-2006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Wydawnictwo Świat Książki, Warszawa 2007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Schmitter Ph., </a:t>
            </a:r>
            <a:r>
              <a:rPr b="0" i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Demokracja – zagrożenia i problemy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[w:] Śpiewak P. [red.], </a:t>
            </a:r>
            <a:r>
              <a:rPr b="0" i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rzyszłość demokracji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Warszawa 200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Sztompka P., </a:t>
            </a:r>
            <a:r>
              <a:rPr b="0" i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aufanie. Fundament społeczeństwa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Kraków 2007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www.balcerowicz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www.cbos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www.doingbusiness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www.dziennik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www.freetheworld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www.rp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1"/>
          <p:cNvSpPr/>
          <p:nvPr/>
        </p:nvSpPr>
        <p:spPr>
          <a:xfrm>
            <a:off x="285840" y="57168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285840" y="1643040"/>
            <a:ext cx="850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zym jest dla nas wolność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zemiany gospodarcze po 1989 roku – plan Balcerowic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Efekty planu Balcerowic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lskie społeczeństwo wczoraj i dziś – bogatsi czy biedniejs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lska gospodarka rynko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połeczne skutki transforma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1"/>
          <p:cNvSpPr/>
          <p:nvPr/>
        </p:nvSpPr>
        <p:spPr>
          <a:xfrm>
            <a:off x="285840" y="57168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Nie o taką Polskę walczyliśm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grafik.rp.pl/grafika2/1018455,9.jpg"/>
          <p:cNvPicPr/>
          <p:nvPr/>
        </p:nvPicPr>
        <p:blipFill>
          <a:blip r:embed="rId1"/>
          <a:stretch/>
        </p:blipFill>
        <p:spPr>
          <a:xfrm>
            <a:off x="1143000" y="1500120"/>
            <a:ext cx="6723000" cy="4572000"/>
          </a:xfrm>
          <a:prstGeom prst="rect">
            <a:avLst/>
          </a:prstGeom>
          <a:ln w="0">
            <a:noFill/>
          </a:ln>
        </p:spPr>
      </p:pic>
      <p:sp>
        <p:nvSpPr>
          <p:cNvPr id="101" name="pole tekstowe 7"/>
          <p:cNvSpPr/>
          <p:nvPr/>
        </p:nvSpPr>
        <p:spPr>
          <a:xfrm>
            <a:off x="7185240" y="6072120"/>
            <a:ext cx="174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Andrzej Krauze, http://www.rp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ole tekstowe 3"/>
          <p:cNvSpPr/>
          <p:nvPr/>
        </p:nvSpPr>
        <p:spPr>
          <a:xfrm>
            <a:off x="357120" y="7142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Balcerowicz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4"/>
          <p:cNvSpPr/>
          <p:nvPr/>
        </p:nvSpPr>
        <p:spPr>
          <a:xfrm>
            <a:off x="285840" y="16430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akiet reform gospodarczo-ustrojowych, którego realizacja zaczęła się w 1990 ro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5"/>
          <p:cNvSpPr/>
          <p:nvPr/>
        </p:nvSpPr>
        <p:spPr>
          <a:xfrm>
            <a:off x="214200" y="2643120"/>
            <a:ext cx="4143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Już wcześniej – zmiany w Konstytucji PRL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„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Rzeczpospolita Polska jest demokratycznym państwem prawnym, urzeczywistniającym zasady sprawiedliwości społecznej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zami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zapisów o socjalizmie i gospodarce planow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ttp://www.balcerowicz.pl/img/galerie/3/2010_11/39.jpg"/>
          <p:cNvPicPr/>
          <p:nvPr/>
        </p:nvPicPr>
        <p:blipFill>
          <a:blip r:embed="rId1"/>
          <a:stretch/>
        </p:blipFill>
        <p:spPr>
          <a:xfrm>
            <a:off x="3657600" y="1596960"/>
            <a:ext cx="5907240" cy="5089680"/>
          </a:xfrm>
          <a:prstGeom prst="rect">
            <a:avLst/>
          </a:prstGeom>
          <a:ln w="0">
            <a:noFill/>
          </a:ln>
        </p:spPr>
      </p:pic>
      <p:sp>
        <p:nvSpPr>
          <p:cNvPr id="106" name="pole tekstowe 7"/>
          <p:cNvSpPr/>
          <p:nvPr/>
        </p:nvSpPr>
        <p:spPr>
          <a:xfrm>
            <a:off x="7188840" y="6072120"/>
            <a:ext cx="142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http://www.balcerowicz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le tekstowe 3"/>
          <p:cNvSpPr/>
          <p:nvPr/>
        </p:nvSpPr>
        <p:spPr>
          <a:xfrm>
            <a:off x="357120" y="7142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Balcerowicz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4"/>
          <p:cNvSpPr/>
          <p:nvPr/>
        </p:nvSpPr>
        <p:spPr>
          <a:xfrm>
            <a:off x="285840" y="1643040"/>
            <a:ext cx="8501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el: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transformacja gospodarcza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(od gospodarki centralnie sterowanej do rynkowej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Założeni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przywrócenie równowagi gospodarki, w tym ograniczenie hiperinfla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prywatyza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wprowadzenie mechanizmów rynkow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reforma systemu podatkow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ustabilizowanie kursu walutowego i wprowadzenie wymienialności złotego na inne walu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ole tekstowe 6"/>
          <p:cNvSpPr/>
          <p:nvPr/>
        </p:nvSpPr>
        <p:spPr>
          <a:xfrm>
            <a:off x="357120" y="5000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Balcerowicza - efek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Wykres 7" descr=""/>
          <p:cNvPicPr/>
          <p:nvPr/>
        </p:nvPicPr>
        <p:blipFill>
          <a:blip r:embed="rId1"/>
          <a:stretch/>
        </p:blipFill>
        <p:spPr>
          <a:xfrm>
            <a:off x="208080" y="1352520"/>
            <a:ext cx="3582720" cy="2513160"/>
          </a:xfrm>
          <a:prstGeom prst="rect">
            <a:avLst/>
          </a:prstGeom>
          <a:ln w="0">
            <a:noFill/>
          </a:ln>
        </p:spPr>
      </p:pic>
      <p:pic>
        <p:nvPicPr>
          <p:cNvPr id="111" name="Wykres 8" descr=""/>
          <p:cNvPicPr/>
          <p:nvPr/>
        </p:nvPicPr>
        <p:blipFill>
          <a:blip r:embed="rId2"/>
          <a:stretch/>
        </p:blipFill>
        <p:spPr>
          <a:xfrm>
            <a:off x="4280040" y="1706400"/>
            <a:ext cx="4400280" cy="3872160"/>
          </a:xfrm>
          <a:prstGeom prst="rect">
            <a:avLst/>
          </a:prstGeom>
          <a:ln w="0">
            <a:noFill/>
          </a:ln>
        </p:spPr>
      </p:pic>
      <p:pic>
        <p:nvPicPr>
          <p:cNvPr id="112" name="Wykres 9" descr=""/>
          <p:cNvPicPr/>
          <p:nvPr/>
        </p:nvPicPr>
        <p:blipFill>
          <a:blip r:embed="rId3"/>
          <a:stretch/>
        </p:blipFill>
        <p:spPr>
          <a:xfrm>
            <a:off x="208080" y="3925800"/>
            <a:ext cx="3582720" cy="2298960"/>
          </a:xfrm>
          <a:prstGeom prst="rect">
            <a:avLst/>
          </a:prstGeom>
          <a:ln w="0">
            <a:noFill/>
          </a:ln>
        </p:spPr>
      </p:pic>
      <p:sp>
        <p:nvSpPr>
          <p:cNvPr id="113" name="pole tekstowe 10"/>
          <p:cNvSpPr/>
          <p:nvPr/>
        </p:nvSpPr>
        <p:spPr>
          <a:xfrm>
            <a:off x="191880" y="6286680"/>
            <a:ext cx="126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http://www.dziennik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ole tekstowe 6"/>
          <p:cNvSpPr/>
          <p:nvPr/>
        </p:nvSpPr>
        <p:spPr>
          <a:xfrm>
            <a:off x="357120" y="5000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Balcerowicza - efek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10"/>
          <p:cNvSpPr/>
          <p:nvPr/>
        </p:nvSpPr>
        <p:spPr>
          <a:xfrm>
            <a:off x="7342200" y="6215040"/>
            <a:ext cx="109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http://www.cbos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8292960" cy="47865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le tekstowe 6"/>
          <p:cNvSpPr/>
          <p:nvPr/>
        </p:nvSpPr>
        <p:spPr>
          <a:xfrm>
            <a:off x="357120" y="5000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olska a wolny rynek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10"/>
          <p:cNvSpPr/>
          <p:nvPr/>
        </p:nvSpPr>
        <p:spPr>
          <a:xfrm>
            <a:off x="176760" y="6215040"/>
            <a:ext cx="161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http://www.freetheworld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5742000" cy="4286520"/>
          </a:xfrm>
          <a:prstGeom prst="rect">
            <a:avLst/>
          </a:prstGeom>
          <a:ln w="0">
            <a:noFill/>
          </a:ln>
        </p:spPr>
      </p:pic>
      <p:sp>
        <p:nvSpPr>
          <p:cNvPr id="120" name="Prostokąt 5"/>
          <p:cNvSpPr/>
          <p:nvPr/>
        </p:nvSpPr>
        <p:spPr>
          <a:xfrm>
            <a:off x="6208560" y="3429000"/>
            <a:ext cx="2858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rostokąt 7"/>
          <p:cNvSpPr/>
          <p:nvPr/>
        </p:nvSpPr>
        <p:spPr>
          <a:xfrm>
            <a:off x="6208560" y="3857760"/>
            <a:ext cx="285840" cy="285480"/>
          </a:xfrm>
          <a:prstGeom prst="rect">
            <a:avLst/>
          </a:prstGeom>
          <a:solidFill>
            <a:srgbClr val="9bbb59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rostokąt 8"/>
          <p:cNvSpPr/>
          <p:nvPr/>
        </p:nvSpPr>
        <p:spPr>
          <a:xfrm>
            <a:off x="6208560" y="4286160"/>
            <a:ext cx="28584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rostokąt 9"/>
          <p:cNvSpPr/>
          <p:nvPr/>
        </p:nvSpPr>
        <p:spPr>
          <a:xfrm>
            <a:off x="6208560" y="4714920"/>
            <a:ext cx="285840" cy="285840"/>
          </a:xfrm>
          <a:prstGeom prst="rect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11"/>
          <p:cNvSpPr/>
          <p:nvPr/>
        </p:nvSpPr>
        <p:spPr>
          <a:xfrm>
            <a:off x="6527160" y="3357720"/>
            <a:ext cx="20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 większości wol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12"/>
          <p:cNvSpPr/>
          <p:nvPr/>
        </p:nvSpPr>
        <p:spPr>
          <a:xfrm>
            <a:off x="6527520" y="378612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zględnie wol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13"/>
          <p:cNvSpPr/>
          <p:nvPr/>
        </p:nvSpPr>
        <p:spPr>
          <a:xfrm>
            <a:off x="6503760" y="4214880"/>
            <a:ext cx="244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zględnie bez wolnoś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14"/>
          <p:cNvSpPr/>
          <p:nvPr/>
        </p:nvSpPr>
        <p:spPr>
          <a:xfrm>
            <a:off x="6510600" y="4643280"/>
            <a:ext cx="26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 większości bez wolnoś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rostokąt 15"/>
          <p:cNvSpPr/>
          <p:nvPr/>
        </p:nvSpPr>
        <p:spPr>
          <a:xfrm>
            <a:off x="928800" y="142884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skaźnik Wolności Gospodarczej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(Index of Economic Freedom, IE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ole tekstowe 6"/>
          <p:cNvSpPr/>
          <p:nvPr/>
        </p:nvSpPr>
        <p:spPr>
          <a:xfrm>
            <a:off x="357120" y="5000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olska a wolny rynek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10"/>
          <p:cNvSpPr/>
          <p:nvPr/>
        </p:nvSpPr>
        <p:spPr>
          <a:xfrm>
            <a:off x="245880" y="6429240"/>
            <a:ext cx="164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http://www.doingbusiness.or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rostokąt 15"/>
          <p:cNvSpPr/>
          <p:nvPr/>
        </p:nvSpPr>
        <p:spPr>
          <a:xfrm>
            <a:off x="3714840" y="1428840"/>
            <a:ext cx="44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skaźnik Łatwości Prowadzenia Interesów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Ease of Doing Business Index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57120" y="1214280"/>
          <a:ext cx="2712960" cy="5175360"/>
        </p:xfrm>
        <a:graphic>
          <a:graphicData uri="http://schemas.openxmlformats.org/drawingml/2006/table">
            <a:tbl>
              <a:tblPr/>
              <a:tblGrid>
                <a:gridCol w="1357560"/>
                <a:gridCol w="1355400"/>
              </a:tblGrid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ŃSTW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EJS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weg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elka Bryta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land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wecj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land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land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m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o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wajc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t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tugal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and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g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j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łowe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szpa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łowacj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ęg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ksembur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ec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łoc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cj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3" name="Prostokąt 17"/>
          <p:cNvSpPr/>
          <p:nvPr/>
        </p:nvSpPr>
        <p:spPr>
          <a:xfrm>
            <a:off x="3714840" y="25002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 raporcie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Doing Bussines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zygotowanym przez Bank Światowy na 2013 rok Polska zajęła 55. miejsce na 185 gospodarek światow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śród państw europejskich znalazła się jednak za Estonią, Słowenią, Słowacją czy Węgra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Łukasz</cp:lastModifiedBy>
  <dcterms:modified xsi:type="dcterms:W3CDTF">2013-03-15T12:07:31Z</dcterms:modified>
  <cp:revision>21</cp:revision>
  <dc:subject/>
  <dc:title>Slajd 1</dc:title>
</cp:coreProperties>
</file>