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oa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3-05-27T19:48:30.778000000" idx="1">
    <p:pos x="933" y="3301"/>
    <p:text>kraju z małej liter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4DE-1E23-4F04-974C-EC9FB4240B7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017-9047-40E2-B0EB-DE6D1F7960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D5D0-F7B4-49C0-A88F-8EDFEDD510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ACF-5492-4197-B0C7-875CF762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A32-FDA6-4B66-BEE5-85BC6E0A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FB5-8541-443B-AC9E-4964795E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255-708A-47E5-AE29-EB7E5A7C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EE35-B7CC-40AE-B402-E18EF357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36C5-279C-4F34-824D-4FB2833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B2E8-4A2D-4589-A5BA-0497AB26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2D10-7153-4146-9B6F-102237A4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D144-CC40-483D-88EA-4043391D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AB3D-949B-4E1D-883E-BD7951FB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25EC-BA14-4327-A809-16F9D55B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657-5B49-4743-8136-0835BE7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FEDC-4534-4C18-9D5A-04A200C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99A8-E778-481D-8F64-C8ACECD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162C-B5C7-4AA3-BB73-AFE1A485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0B64-6D5F-44F9-88E7-1B641C9A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833F-A284-4635-BA07-004D25A9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ABE-6050-4B44-9423-94A6248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C9D-B64C-4FA6-95DF-703F7E59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445-D17C-417D-B73F-FA19A214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083-2C76-4EDB-B086-C8AA9F6B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377-F890-4770-BF01-15745302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2DF-8F7C-40BF-9B91-1320D40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84B-C071-4B5B-84A2-0484428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CD83-C869-44B9-AC78-EC9F99143C9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C21C-9DD5-47CE-8059-4FFC8FB4391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inakoteka.zascianek.pl/Grottger/Images/Pol6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pinakoteka.zascianek.pl/Kossak_W/Images/Olszynka.jp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inakoteka.zascianek.pl/Grottger/Images/Pochod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alizm polityczny w II połowie XIX wiek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óba op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7128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rosy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jne nauczan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uczelniach wyższych powstawały kółka samokształceni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no nielegalne kursy języka polskiego, literatury, geografii i historii Pol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mycano polskie książk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Gali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no strajki, manifestacje i zamachy na policjantów i urzędników (1905 r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częto domagać się przywrócenia autonom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ze carskie poszły na pewne ustępstwa (m.in. pozwolono zakładać prywatne szkoł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Bartek\Downloads\Wrzesnia.jpg"/>
          <p:cNvPicPr/>
          <p:nvPr/>
        </p:nvPicPr>
        <p:blipFill>
          <a:blip r:embed="rId1"/>
          <a:stretch/>
        </p:blipFill>
        <p:spPr>
          <a:xfrm>
            <a:off x="1763640" y="1844640"/>
            <a:ext cx="5688000" cy="365112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9"/>
          <p:cNvSpPr/>
          <p:nvPr/>
        </p:nvSpPr>
        <p:spPr>
          <a:xfrm>
            <a:off x="1715760" y="5589720"/>
            <a:ext cx="335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Oporne dzieci we Wrześni w 1901 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6/67/Wrzesni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óba op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pru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zystkie warstwy społeczne brały udział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alce o polskoś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yły się kółka rolnicze, banki ludowe, stowarzyszenia śpiewacze, które przeciwstawiały się germaniza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zano bojkoty lekcji (strajk dzieci we Wrześ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lczono z ustawami osadniczymi (sławny wóz Drzymał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tanczyk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3922920"/>
          </a:xfrm>
          <a:prstGeom prst="rect">
            <a:avLst/>
          </a:prstGeom>
          <a:ln w="0">
            <a:noFill/>
          </a:ln>
        </p:spPr>
      </p:pic>
      <p:sp>
        <p:nvSpPr>
          <p:cNvPr id="139" name="pole tekstowe 8"/>
          <p:cNvSpPr/>
          <p:nvPr/>
        </p:nvSpPr>
        <p:spPr>
          <a:xfrm>
            <a:off x="1930320" y="5805360"/>
            <a:ext cx="3263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Stańczyk, malował Jan Matej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Matejko/Images/Stanczyk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austriac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 1867 r. duży zakres autonom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ędy i administracj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ękach Pola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zkołach obowiązywał język pol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bez przeszkód na rozwój nauki(założono Akademię Umiejętn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rakow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na rozwój kultury polskiej (m.in. Teatry w Krakowie i we Lwow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obchodzić ważne uroczystości narod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ziła się świadomość narodowa Ukraińców (konflikt z Polakam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 ziemi mogił pogasły ogni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postawy społeczeństwa polskiego po klęsce powstania styczni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10"/>
          <p:cNvSpPr/>
          <p:nvPr/>
        </p:nvSpPr>
        <p:spPr>
          <a:xfrm>
            <a:off x="1908000" y="3141720"/>
            <a:ext cx="54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Marzenia o odzyskaniu samoistności zewnętrznej ustąpić dziś winny staraniom o samodzielność wewnętrzną(…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Los zamknął nasze życzenia i nadzieje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w pracy cywilizacyjnej”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eksander Świętochowsk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kazania polityczne, 1882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D:\scenariusze lekcji do przetargu\do realizacji\Realizm polityczny w II poł XIX w\grafika\Rys_8_T09_10_car_Aleksander _III.jpg"/>
          <p:cNvPicPr/>
          <p:nvPr/>
        </p:nvPicPr>
        <p:blipFill>
          <a:blip r:embed="rId1"/>
          <a:stretch/>
        </p:blipFill>
        <p:spPr>
          <a:xfrm>
            <a:off x="3203640" y="1628640"/>
            <a:ext cx="265572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4"/>
          <p:cNvSpPr/>
          <p:nvPr/>
        </p:nvSpPr>
        <p:spPr>
          <a:xfrm>
            <a:off x="3160440" y="5516640"/>
            <a:ext cx="3975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Car Aleksander III, malował N. Kramsko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e/e7/Kramskoy_Alexander_II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ukanie nowych dróg działa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rajny lojalizm – bezwarunkowa wierność wobec cara (Zygmunt Wielopolski) nie miał wielu zwolenni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ublicyści skupieni wokół pisma „Kraj” – ugodowość może przynieść pewne korzyści dla narodu polskiego, kultura polska wzbogaci kulturę rosyjską, a Polacy staną się uczestnikami federacji ogólno rosyjsk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ole tekstowe 3"/>
          <p:cNvSpPr/>
          <p:nvPr/>
        </p:nvSpPr>
        <p:spPr>
          <a:xfrm>
            <a:off x="2124000" y="1700280"/>
            <a:ext cx="55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Bo nie żadnym błyskiem stali,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Nie natchnionych tonów mocą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Ludy czoła swe ozłocą;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ylko pracą i mądrością,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ylko trudem i mądrością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zyszłość serca ich zapali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rol Świdzińsk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przód pracą, 1872 r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Rys_8_T09_10_Henryk_Sienkiewicz"/>
          <p:cNvPicPr/>
          <p:nvPr/>
        </p:nvPicPr>
        <p:blipFill>
          <a:blip r:embed="rId1"/>
          <a:stretch/>
        </p:blipFill>
        <p:spPr>
          <a:xfrm>
            <a:off x="826920" y="1844640"/>
            <a:ext cx="2953080" cy="353556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4"/>
          <p:cNvSpPr/>
          <p:nvPr/>
        </p:nvSpPr>
        <p:spPr>
          <a:xfrm>
            <a:off x="711720" y="5445000"/>
            <a:ext cx="3829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Henryk Sinkiewicz, malował K. Mordasewicz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6/6f/Henryk_Sienkiewicz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Rys_9_T09_10_Boleslaw_Prus"/>
          <p:cNvPicPr/>
          <p:nvPr/>
        </p:nvPicPr>
        <p:blipFill>
          <a:blip r:embed="rId2"/>
          <a:stretch/>
        </p:blipFill>
        <p:spPr>
          <a:xfrm>
            <a:off x="5364000" y="1844640"/>
            <a:ext cx="2700360" cy="3529080"/>
          </a:xfrm>
          <a:prstGeom prst="rect">
            <a:avLst/>
          </a:prstGeom>
          <a:ln w="0">
            <a:noFill/>
          </a:ln>
        </p:spPr>
      </p:pic>
      <p:sp>
        <p:nvSpPr>
          <p:cNvPr id="157" name="pole tekstowe 6"/>
          <p:cNvSpPr/>
          <p:nvPr/>
        </p:nvSpPr>
        <p:spPr>
          <a:xfrm>
            <a:off x="5219640" y="5445000"/>
            <a:ext cx="39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Bolesław Pru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bp.info.kalisz.pl/2012/120511_F16_B_Prus/DSCN3200_1280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lans powsta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tawa społeczeństwa polskiego po klęsce powstania styczniow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ytywizm polski – dążenie do postępu cywilizacyjnego poprzez aktywność gospodarczą, pracę oświatową, twórczość naukową i kultur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ytywiści lansowali tezę o pracy organicznej – praca nad oświeceniem i wzbogaceniem narodu przy wykorzystaniu możliwości jakie dają aktualne warunki historycz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aca organiczna, czyli praca u podstaw, wciągnięcie wszystkich mas ludowych do życia społecznego, emancypacja kobiet, rozbudowa instytucji pomoc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haterstwo umiejętnego życia”  zamiast „bohaterstwa pięknego umierani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Rys_10_T09_10_Franciszek_Jozef_I_Habsburg"/>
          <p:cNvPicPr/>
          <p:nvPr/>
        </p:nvPicPr>
        <p:blipFill>
          <a:blip r:embed="rId1"/>
          <a:stretch/>
        </p:blipFill>
        <p:spPr>
          <a:xfrm>
            <a:off x="3132000" y="1628640"/>
            <a:ext cx="280836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4"/>
          <p:cNvSpPr/>
          <p:nvPr/>
        </p:nvSpPr>
        <p:spPr>
          <a:xfrm>
            <a:off x="3088440" y="5445000"/>
            <a:ext cx="4489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Franciszek Józef I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4/46/Franciszek_J%C3%B3zef_I_Habsbur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Galicji wytworzyło się silne środowisko polityczne reprezentujące koncepcje ugod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wojnie austriacko-pruskiej ugodowcy zadeklarowali lojalność wobec cesarza Franciszka Józef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 Tobie, Najjaśniejszy Panie, stoimy i stać chcemy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blikowali cykl artykułów pod nazwą „Teka Stańczyka”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ańczycy reprezentowali poglądy konserwatywne, władzę powinny sprawować „klasy historyczne”, w przeciwnym razie grozi chaos i anarchia, naród powinien dojrzeć pod obcym panowan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sili teorie trójlojalizmu – społeczeństwo polskie każdego zaboru powinno być lojalne wobec swojego państwa zaborcz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tej grupy wywodzi się krakowska szkoła history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którą drogę byś wybra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Rys_12_T09_10_wjazd_cesarza_Franciszek_Jozef_do_Krakowa"/>
          <p:cNvPicPr/>
          <p:nvPr/>
        </p:nvPicPr>
        <p:blipFill>
          <a:blip r:embed="rId1"/>
          <a:stretch/>
        </p:blipFill>
        <p:spPr>
          <a:xfrm>
            <a:off x="2484360" y="1413000"/>
            <a:ext cx="4464000" cy="311292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4"/>
          <p:cNvSpPr/>
          <p:nvPr/>
        </p:nvSpPr>
        <p:spPr>
          <a:xfrm>
            <a:off x="2556000" y="4581360"/>
            <a:ext cx="4208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Wjazd cesarza Franciszka Józefa do Krakowa, malował J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Kossak_Jul/Images/Franciszek_Jozef_1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5"/>
          <p:cNvSpPr/>
          <p:nvPr/>
        </p:nvSpPr>
        <p:spPr>
          <a:xfrm>
            <a:off x="1476360" y="515772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dlacze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2276640"/>
            <a:ext cx="8229600" cy="21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ór pruski dostarczył przyszłemu państwu polskiemu dobrych gospodarzy, zabór rosyjski – konspiratorów, Galicja – urzędnik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doświadczonych parlamentarzys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lans powsta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militarnego punktu widzenia żadne powstanie nie miało większych sz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ły wykorzystane przez zaborców do likwidacji pewnej autonomii uzyskanej po 1815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u wartościowych ludzi zginęło, zostało skazanych na zesłanie lub musiało uciekać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Kr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jak uważasz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989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y były jakieś pozytywne skut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scenariusze lekcji do przetargu\do realizacji\Realizm polityczny w II poł XIX w\grafika\Rys_1_T09_10_Polonia_Obrona_dworu.jpg"/>
          <p:cNvPicPr/>
          <p:nvPr/>
        </p:nvPicPr>
        <p:blipFill>
          <a:blip r:embed="rId1"/>
          <a:stretch/>
        </p:blipFill>
        <p:spPr>
          <a:xfrm>
            <a:off x="539640" y="2997360"/>
            <a:ext cx="3527640" cy="272556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4"/>
          <p:cNvSpPr/>
          <p:nvPr/>
        </p:nvSpPr>
        <p:spPr>
          <a:xfrm>
            <a:off x="560520" y="5805360"/>
            <a:ext cx="3096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Obrona dworu, malował A. Grottg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inakoteka.zascianek.pl/Grottger/Images/Pol6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Bartek\Downloads\Olszynka.jpg"/>
          <p:cNvPicPr/>
          <p:nvPr/>
        </p:nvPicPr>
        <p:blipFill>
          <a:blip r:embed="rId3"/>
          <a:stretch/>
        </p:blipFill>
        <p:spPr>
          <a:xfrm>
            <a:off x="4427640" y="3141720"/>
            <a:ext cx="3976560" cy="25207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4450680" y="5805360"/>
            <a:ext cx="3349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2. Olszynka Grochowska, malował W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inakoteka.zascianek.pl/Kossak_W/Images/Olszyn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ymbol zastępczy zawartości 2"/>
          <p:cNvSpPr/>
          <p:nvPr/>
        </p:nvSpPr>
        <p:spPr>
          <a:xfrm>
            <a:off x="539640" y="126828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oceniasz powstania narodow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lans powstań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zór postaw patrioty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adycja powstańcza odegrała dużą rolę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ształtowaniu świadomości narodowej (także chłopó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Rys_3_T09_10_pochod_na_sybir"/>
          <p:cNvPicPr/>
          <p:nvPr/>
        </p:nvPicPr>
        <p:blipFill>
          <a:blip r:embed="rId1"/>
          <a:stretch/>
        </p:blipFill>
        <p:spPr>
          <a:xfrm>
            <a:off x="4572000" y="3429000"/>
            <a:ext cx="4032360" cy="236052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4"/>
          <p:cNvSpPr/>
          <p:nvPr/>
        </p:nvSpPr>
        <p:spPr>
          <a:xfrm>
            <a:off x="4500720" y="5805360"/>
            <a:ext cx="327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Pochód na Sybir, malował A. Grottg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inakoteka.zascianek.pl/Grottger/Images/Pochod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2692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rosy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likwidowano odrębność administracyj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mieniono nazwę na „Priwislinskij Kraj”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Kraj Nadwiślańsk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ono język rosyjski jako urzęd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śladowano Kościół (zlikwidowano Kościół unic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ilono i rozbudowano system repres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 wszystkich szkołach wprowadzono język rosyjski jako wykładowy i usuwano polską kadrę pedagogiczną („noc Apuchtinowska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Bartek\Downloads\Rugi_pruskie.jpg"/>
          <p:cNvPicPr/>
          <p:nvPr/>
        </p:nvPicPr>
        <p:blipFill>
          <a:blip r:embed="rId1"/>
          <a:stretch/>
        </p:blipFill>
        <p:spPr>
          <a:xfrm>
            <a:off x="1619280" y="1700280"/>
            <a:ext cx="6048360" cy="386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pole tekstowe 8"/>
          <p:cNvSpPr/>
          <p:nvPr/>
        </p:nvSpPr>
        <p:spPr>
          <a:xfrm>
            <a:off x="1644480" y="5805360"/>
            <a:ext cx="3516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Rugi pruskie, malował W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pinakoteka.zascianek.pl/Kossak_W/Images/Rugi_pruskie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pru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ono język niemiecki, jako urzęd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częto walkę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Kościołem katolickim tzw. Kulturkamp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kupywano ziemie należące do Pola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sprzedawano niemieckim kolonizator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musowo  wysiedlano ludność polską tzw. Rugi prusk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ałkowicie usunięto język polski ze szkó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Bartek\Downloads\Wiosna_roku_1905.jpg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04028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10"/>
          <p:cNvSpPr/>
          <p:nvPr/>
        </p:nvSpPr>
        <p:spPr>
          <a:xfrm>
            <a:off x="1645560" y="5732640"/>
            <a:ext cx="3801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. Wiosna roku 1905, malował S. Masłow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Maslowski/Images/Wiosna_roku_1905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02T15:43:07Z</dcterms:modified>
  <cp:revision>153</cp:revision>
  <dc:subject/>
  <dc:title>Slajd 1</dc:title>
</cp:coreProperties>
</file>