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A1E4-7DC0-4F58-AA10-66E064FDF78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6426-A912-455D-981E-B5635781F5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2B0-FE1C-4C1E-86D1-BDE724F0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EEE-6D43-4492-BB31-196263A2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AA9-553C-4DD2-BA4D-0ECE3B25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79D-906C-4CDD-B37D-27506854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96F-FDFC-46F6-9031-5A0FCAD5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379-9B6C-4589-A510-7D8FABED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9FC-72DE-457B-A093-5FB25FEB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2166-5635-4F8B-8066-DACE8744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358-6E64-4D8D-9E49-5A1CE820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607-AF19-4A3A-A2AD-4A0F705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A0D-7E8A-443D-96C8-9472A029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1EB-B634-4146-B358-7729814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BA9F-1169-4A23-8454-91142A896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stanie państwa polskieg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 Mieszka I do Bolesława Krzywousteg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rezentacja do pracy przy stanowiskach internetowyc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pływ stosunków feudalnych na rządy Władysława Hermana i Bolesława Krzywoustego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ttp://pl.wikipedia.org/wiki/W%C5%82adys%C5%82aw_I_He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ttp://pl.wikipedia.org/wiki/Boles%C5%82aw_III_Krzywousty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cepcje powstania państw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za Polski – koncepc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u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państwo powstało w drodze rozwoju od systemu rodowego, poprzez plemię, państwo plemienne do państwa ponadplemienneg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azdu zewnętr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a plemiona słowiańskie najechali Normanowie (lub znormanizowani Słowianie – Lechici)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boju wewnętr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ajsilniejsze z państw plemiennych podbiło pozostałe; koncepcja ta różni się od ewolucyjnej tylko ostatnim etap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http://forum.historia.org.pl/topic/117-dwie-teorie-czyli-geneza-powstania-panstwa-polskiego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rganizacja państ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2. Organizacja państwa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ystem grodowy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wokół grodu system osad służebnych, płacących daniny w formie wyspecjalizowanych produktów (skóry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trzały, hełmy itp.) – dowody do dziś w nazwach miejscowości (Grotniki, Szczytniki, Garbary it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awo książęce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system monopoli i prac przymusowych, daniny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rużyna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zawodowa siła zbrojn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odzielona między grody, w razie wojny wspierana pospolitym ruszeni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Kościół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– struktura religijna, ale i administracj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http://pl.wikipedia.org/wiki/Prawo_Polski_protofeudal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oncepcje polity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3. Koncepcje polityczne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Mieszko I – państwo chrześcijański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Bolesław Chrobry – monarchia słowiańs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Bolesław Szczodry – monarchia suweren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ttp://www.historia.azv.pl/monarchia-boleslawa-chrobrego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ttp://michaelstanislaus.salon24.pl/43743,tragedia-piastow-boleslaw-szczodry-biskup-ze-szczepan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ttp://alehistoria.blox.pl/2012/01/935-LAT-TEMU-BOLESLAW-SZCZODRY-KORONOWAL-SIE-NA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oncepcja zjednoczonej monarchii chrześcijański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Polska_960_-_992"/>
          <p:cNvPicPr/>
          <p:nvPr/>
        </p:nvPicPr>
        <p:blipFill>
          <a:blip r:embed="rId1"/>
          <a:stretch/>
        </p:blipFill>
        <p:spPr>
          <a:xfrm>
            <a:off x="468360" y="1557360"/>
            <a:ext cx="4319640" cy="4265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5508720" y="1844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http://pl.wikipedia.org/wiki/Plik:Polska_960_-_992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ia słowiań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Polska_992_-_1025"/>
          <p:cNvPicPr/>
          <p:nvPr/>
        </p:nvPicPr>
        <p:blipFill>
          <a:blip r:embed="rId1"/>
          <a:stretch/>
        </p:blipFill>
        <p:spPr>
          <a:xfrm>
            <a:off x="324000" y="1257480"/>
            <a:ext cx="4679640" cy="4619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6084720" y="2133720"/>
            <a:ext cx="1366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krolowie.info/boleslaw-chrobry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ział kraju – skutki wczesnego feudalizmu – Zbigniew i Bolesław III Krzywou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Plik:Polska 1102 - 1138.png"/>
          <p:cNvPicPr/>
          <p:nvPr/>
        </p:nvPicPr>
        <p:blipFill>
          <a:blip r:embed="rId1"/>
          <a:stretch/>
        </p:blipFill>
        <p:spPr>
          <a:xfrm>
            <a:off x="4284720" y="1773360"/>
            <a:ext cx="4056120" cy="385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lik:Mapa podziału Księstwa Polskiego w 1102.jpg"/>
          <p:cNvPicPr/>
          <p:nvPr/>
        </p:nvPicPr>
        <p:blipFill>
          <a:blip r:embed="rId2"/>
          <a:stretch/>
        </p:blipFill>
        <p:spPr>
          <a:xfrm>
            <a:off x="395280" y="1773360"/>
            <a:ext cx="379404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dział państwa w 113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Plik:Ustawa sukcesyjna Bolesława Krzywoustego.jpg"/>
          <p:cNvPicPr/>
          <p:nvPr/>
        </p:nvPicPr>
        <p:blipFill>
          <a:blip r:embed="rId1"/>
          <a:stretch/>
        </p:blipFill>
        <p:spPr>
          <a:xfrm>
            <a:off x="611280" y="1700280"/>
            <a:ext cx="4897440" cy="4102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6156360" y="1628640"/>
            <a:ext cx="259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zielnica senioralna - czerwo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nno Polski pod kontrolą princepsa - żół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a Władysława II - fio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a Bolesława IV – ciemna ziele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e Mieszka III - oliw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iemie Henryka – jasna ziele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awa wdowia Salomei - róż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yzys monarch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1034-10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yskusja nadal trw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ttp://www.historycy.org/index.php?showtopic=471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. Barański, Dynastia Piastów w Polsce. Warszawa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3T20:06:19Z</dcterms:modified>
  <cp:revision>10</cp:revision>
  <dc:subject/>
  <dc:title>Slajd 1</dc:title>
</cp:coreProperties>
</file>