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76EC-FBE9-4944-8B1A-77529FB07C2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EC73-29C7-4AFE-95D0-21AB1B09F3A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C075-72C1-455B-A43A-674C33933C0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7FE3-71D3-45ED-B01E-618E1274E3F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7A16-4E1A-42F8-AECA-7F7456D8EB2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9272-7A95-4C2D-9115-43BDF329933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80E0-9932-4AC0-A452-CAA168AEDAA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37D9-0557-4B42-AB04-609C495AF4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CB21-4CD8-4C03-91D8-8C3353E0682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CBEA-FD34-4A5A-8C1E-90AF5E1C8DB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8719-8BA5-44B7-8A17-3E8DB152A10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C334-A441-4498-9E76-369096718A7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60B9-C512-4EC6-9927-209BE120C98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D295-CB75-4E11-BD0D-88DFE9722F2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41E-0B6E-4FAC-BABD-43ABBD40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842-C088-429E-B651-E5C5A1F2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480-8B2C-49DB-B9B9-1C743F13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73F-CD10-4B09-83E3-7087E3B8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6B29-95A0-4C18-94EF-FF2C2A15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6144-4479-4A03-9E2B-D5F39903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048E-F953-4C77-B274-96E58C26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87D8-AD02-4A5A-B181-E2D2F664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060A-6FE1-4D39-A157-52EDD664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2840-C50C-4BB0-84D5-90E21E6C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19BF-0EB5-432F-9892-5A96C23A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8DC-E8B0-489B-8143-2E6FE73F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53CF-0EE4-4B62-835C-70B2E7E3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0CCF-7A44-4E8C-A132-1ECA3278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41B0-3588-466A-B6B3-AA40C99A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9E4F-0CF0-4FE4-94EC-88D4EA0D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6D62-A973-4D00-949A-78C64D19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506-8111-4A19-8607-A3491A56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1EB-7E59-49A1-B7BA-25A9409A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4E19-3205-42B9-98ED-5DF360DE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194-CE9B-41B7-8C7D-255A1260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520B-9C59-412C-ABC2-142F5F8A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613-7F3A-428D-AAA1-B8AE7B15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62C-1670-4E52-B91B-5729C66F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CC5B-F1A2-4AB4-BCC3-6A92089669B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9700-2A9F-4E24-BED0-045C052F9FF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QL0bXxjqEQ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Antyczni herosi 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692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http://www.livius.org/a/greece/sparta/sparta_athena_chalkioiokos_leonidas_mus_sparta_jvv5.JPG"/>
          <p:cNvPicPr/>
          <p:nvPr/>
        </p:nvPicPr>
        <p:blipFill>
          <a:blip r:embed="rId1"/>
          <a:stretch/>
        </p:blipFill>
        <p:spPr>
          <a:xfrm>
            <a:off x="2843280" y="1484280"/>
            <a:ext cx="2846160" cy="4465800"/>
          </a:xfrm>
          <a:prstGeom prst="rect">
            <a:avLst/>
          </a:prstGeom>
          <a:ln w="0">
            <a:noFill/>
          </a:ln>
        </p:spPr>
      </p:pic>
      <p:sp>
        <p:nvSpPr>
          <p:cNvPr id="121" name="Prostokąt 1"/>
          <p:cNvSpPr/>
          <p:nvPr/>
        </p:nvSpPr>
        <p:spPr>
          <a:xfrm>
            <a:off x="1763640" y="476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eoni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molon-labe"/>
          <p:cNvPicPr/>
          <p:nvPr/>
        </p:nvPicPr>
        <p:blipFill>
          <a:blip r:embed="rId1"/>
          <a:stretch/>
        </p:blipFill>
        <p:spPr>
          <a:xfrm>
            <a:off x="395280" y="2276640"/>
            <a:ext cx="8388360" cy="3001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457200" y="27468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hodź i weź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0" y="1484280"/>
            <a:ext cx="5915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Arial"/>
              </a:rPr>
              <a:t>Nazywany „Polskim Leonidasem” kpt. Władysław Raginis bronił odcinka umocnionego „Wizna”z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360 (wg innych źródeł 720) żołnierzami i 9 bunkrami (niedokończonymi) zatrzymał przez trzy dni XIX Korpus Pancerny gen. Heinza Guderiana – razem 42 200 żołnierzy niemieckich, 350 czołgów, 457 dział, wspieranych przez 600 samolotów Luftwaffe. Poległ na posterun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Wladyslaw_Raginis"/>
          <p:cNvPicPr/>
          <p:nvPr/>
        </p:nvPicPr>
        <p:blipFill>
          <a:blip r:embed="rId1"/>
          <a:stretch/>
        </p:blipFill>
        <p:spPr>
          <a:xfrm>
            <a:off x="6300720" y="2060640"/>
            <a:ext cx="2266920" cy="3085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pt. Władysław Ragin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274680"/>
            <a:ext cx="61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pt. Raginis na nowo odkry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95280" y="2060640"/>
            <a:ext cx="8229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Mocno zapomnianą postać kapitana „odkryli na nowo” szwedzcy muzycy z zespołu Sabat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1QL0bXxjqEQ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 (dostęp 15.03.20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The_Brazen_Serpent"/>
          <p:cNvPicPr/>
          <p:nvPr/>
        </p:nvPicPr>
        <p:blipFill>
          <a:blip r:embed="rId1"/>
          <a:stretch/>
        </p:blipFill>
        <p:spPr>
          <a:xfrm>
            <a:off x="2843280" y="1773360"/>
            <a:ext cx="3244680" cy="4176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11280" y="2133720"/>
            <a:ext cx="194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obrażenie Mojżesza, wyprowadzającego lud z Egiptu, odbierającego przykazania czy chroniącego lud od węży jest bardzo popular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227640" y="2205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ojżesz podnosi miedzianego węża (obraz Benjamina Westa)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ytuł 1"/>
          <p:cNvSpPr/>
          <p:nvPr/>
        </p:nvSpPr>
        <p:spPr>
          <a:xfrm>
            <a:off x="457200" y="27468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jżes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Plik:Polish II Corps (37) - 1946-06-02 - Casarano.jpg"/>
          <p:cNvPicPr/>
          <p:nvPr/>
        </p:nvPicPr>
        <p:blipFill>
          <a:blip r:embed="rId1"/>
          <a:stretch/>
        </p:blipFill>
        <p:spPr>
          <a:xfrm>
            <a:off x="1835280" y="1557360"/>
            <a:ext cx="4895640" cy="3403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457200" y="501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98989"/>
                </a:solidFill>
                <a:latin typeface="Calibri"/>
              </a:rPr>
              <a:t>Gen. Władysław Anders podczas inspekcji polskiego liceum w Casarano. Autor zdjęcia: Benedykt Tuszyń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57200" y="27468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Gen. Władysław An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udy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aravaggio_judyta_i_holofernes"/>
          <p:cNvPicPr/>
          <p:nvPr/>
        </p:nvPicPr>
        <p:blipFill>
          <a:blip r:embed="rId1"/>
          <a:stretch/>
        </p:blipFill>
        <p:spPr>
          <a:xfrm>
            <a:off x="1619280" y="1197000"/>
            <a:ext cx="5040360" cy="40226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5157720"/>
            <a:ext cx="82296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Caravaggio, Judyta i Holofernes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File:Muzeum Diecezjalne w Sandomierzu Obrona Trembowli - Anna Dorota Chrzanowska 30.12.2010 p.jpg"/>
          <p:cNvPicPr/>
          <p:nvPr/>
        </p:nvPicPr>
        <p:blipFill>
          <a:blip r:embed="rId1"/>
          <a:stretch/>
        </p:blipFill>
        <p:spPr>
          <a:xfrm>
            <a:off x="395280" y="1052640"/>
            <a:ext cx="2754360" cy="4465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3276720" y="3284640"/>
            <a:ext cx="34671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Anna Dorota Chrzanowska podczas obrony Trembowli (1675)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276720" y="1413000"/>
            <a:ext cx="548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Anna Dorota Chrzanowska – polska Judy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Emilia%20Plater%20Amelka%2029"/>
          <p:cNvPicPr/>
          <p:nvPr/>
        </p:nvPicPr>
        <p:blipFill>
          <a:blip r:embed="rId1"/>
          <a:stretch/>
        </p:blipFill>
        <p:spPr>
          <a:xfrm>
            <a:off x="2124000" y="1341360"/>
            <a:ext cx="4602240" cy="4538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250920" y="404640"/>
            <a:ext cx="6418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Emilia Plater  - obraz Jana Rosena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Anna_Pustowojt%C3%B3wna"/>
          <p:cNvPicPr/>
          <p:nvPr/>
        </p:nvPicPr>
        <p:blipFill>
          <a:blip r:embed="rId1"/>
          <a:stretch/>
        </p:blipFill>
        <p:spPr>
          <a:xfrm>
            <a:off x="3059280" y="1773360"/>
            <a:ext cx="2592360" cy="4174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1258920" y="260280"/>
            <a:ext cx="547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nna Pustowójtówna, bohaterska bojowniczka powstania styczni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samson-illustration-pulling-down-pillars"/>
          <p:cNvPicPr/>
          <p:nvPr/>
        </p:nvPicPr>
        <p:blipFill>
          <a:blip r:embed="rId1"/>
          <a:stretch/>
        </p:blipFill>
        <p:spPr>
          <a:xfrm>
            <a:off x="3348000" y="1844640"/>
            <a:ext cx="5315040" cy="3800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98989"/>
                </a:solidFill>
                <a:latin typeface="Calibri"/>
              </a:rPr>
              <a:t>Biblijny sędzia Samson doprowadzony do rozpaczy zdobył się na poświęcenie, niszcząc pałac Filistynów i ponosząc śmierć pod jego gruzami. Stał się biblijnym wzorem poświęcenia dla kraj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57200" y="274680"/>
            <a:ext cx="62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am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uliusz Konstanty Ord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Plik:Julian Ordon1.JPG"/>
          <p:cNvPicPr/>
          <p:nvPr/>
        </p:nvPicPr>
        <p:blipFill>
          <a:blip r:embed="rId1"/>
          <a:stretch/>
        </p:blipFill>
        <p:spPr>
          <a:xfrm>
            <a:off x="5754600" y="1557360"/>
            <a:ext cx="2479680" cy="3384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55640" y="1484280"/>
            <a:ext cx="482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ważany za polski synonim Samsona i Hektora, oficer który wysadził w 1831 redutę nr 54, wraz z wkraczającymi do niej żołnierzami rosyjskimi. Adam Mickiewicz poświęcił mu wiersz, w którym Ordon miał polec. Okazało się jednak, że zdołał, mimo obrażeń, przeży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26T13:14:16Z</dcterms:modified>
  <cp:revision>13</cp:revision>
  <dc:subject/>
  <dc:title>Slajd 1</dc:title>
</cp:coreProperties>
</file>