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3D88-99F9-4937-8215-ED20D8CA774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E91-4365-4DC1-AA72-6924696E37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69A9-86A0-4196-A9C1-D50E5E751DA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8D2-65C0-467B-B8A4-DEB3F556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91B-1160-4A0A-948D-5B946D4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37A-A593-4B4F-BC08-422610C0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F8E-EF3D-47D0-8144-81D7266D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726C-97F8-413C-97AC-47F84F0C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B87-FAC2-4C80-814D-0B1AF8D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E91-4CD5-4190-A436-9C24AC4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3E9B-ED41-451C-9DF6-6BC0C919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0A48-7952-4C86-B844-4C89AB4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02A5-EF1D-4EAF-931F-4408A1C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E7CD-61DA-4B7E-A0FB-56ADBBC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5FD-6722-471C-BFE6-E7624EB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D1C1-2E5C-4F41-BD5F-8F89189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68B-3203-4DDB-B403-516C9EA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107-84A4-42CD-AE99-AB335D0E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AE4D-3820-43B7-BCA1-3FDEA4E8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4258-4818-4320-9C9E-A6E3D3DC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BE0-8C62-4FD0-BF16-F77EC64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023-C199-438F-BDB8-62D5855C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520-0181-44B8-9F03-19A5397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CBF-F271-4FD9-BA7F-ABDF86D6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49E-5296-45B5-923C-E65E5B3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A20-2AF2-4A44-B29D-C107996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C21-A0FB-4B2B-AE00-7D24956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04B-AC03-492D-BE64-F54288EE739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52B4-763D-4B06-950D-A81D593E40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Pi&#322;sudski_16.JPG" TargetMode="External"/><Relationship Id="rId2" Type="http://schemas.openxmlformats.org/officeDocument/2006/relationships/hyperlink" Target="http://pl.wikipedia.org/wiki/Plik:Wladyslaw_Anders.jp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rena Sendlerowa (1910-200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00720" y="1299600"/>
            <a:ext cx="431928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czasie II wojny światowej jako pracowniczka ośrodka pomocy społecznej miała przepustkę do warszawskiego getta, skąd wyprowadziła i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uratowała od śmierci ponad 2,5 tysiąca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Umieszczała je w polskich przybranych rodzinach, domach dziecka i u sióstr zakonnych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 1943 r. Gestapo aresztowało ją za tę działalność,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była torturowana i skazano ją na śmierć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Rada Pomocy Żydom „Żegota” zdołała ją uratować, więc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z ukrycia nadal pracowała nad ratowaniem żydowskich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Po wojnie doświadczyła niemal tak samo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ciężkich prześladowań ze strony komunistycznego Urzędu Bezpieczeństwa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rena_Sendlerowa_1942"/>
          <p:cNvPicPr/>
          <p:nvPr/>
        </p:nvPicPr>
        <p:blipFill>
          <a:blip r:embed="rId1"/>
          <a:stretch/>
        </p:blipFill>
        <p:spPr>
          <a:xfrm>
            <a:off x="684360" y="1197000"/>
            <a:ext cx="3605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dawne wzorce przystają do współczesnośc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700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46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f. Maria Ossowska w artykule „Wzór obywatela w ustroj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atycznym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mieniła i opisała następując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obywatelsk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ole tekstowe 5" descr=""/>
          <p:cNvPicPr/>
          <p:nvPr/>
        </p:nvPicPr>
        <p:blipFill>
          <a:blip r:embed="rId1"/>
          <a:stretch/>
        </p:blipFill>
        <p:spPr>
          <a:xfrm>
            <a:off x="615960" y="2779560"/>
            <a:ext cx="8217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grody im. Jana Rodowicza „Anody”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Anoda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3289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471840" y="1268280"/>
            <a:ext cx="50608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ucznik Jan Rodowicz „Anoda” uczestniczył w akcja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łego Sabotaż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p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ostał odznaczony Krzyżem Walecznych. Podczas Powstania Warszawskiego walczył na Woli, gdzie został ciężko ranny. W 1945 r. ujawnił się i zaczął studiować architekturę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zy lata później, w Wigilię, został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resztowany  przez Urząd Bezpieczeńst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Dwa tygodnie później zmarł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męczony w śledztw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Według oficjal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rsji – popełnił samobójstw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1280" y="4869000"/>
            <a:ext cx="813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agroda im. Jana Rodowicza „Anody” została ustanowiona przez Muzeum Powstania Warszawskiego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nią wyróżnian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owstańcy” czasu pokoju – ludzie, którzy nie muszą walczyć o podstawowe wartości z bronią w ręku, ale wcielają je w ży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aureaci ostatniej edy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3059280" y="981000"/>
            <a:ext cx="568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55640" y="105264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o roku członkowie Kapituły Nagrody wyróżniają laureatów w dwóch kategoriach: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 całokształt dokonań i postawę życiową, która stanowi wzór do naśladowania dla młodych ludzi oraz za wyjątkowy czy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1. kategorii w nagrodzona została Natalia Syniavska-Krzyżanowsk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a urodziła się w Raszkowie – wiosce w Republice Naddniestrzańskiej, części Mołdawii odizolowanej od Europy. Od wielu lat w bardzo trudnych warunkach polityczno-administracyjny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ała na rzecz ochrony polskości na obczyź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2. kategorii nagrodzono mieszkańców wsi Chałupki składającej się z 14 domów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dy 3 marca 2012 r. dwa pociągi zderzyły się ze sobą w pobliżu Szczekocin koło Zawiercia (w woj. śląskim) mieszkańcy Chałupek dotarli na miejsce jako pierwsi przed służbami ratunkowymi. Wyciągali ludzi ze zmiażdżonych wagonów, dodawali otuchy, przynosili koce i ciepłą herbatę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989000"/>
            <a:ext cx="813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brym przykładem jest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erial „Czas honoru” nadawany od 2008 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, który bardzo szybko podbił serca polskich widzów (średnio każdy odcinek oglądało ok. 2,5 miliona osób). Serial opowiada o losach Janka, Bronka, Władka i Michała – jest inspirowany historią polskich dywersantów, którzy podczas II wojny światowej byli szkoleni w Anglii, by wrócić do Polski i w konspiracji walczyć o niepodległość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dza urzek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nadczasowe wartości, jakimi kierują się bohaterowie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tórym wybuch wojny przekreślił większość życiowych planów i szans na szczęście osobiste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ą oni zaangażowani i oddani sprawie walki o ojczyznę, współpracują ze sobą, mogą na sobie polegać, są szczerzy, niezawodni, zdolni do poświęceń, bezkompromisowi, odważn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250920" y="1052640"/>
            <a:ext cx="8713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1268280"/>
            <a:ext cx="856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rberyusz E., Władysław Anders. Życie po Monte Cassino, Agora, Warszawa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miński A., Kamienie na szaniec, Nasza Księgarni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rski J., Tajne Państwo, Wydawnictwo Rosner i Wspólnicy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unicki K., Ławecki T., Ochowiak L., Piłsudski. Burzliwe życie w niespokojnych czasach, Carta Blan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eszkowska A., Dzieci Ireny Sendlerowej, Wydawnictwo Muza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owak-Jeziorański J., Kurier z Warszawy, Znak, Krakó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achowicz B., Rudy, Alek, Zośka – Gawęda o Bohaterach „Kamieni na szaniec”, Rytm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684360" y="1197000"/>
            <a:ext cx="7991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Pi%C5%82sudski_16.JPG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o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Wladyslaw_Anders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mnik-ławeczka Jana Karskiego w Tel-Awiwie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 Avishai Teicher, źródło: Wikimedia Commons, http://pl.wikipedia.org/wiki/Plik:Jan_Karski_Statue_in_Tel_Aviv_University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Jan_nowak_jezioranski-1936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Tadeusz Zawadz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Tadeusz_Zawadzki_-_Zo%C5%9Bk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Irena_Sendlerowa_1942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Rodowicz „Anoda”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Anod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484280"/>
            <a:ext cx="7561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ótkie przypomnienie zagadnień omawianych na poprzedniej le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przykłady postaw obywatelskich w okresie II Rzeczpospolitej i II wojny światowej (Józef Piłsudski, Władysław Anders, Jan Karski, Jan Nowak-Jeziorański, Tadeusz Zawadzki „Zośka”, Irena Sendlerow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dawne wzorce pasują do współczesności?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groda im. Jana Rodowicza „Anody” i jej laurea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 (serial „Czas honoru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pomnienie zagadnień omawianych na poprzedniej lek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395280" y="1989000"/>
            <a:ext cx="8353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kłady postaw obywatelskich (1918-19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84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Kar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deusz Zawadzki „Zośk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 (1867-193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Piłsudski_16"/>
          <p:cNvPicPr/>
          <p:nvPr/>
        </p:nvPicPr>
        <p:blipFill>
          <a:blip r:embed="rId1"/>
          <a:stretch/>
        </p:blipFill>
        <p:spPr>
          <a:xfrm>
            <a:off x="611280" y="1052640"/>
            <a:ext cx="3647880" cy="5127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767120" y="1152360"/>
            <a:ext cx="39816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mendant Legionów Polskich, pierwszy Marszałek Polski i dwukrotnie premier Polski, uważany za genialnego stratega i męża opatrznościowego narodu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chowany w duchu tradycyjnych wartości patriotycznych, stał się w dorosłym życi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skonałym przywódcą i organizator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Autorytetu dodawała m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aryzma i wielkie oddanie sprawie polski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ładysław Anders (1892-197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Wladyslaw_Anders"/>
          <p:cNvPicPr/>
          <p:nvPr/>
        </p:nvPicPr>
        <p:blipFill>
          <a:blip r:embed="rId1"/>
          <a:stretch/>
        </p:blipFill>
        <p:spPr>
          <a:xfrm>
            <a:off x="611280" y="1341360"/>
            <a:ext cx="3389400" cy="43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335480" y="1368360"/>
            <a:ext cx="4052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czelny Wódz Polskich Sił Zbrojnych (w latach 1944-1945) i następca Prezydenta RP (w latach 1950-1954). Zwycięski wódz walk spod Monte Cassino – czerwone maki i biały koń, na którym jeździł generał weszły na zawsze do pamięci zbiorowej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ders słynął nie tylko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a w imię najwyższych idei, patriotyzmu i odwag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le też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oski o swoich podwładn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Organizował polskie szkoły i kursy zawod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arski (1914-20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00000" y="1197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003640" y="1268280"/>
            <a:ext cx="3456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d 1939 r. był kurierem i emisariuszem władz Polskiego Państwa Podziemnego. Jesienią 1942 r. pojechał do Wielkiej Brytanii z najważniejszą w swoim życiu misją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ako naoczny świadek zdał relację z eksterminacji Żyd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także przekazał szczegółowe informacje o działaniu Państwa Podziemnego w Pols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1" descr="Plik:Jan Karski Statue in Tel Aviv University.jpg"/>
          <p:cNvPicPr/>
          <p:nvPr/>
        </p:nvPicPr>
        <p:blipFill>
          <a:blip r:embed="rId1"/>
          <a:stretch/>
        </p:blipFill>
        <p:spPr>
          <a:xfrm>
            <a:off x="468360" y="126828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8"/>
          <p:cNvSpPr/>
          <p:nvPr/>
        </p:nvSpPr>
        <p:spPr>
          <a:xfrm>
            <a:off x="611280" y="4869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odstawie relacji Karskiego i przywiezionych przez niego mikrofilmów, rząd Sikorskiego przygotował i przedstawił aliantom raport o Holokauśc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Nowak-Jeziorański (1914-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Jan_nowak_jezioranski-1936"/>
          <p:cNvPicPr/>
          <p:nvPr/>
        </p:nvPicPr>
        <p:blipFill>
          <a:blip r:embed="rId1"/>
          <a:stretch/>
        </p:blipFill>
        <p:spPr>
          <a:xfrm>
            <a:off x="684360" y="1413000"/>
            <a:ext cx="319536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284720" y="1268280"/>
            <a:ext cx="424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 udanej misji kurierskiej do Sztokholmu, powierzono mu w 1943 r. bardzo odpowiedzialne zadanie – jak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misariu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miał dotrzeć do rządu RP w Londynie. W Anglii spotkał się nie tylko z rządem polskim, ale także z władzami brytyjskimi, w tym z premierem Winstonem Churchill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1944 r., w przeddzień kapitulacji Powstania Warszawskiego, na rozkaz komendanta Armii Krajow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wiózł do Londynu setki zdjęć i dokument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Jego misje sprawiły, że zyskał przydomek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Kurier z Warszawy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adeusz Zawadzki „Zośka” (1921-194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Tadeusz_Zawadzki-Zoska-scan"/>
          <p:cNvPicPr/>
          <p:nvPr/>
        </p:nvPicPr>
        <p:blipFill>
          <a:blip r:embed="rId1"/>
          <a:stretch/>
        </p:blipFill>
        <p:spPr>
          <a:xfrm>
            <a:off x="684360" y="1628640"/>
            <a:ext cx="3398760" cy="4824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4716360" y="1557360"/>
            <a:ext cx="39798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deusz – harcmistrz i podporucznik Armii Krajowej – był bardz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angażowany w akcję Małego Sabotażu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największą liczbę kotwic namalowanych na murach w swojej dzielnicy, otrzymał honorowy pseudonim „Kotwicki”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6 marca 1943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wodził grupą „Atak” w 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podczas niej udało się odbić z rąk Gestapo 25 więźniów, w tym jego przyjaciela – Jana Bytnara „Rudego”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iwona</cp:lastModifiedBy>
  <dcterms:modified xsi:type="dcterms:W3CDTF">2013-08-26T18:33:08Z</dcterms:modified>
  <cp:revision>97</cp:revision>
  <dc:subject/>
  <dc:title>Slajd 1</dc:title>
</cp:coreProperties>
</file>