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7FC5-20C1-4D58-B649-94C54210C58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AB8D-35F1-49D7-AD77-01272AF390C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8812-099B-47C5-AB2B-71D75A02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E1C3-D5EF-4CAA-92FD-7C4F9328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B73-ACCE-49DD-93B9-2952E1A8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6C5A-F70F-48C2-88A0-E2DB428A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8908-402E-46C4-8042-480EE997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4F5A-4204-4DBF-9818-389A6CDF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1F02-2E1A-44CD-9259-30868D4D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591-D1B6-4F2C-80FB-C0448C1E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3796-ABE9-4BD9-AD7D-80CA9B05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58B-63FE-4F01-AF5E-DA50F6E9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64A3-9242-468C-85F3-32B4496C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5709-3DAE-456F-A4C3-6F3A5AE3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2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3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80C1-AFA5-4A9D-98E7-F1A405723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stanie państwa polskieg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d Mieszka I do Bolesława Krzywousteg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prezentacja do pracy przy stanowiskach internetowyc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pływ stosunków feudalnych na rządy Władysława Hermana i Bolesława Krzywoustego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http://pl.wikipedia.org/wiki/W%C5%82adys%C5%82aw_I_Her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http://pl.wikipedia.org/wiki/Boles%C5%82aw_III_Krzywousty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ncepcje powstania państw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za Polski – koncepcj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olucj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państwo powstało w drodze rozwoju od systemu rodowego, poprzez plemię, państwo plemienne do państwa ponadplemiennego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azdu zewnętrzneg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na plemiona słowiańskie najechali Normanowie (lub znormanizowani Słowianie – Lechici)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boju wewnętrzneg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najsilniejsze z państw plemiennych podbiło pozostałe; koncepcja ta różni się od ewolucyjnej tylko ostatnim etape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http://forum.historia.org.pl/topic/117-dwie-teorie-czyli-geneza-powstania-panstwa-polskiego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Organizacja państ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2. Organizacja państwa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system grodowy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– wokół grodu system osad służebnych, płacących daniny w formie wyspecjalizowanych produktów (skóry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trzały, hełmy itp.) – dowody do dziś w nazwach miejscowości (Grotniki, Szczytniki, Garbary itp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prawo książęce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– system monopoli i prac przymusowych, daniny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rużyna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– zawodowa siła zbrojna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odzielona między grody, w razie wojny wspierana pospolitym ruszenie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Kościół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– struktura religijna, ale i administracj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http://pl.wikipedia.org/wiki/Prawo_Polski_protofeudaln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Koncepcje polity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3. Koncepcje polityczne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Mieszko I – państwo chrześcijański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Bolesław Chrobry – monarchia słowiańs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Bolesław Szczodry – monarchia suweren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http://www.historia.azv.pl/monarchia-boleslawa-chrobrego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http://michaelstanislaus.salon24.pl/43743,tragedia-piastow-boleslaw-szczodry-biskup-ze-szczepanow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http://alehistoria.blox.pl/2012/01/935-LAT-TEMU-BOLESLAW-SZCZODRY-KORONOWAL-SIE-NA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oncepcja zjednoczonej monarchii chrześcijańskiej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Polska_960_-_992"/>
          <p:cNvPicPr/>
          <p:nvPr/>
        </p:nvPicPr>
        <p:blipFill>
          <a:blip r:embed="rId1"/>
          <a:stretch/>
        </p:blipFill>
        <p:spPr>
          <a:xfrm>
            <a:off x="468360" y="1557360"/>
            <a:ext cx="4319640" cy="4265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5508720" y="1844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http://pl.wikipedia.org/wiki/Plik:Polska_960_-_992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ia słowiańs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Polska_992_-_1025"/>
          <p:cNvPicPr/>
          <p:nvPr/>
        </p:nvPicPr>
        <p:blipFill>
          <a:blip r:embed="rId1"/>
          <a:stretch/>
        </p:blipFill>
        <p:spPr>
          <a:xfrm>
            <a:off x="324000" y="1257480"/>
            <a:ext cx="4679640" cy="46195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6084720" y="2133720"/>
            <a:ext cx="13669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krolowie.info/boleslaw-chrobry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dział kraju – skutki wczesnego feudalizmu – Zbigniew i Bolesław III Krzywous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Plik:Polska 1102 - 1138.png"/>
          <p:cNvPicPr/>
          <p:nvPr/>
        </p:nvPicPr>
        <p:blipFill>
          <a:blip r:embed="rId1"/>
          <a:stretch/>
        </p:blipFill>
        <p:spPr>
          <a:xfrm>
            <a:off x="4284720" y="1773360"/>
            <a:ext cx="4056120" cy="3851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Plik:Mapa podziału Księstwa Polskiego w 1102.jpg"/>
          <p:cNvPicPr/>
          <p:nvPr/>
        </p:nvPicPr>
        <p:blipFill>
          <a:blip r:embed="rId2"/>
          <a:stretch/>
        </p:blipFill>
        <p:spPr>
          <a:xfrm>
            <a:off x="395280" y="1773360"/>
            <a:ext cx="379404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dział państwa w 113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Plik:Ustawa sukcesyjna Bolesława Krzywoustego.jpg"/>
          <p:cNvPicPr/>
          <p:nvPr/>
        </p:nvPicPr>
        <p:blipFill>
          <a:blip r:embed="rId1"/>
          <a:stretch/>
        </p:blipFill>
        <p:spPr>
          <a:xfrm>
            <a:off x="611280" y="1700280"/>
            <a:ext cx="4897440" cy="4102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6156360" y="1628640"/>
            <a:ext cx="259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zielnica senioralna - czerwo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enno Polski pod kontrolą princepsa - żół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iemia Władysława II - fio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iemia Bolesława IV – ciemna ziele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iemie Mieszka III - oliw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iemie Henryka – jasna ziele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prawa wdowia Salomei - róż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ryzys monarchi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1034-10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yskusja nadal trw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http://www.historycy.org/index.php?showtopic=4713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. Barański, Dynastia Piastów w Polsce. Warszawa 200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4-03T20:06:19Z</dcterms:modified>
  <cp:revision>10</cp:revision>
  <dc:subject/>
  <dc:title>Slajd 1</dc:title>
</cp:coreProperties>
</file>