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00E-6909-4603-AD8B-4374E5839E6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506-588B-4C2D-8672-332FDE74AF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E735-7ECD-4063-AC09-AB71B00134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3B8-8AB0-4325-A780-4B274687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85E-43F9-4FFE-89B4-4A62A50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201-2F81-44D1-9BF6-47B4AEC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535-47D9-4A87-A211-E2EEAE95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31E0-85D8-4267-AD0C-25E9E597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4099-8473-410F-B9F9-2A8E3BE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2398-357D-4BCE-AFB6-9A4AA4BB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CF7-F068-4C97-B39B-90DB117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8A81-BEDD-487E-8C17-654BBBD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2E68-D50D-4CD0-8E49-F810498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F02A-687F-46A0-9BD9-2BC950C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5A8-77EF-4D4C-B383-D2ACE2CC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D74C-8693-4C79-A192-9D9510F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BFD-B6DE-42D3-9441-786EF60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634D-EC63-45B4-917C-2242B35A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940-8674-4794-BCFF-7F7C0A9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7A3A-200C-4400-895F-BB97202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2C3-200B-4623-BC77-BAFEC825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E16-C0FF-45E6-87E0-DCF1B0E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B42-A100-407C-861A-FDEB137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D87-542C-48E9-BEF8-AA9E4FB6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014-7908-4066-9605-CDDCC27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F6C-11C0-40A8-A5DC-B04F7BF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43B-52D8-48DE-A55C-F178E82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7176-8507-410D-AB03-D9B3C78A969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06B-7178-487C-9A4E-224E28332AB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iercke.de/bilder/omeda/501/100790_036_1.jpg" TargetMode="External"/><Relationship Id="rId2" Type="http://schemas.openxmlformats.org/officeDocument/2006/relationships/hyperlink" Target="http://pl.wikipedia.org/wiki/Plik:Haller_and_blue_army.jpg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kcja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roczyste ślubowanie generała Józefa Hallera (Armia Błękit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333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611280" y="112536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stria przedstawiła koncepcję utworzenia w Galicji trzeciego królestw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mcy dopuszczali ewentualne powstanie mocno zależnego militarnie i gospodarczo od Niemiec tworu państwowego na części terenów Króles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sja składała bardzo niejasne deklaracje - kusiła perspektywą zjednoczenia wszystkich dawnych ziem polskich i powstaniem tworu państwowego o pewnym stopniu autonomii (Patrz: odezwa Księcia Mikołaja Mikołajewicza z sierpnia 1914 rok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Ewolucja planów niemiecko-austriackich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raz rosyjskich w związku z sytuacją militarn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latach 1916-19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358920" y="1552680"/>
            <a:ext cx="860580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Akt „Dwóch Cesarzy” z 5 listopada 1916 r. zachęcał Polaków do walki u boku Niemiec i Austrii w ramach Polskiej Siły Zbrojnej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Efektem miało być utworzenie monarchii konstytucyjnej (zależnej od wspomnianych państw). Utworzono pierwszą namiastkę władz w postaci Tymczasowej Rady Stanu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olskie środowiska na Zachodzie rozpoczynają działania polityczne na rzecz powstania państwa polskieg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Rosja w grudniu 1916 r. deklaruje utworzenie wolnego państwa polskiego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(z własnym parlamentem i wojskiem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 początku 1917 r. polskie aspiracji popiera USA i Francj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684360" y="11970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pa Europy sprzed wybuchu I wojny światowej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iercke.de/bilder/omeda/501/100790_036_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Ślubowanie gen. Haller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l.wikipedia.org/wiki/Plik:Haller_and_blue_arm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468360" y="1125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uropa przed wybuchem I wojny świat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skie oddziały wojskowe na frontach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ropa przed wybuchem I wojny światowe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7610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574560" y="1125360"/>
            <a:ext cx="8101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a rusyfikacja (nauka w języku rosyjskim, likwidacja polskich organizacji oświatowych i kulturalnych, ograniczenie liczby polskich mandatów w Dum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usyfikacja sądownic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rost liczby ludności Królestwa z 6 do 10 milionów w latach 1870-1914. Liczbę mieszkańców podwoiła Warszawa (osiągając pod koniec wieku ok. 600 tys. mieszkańców), podobnie Łód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uża liczba nowych miejsc pracy w przemyś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611280" y="981000"/>
            <a:ext cx="806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wszechna i bardzo intensywna germanizacja – władze niemieckie dążyły do całkowitego wynarodowienia Polaków. Idea pangermanizmu zakładała germanizację ziem polskich, Polaków planowano zniemczyć lub wypędzić, a na ich miejsce sprowadzić osadników niemiecki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owano także wiele ograniczeń i restrykcji budowlanych – zakazano polskim chłopom stawiania budynków na zakupionej ziemi (→ sprawa Michała Drzymał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ła się symbolem walki z germanizacj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eciwieństwie do zaboru rosyjskiego, Polacy mogli odwoływać się do regulacji prawnych, gospodarczych oraz politycznych, i próbować bronić się przed wrogimi działaniami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udność polska zmuszona do walki o swoje istnienie, tworzyła liczne organizacje krzewiące polskość oraz rozwój ekonomiczny Polak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576360" y="836640"/>
            <a:ext cx="7991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równaniu do pozostałych zaborów, tu sytuacja Polaków była stosunkowo najlepsz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alicja posiadała własny sejm i rząd krajowy we Lwowie, a język polski był językiem urzędowym. Sprawy dotyczące gospodarki krajowej, komunikacji, szkolnictwa i zdrowia leżały w kompetencjach sejmu. Z tego powodu Galicja była miejscem, gdzie powstało najwięcej polskich organizacji politycznych i kulturalnych, jak również paramilitarnych i konspiracyjnych. Była też schronieniem dla Polaków, którzy uciekali z zaboru rosyj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 i Lwowie ukazywała się polska prasa. Kwitło życie kultural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naukowe, a organizowane tu uroczystości patriotyczne (1910 r. ufundowanie przez Ignacego Paderewskiego Pomnika Grunwaldzkiego w Krakowie) miały wielki wpływ na postawy Polaków żyjących pod zaborem rosyjskim i pruski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ole tekstowe 2"/>
          <p:cNvSpPr/>
          <p:nvPr/>
        </p:nvSpPr>
        <p:spPr>
          <a:xfrm>
            <a:off x="0" y="44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4"/>
          <p:cNvSpPr/>
          <p:nvPr/>
        </p:nvSpPr>
        <p:spPr>
          <a:xfrm>
            <a:off x="611280" y="1341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360360" y="841320"/>
            <a:ext cx="85345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17928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dezwa Józefa Piłsudskiego do legionistów wydana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pierwszą rocznicę wybuchu I wojny światow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raz 1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289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skie oddziały wojskowe na fronta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41300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y Pol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e w sierpniu 1914 r. roku przez Naczelny Komitet Narodowy. Składały się z 3 Brygad. Dowodzili nimi m.in. Józef Piłsudski, Józef Halle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Stanisław Szeptyc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tworzone na terenie zaboru austriackiego operowały na terenie Królestwa Polskiego. Na bazie legionów powołano: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i Korpus Posiłk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 wrzesień 1916 r. – luty 1918 r.) oraz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ą Siłę Zbrojn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kwiecień 1917 r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4360" y="3933720"/>
            <a:ext cx="799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 Puław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y jesienią 1914 r. w zaborze rosyjskim z inicjatywy Komitetu Narodowego Polski. Pozostałe oddziały wojskowe działające od 1917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boku Rosji to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I, II , III Korpus Pol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26920" y="55450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530064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Armia Błękit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a we Francji w 1917 r. z inicjatywy Romana Dmowskiego</a:t>
            </a: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ena</cp:lastModifiedBy>
  <dcterms:modified xsi:type="dcterms:W3CDTF">2013-04-23T20:01:51Z</dcterms:modified>
  <cp:revision>89</cp:revision>
  <dc:subject/>
  <dc:title>Slajd 1</dc:title>
</cp:coreProperties>
</file>