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  <Override PartName="/ppt/comments/comment3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joa" initials="j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<Relationship Id="rId33" Type="http://schemas.openxmlformats.org/officeDocument/2006/relationships/commentAuthors" Target="commentAuthors.xml"/>
</Relationships>
</file>

<file path=ppt/comments/comment3.xml><?xml version="1.0" encoding="utf-8"?>
<p:cmLst xmlns:p="http://schemas.openxmlformats.org/presentationml/2006/main">
  <p:cm authorId="0" dt="2013-05-27T19:48:30.778000000" idx="1">
    <p:pos x="933" y="3301"/>
    <p:text>kraju z małej litery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B1B3E-DA39-4AAD-A145-88A8A8BD6DC0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55FB6-24B5-46DE-8265-496283E5A7C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79A10-20FE-4B0C-B024-CDB3F84AF55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801B-6275-451F-B9DC-15F54392C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D690-94AD-419D-BC7E-1A00CD20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0F78-8D05-4B45-8C4B-A9C8013D9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1995-01E6-42C6-A3C6-65566CA2D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B1BCE-6BE5-49D9-A58A-F601DF56E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45956-EA15-428F-A521-DF14D29D5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ED132-7C59-4E1B-BC43-AC1AC41E8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830DC-F784-456C-A3EA-EDE7A5814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D1A07-FF40-41DF-8D93-98123303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B4707-2ED0-4B1F-8DBF-8FD20BC81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E2575-B7C7-47C0-967E-B446F208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7DB4-4BCA-41DE-AFA5-D1EE0B4F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E4F2B-F5D8-4E27-98D8-42086460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9B8BE-D996-4616-8A8D-EC572F86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B98FA-0E30-4287-827E-BC6E680B1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9AB1B-01CD-4986-BA87-1AB785277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4076E-D9CA-49DE-8DF0-5F599BCF3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0475-8251-44B3-A502-F89E13C3B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1370-99D4-48CB-813D-850C2DE23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71A1-65B3-4754-9F1B-1FAEFFC92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D65E-9352-43FE-9AC0-F855E123E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696C-70C7-4E57-ABA6-0B6522A8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DB31-EC80-48BC-BBF6-C7E80C1B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DC1E-A757-4A60-A3CB-6FCECCF1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18427-FF80-4FE7-A871-EC93E3EECC7D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A6809-83A8-485F-A644-8A0CC9159883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pinakoteka.zascianek.pl/Grottger/Images/Pol6.jpg" TargetMode="External"/><Relationship Id="rId3" Type="http://schemas.openxmlformats.org/officeDocument/2006/relationships/image" Target="../media/image6.jpeg"/><Relationship Id="rId4" Type="http://schemas.openxmlformats.org/officeDocument/2006/relationships/hyperlink" Target="http://www.pinakoteka.zascianek.pl/Kossak_W/Images/Olszynka.jpg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pinakoteka.zascianek.pl/Grottger/Images/Pochod.jpg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Realizm polityczny w II połowie XIX wieku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Bartosz Rzoń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óba opor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771280" y="1483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Zabór rosyjsk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Tajne nauczani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 uczelniach wyższych powstawały kółka samokształceniow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rganizowano nielegalne kursy języka polskiego, literatury, geografii i historii Polsk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zemycano polskie książki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 Galicj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rganizowano strajki, manifestacje i zamachy na policjantów i urzędników (1905 r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aczęto domagać się przywrócenia autonomi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ładze carskie poszły na pewne ustępstwa (m.in. pozwolono zakładać prywatne szkoły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lityka państw zaborczych po klęsce powstania styczniow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C:\Users\Bartek\Downloads\Wrzesnia.jpg"/>
          <p:cNvPicPr/>
          <p:nvPr/>
        </p:nvPicPr>
        <p:blipFill>
          <a:blip r:embed="rId1"/>
          <a:stretch/>
        </p:blipFill>
        <p:spPr>
          <a:xfrm>
            <a:off x="1763640" y="1844640"/>
            <a:ext cx="5688000" cy="3651120"/>
          </a:xfrm>
          <a:prstGeom prst="rect">
            <a:avLst/>
          </a:prstGeom>
          <a:ln w="0">
            <a:noFill/>
          </a:ln>
        </p:spPr>
      </p:pic>
      <p:sp>
        <p:nvSpPr>
          <p:cNvPr id="132" name="pole tekstowe 9"/>
          <p:cNvSpPr/>
          <p:nvPr/>
        </p:nvSpPr>
        <p:spPr>
          <a:xfrm>
            <a:off x="1715760" y="5589720"/>
            <a:ext cx="3359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7. Oporne dzieci we Wrześni w 1901 r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upload.wikimedia.org/wikipedia/commons/6/67/Wrzesnia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óba opor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56000" y="148392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Zabór prusk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szystkie warstwy społeczne brały udział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walce o polskość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Tworzyły się kółka rolnicze, banki ludowe, stowarzyszenia śpiewacze, które przeciwstawiały się germanizacj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rządzano bojkoty lekcji (strajk dzieci we Wrześn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alczono z ustawami osadniczymi (sławny wóz Drzymały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lityka państw zaborczych po klęsce powstania styczniow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Stanczyk"/>
          <p:cNvPicPr/>
          <p:nvPr/>
        </p:nvPicPr>
        <p:blipFill>
          <a:blip r:embed="rId1"/>
          <a:stretch/>
        </p:blipFill>
        <p:spPr>
          <a:xfrm>
            <a:off x="1979640" y="1844640"/>
            <a:ext cx="5256360" cy="3922920"/>
          </a:xfrm>
          <a:prstGeom prst="rect">
            <a:avLst/>
          </a:prstGeom>
          <a:ln w="0">
            <a:noFill/>
          </a:ln>
        </p:spPr>
      </p:pic>
      <p:sp>
        <p:nvSpPr>
          <p:cNvPr id="139" name="pole tekstowe 8"/>
          <p:cNvSpPr/>
          <p:nvPr/>
        </p:nvSpPr>
        <p:spPr>
          <a:xfrm>
            <a:off x="1930320" y="5805360"/>
            <a:ext cx="32637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5. Stańczyk, malował Jan Matejko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www.pinakoteka.zascianek.pl/Matejko/Images/Stanczyk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lityka państw zaborczych po klęsce powstania styczniow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56000" y="148392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Zabór austriack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 1867 r. duży zakres autonomi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rzędy i administracja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rękach Polakó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szkołach obowiązywał język polsk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zwolono bez przeszkód na rozwój nauki(założono Akademię Umiejętności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Krakowi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zwolono na rozwój kultury polskiej (m.in. Teatry w Krakowie i we Lwowi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zwolono obchodzić ważne uroczystości narodow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Budziła się świadomość narodowa Ukraińców (konflikt z Polakami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Na ziemi mogił pogasły ognie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- postawy społeczeństwa polskiego po klęsce powstania styczniowe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ole tekstowe 10"/>
          <p:cNvSpPr/>
          <p:nvPr/>
        </p:nvSpPr>
        <p:spPr>
          <a:xfrm>
            <a:off x="1908000" y="3141720"/>
            <a:ext cx="5472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„ 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Marzenia o odzyskaniu samoistności zewnętrznej ustąpić dziś winny staraniom o samodzielność wewnętrzną(…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Los zamknął nasze życzenia i nadzieje </a:t>
            </a:r>
            <a:br>
              <a:rPr sz="2400"/>
            </a:b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w pracy cywilizacyjnej”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Aleksander Świętochowski,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skazania polityczne, 1882 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stawy społeczeństwa polskiego po klęsce powstania styczniow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2" descr="D:\scenariusze lekcji do przetargu\do realizacji\Realizm polityczny w II poł XIX w\grafika\Rys_8_T09_10_car_Aleksander _III.jpg"/>
          <p:cNvPicPr/>
          <p:nvPr/>
        </p:nvPicPr>
        <p:blipFill>
          <a:blip r:embed="rId1"/>
          <a:stretch/>
        </p:blipFill>
        <p:spPr>
          <a:xfrm>
            <a:off x="3203640" y="1628640"/>
            <a:ext cx="2655720" cy="3789360"/>
          </a:xfrm>
          <a:prstGeom prst="rect">
            <a:avLst/>
          </a:prstGeom>
          <a:ln w="0">
            <a:noFill/>
          </a:ln>
        </p:spPr>
      </p:pic>
      <p:sp>
        <p:nvSpPr>
          <p:cNvPr id="149" name="pole tekstowe 4"/>
          <p:cNvSpPr/>
          <p:nvPr/>
        </p:nvSpPr>
        <p:spPr>
          <a:xfrm>
            <a:off x="3160440" y="5516640"/>
            <a:ext cx="39754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8. Car Aleksander III, malował N. Kramskoi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upload.wikimedia.org/wikipedia/commons/e/e7/Kramskoy_Alexander_III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stawy społeczeństwa polskiego po klęsce powstania styczniow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zukanie nowych dróg działań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krajny lojalizm – bezwarunkowa wierność wobec cara (Zygmunt Wielopolski) nie miał wielu zwolennikó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ublicyści skupieni wokół pisma „Kraj” – ugodowość może przynieść pewne korzyści dla narodu polskiego, kultura polska wzbogaci kulturę rosyjską, a Polacy staną się uczestnikami federacji ogólno rosyjskiej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ole tekstowe 3"/>
          <p:cNvSpPr/>
          <p:nvPr/>
        </p:nvSpPr>
        <p:spPr>
          <a:xfrm>
            <a:off x="2124000" y="1700280"/>
            <a:ext cx="5543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Bo nie żadnym błyskiem stali, </a:t>
            </a:r>
            <a:br>
              <a:rPr sz="2400"/>
            </a:b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Nie natchnionych tonów mocą </a:t>
            </a:r>
            <a:br>
              <a:rPr sz="2400"/>
            </a:b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Ludy czoła swe ozłocą; </a:t>
            </a:r>
            <a:br>
              <a:rPr sz="2400"/>
            </a:b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Tylko pracą i mądrością,</a:t>
            </a:r>
            <a:br>
              <a:rPr sz="2400"/>
            </a:b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Tylko trudem i mądrością </a:t>
            </a:r>
            <a:br>
              <a:rPr sz="2400"/>
            </a:b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Przyszłość serca ich zapali”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arol Świdziński,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przód pracą, 1872 r.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stawy społeczeństwa polskiego po klęsce powstania styczniow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2" descr="Rys_8_T09_10_Henryk_Sienkiewicz"/>
          <p:cNvPicPr/>
          <p:nvPr/>
        </p:nvPicPr>
        <p:blipFill>
          <a:blip r:embed="rId1"/>
          <a:stretch/>
        </p:blipFill>
        <p:spPr>
          <a:xfrm>
            <a:off x="826920" y="1844640"/>
            <a:ext cx="2953080" cy="3535560"/>
          </a:xfrm>
          <a:prstGeom prst="rect">
            <a:avLst/>
          </a:prstGeom>
          <a:ln w="0">
            <a:noFill/>
          </a:ln>
        </p:spPr>
      </p:pic>
      <p:sp>
        <p:nvSpPr>
          <p:cNvPr id="155" name="pole tekstowe 4"/>
          <p:cNvSpPr/>
          <p:nvPr/>
        </p:nvSpPr>
        <p:spPr>
          <a:xfrm>
            <a:off x="711720" y="5445000"/>
            <a:ext cx="382932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9. Henryk Sinkiewicz, malował K. Mordasewicz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upload.wikimedia.org/wikipedia/commons/6/6f/Henryk_Sienkiewicz.PN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3" descr="Rys_9_T09_10_Boleslaw_Prus"/>
          <p:cNvPicPr/>
          <p:nvPr/>
        </p:nvPicPr>
        <p:blipFill>
          <a:blip r:embed="rId2"/>
          <a:stretch/>
        </p:blipFill>
        <p:spPr>
          <a:xfrm>
            <a:off x="5364000" y="1844640"/>
            <a:ext cx="2700360" cy="3529080"/>
          </a:xfrm>
          <a:prstGeom prst="rect">
            <a:avLst/>
          </a:prstGeom>
          <a:ln w="0">
            <a:noFill/>
          </a:ln>
        </p:spPr>
      </p:pic>
      <p:sp>
        <p:nvSpPr>
          <p:cNvPr id="157" name="pole tekstowe 6"/>
          <p:cNvSpPr/>
          <p:nvPr/>
        </p:nvSpPr>
        <p:spPr>
          <a:xfrm>
            <a:off x="5219640" y="5445000"/>
            <a:ext cx="392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10. Bolesław Prus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www.mbp.info.kalisz.pl/2012/120511_F16_B_Prus/DSCN3200_1280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lan prezentac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Bilans powstań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lityka państw zaborczych po klęsce powstania stycznioweg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stawa społeczeństwa polskiego po klęsce powstania styczniowego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dsumowani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stawy społeczeństwa polskiego po klęsce powstania styczniow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zytywizm polski – dążenie do postępu cywilizacyjnego poprzez aktywność gospodarczą, pracę oświatową, twórczość naukową i kulturaln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zytywiści lansowali tezę o pracy organicznej – praca nad oświeceniem i wzbogaceniem narodu przy wykorzystaniu możliwości jakie dają aktualne warunki historyczn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stawy społeczeństwa polskiego po klęsce powstania styczniow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raca organiczna, czyli praca u podstaw, wciągnięcie wszystkich mas ludowych do życia społecznego, emancypacja kobiet, rozbudowa instytucji pomocowy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Bohaterstwo umiejętnego życia”  zamiast „bohaterstwa pięknego umierania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stawy społeczeństwa polskiego po klęsce powstania styczniow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2" descr="Rys_10_T09_10_Franciszek_Jozef_I_Habsburg"/>
          <p:cNvPicPr/>
          <p:nvPr/>
        </p:nvPicPr>
        <p:blipFill>
          <a:blip r:embed="rId1"/>
          <a:stretch/>
        </p:blipFill>
        <p:spPr>
          <a:xfrm>
            <a:off x="3132000" y="1628640"/>
            <a:ext cx="2808360" cy="3745080"/>
          </a:xfrm>
          <a:prstGeom prst="rect">
            <a:avLst/>
          </a:prstGeom>
          <a:ln w="0">
            <a:noFill/>
          </a:ln>
        </p:spPr>
      </p:pic>
      <p:sp>
        <p:nvSpPr>
          <p:cNvPr id="164" name="pole tekstowe 4"/>
          <p:cNvSpPr/>
          <p:nvPr/>
        </p:nvSpPr>
        <p:spPr>
          <a:xfrm>
            <a:off x="3088440" y="5445000"/>
            <a:ext cx="448920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11. Franciszek Józef I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upload.wikimedia.org/wikipedia/commons/4/46/Franciszek_J%C3%B3zef_I_Habsburg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stawy społeczeństwa polskiego po klęsce powstania styczniow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Galicji wytworzyło się silne środowisko polityczne reprezentujące koncepcje ugodow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 wojnie austriacko-pruskiej ugodowcy zadeklarowali lojalność wobec cesarza Franciszka Józef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rzy Tobie, Najjaśniejszy Panie, stoimy i stać chcemy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publikowali cykl artykułów pod nazwą „Teka Stańczyka”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stawy społeczeństwa polskiego po klęsce powstania styczniow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tańczycy reprezentowali poglądy konserwatywne, władzę powinny sprawować „klasy historyczne”, w przeciwnym razie grozi chaos i anarchia, naród powinien dojrzeć pod obcym panowani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Głosili teorie trójlojalizmu – społeczeństwo polskie każdego zaboru powinno być lojalne wobec swojego państwa zaborczeg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 tej grupy wywodzi się krakowska szkoła historycz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A Ty którą drogę byś wybrał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2" descr="Rys_12_T09_10_wjazd_cesarza_Franciszek_Jozef_do_Krakowa"/>
          <p:cNvPicPr/>
          <p:nvPr/>
        </p:nvPicPr>
        <p:blipFill>
          <a:blip r:embed="rId1"/>
          <a:stretch/>
        </p:blipFill>
        <p:spPr>
          <a:xfrm>
            <a:off x="2484360" y="1413000"/>
            <a:ext cx="4464000" cy="3112920"/>
          </a:xfrm>
          <a:prstGeom prst="rect">
            <a:avLst/>
          </a:prstGeom>
          <a:ln w="0">
            <a:noFill/>
          </a:ln>
        </p:spPr>
      </p:pic>
      <p:sp>
        <p:nvSpPr>
          <p:cNvPr id="171" name="pole tekstowe 4"/>
          <p:cNvSpPr/>
          <p:nvPr/>
        </p:nvSpPr>
        <p:spPr>
          <a:xfrm>
            <a:off x="2556000" y="4581360"/>
            <a:ext cx="420840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12. Wjazd cesarza Franciszka Józefa do Krakowa, malował J. Kossa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www.pinakoteka.zascianek.pl/Kossak_Jul/Images/Franciszek_Jozef_1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rostokąt 5"/>
          <p:cNvSpPr/>
          <p:nvPr/>
        </p:nvSpPr>
        <p:spPr>
          <a:xfrm>
            <a:off x="1476360" y="515772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I dlaczeg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dsumowan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8360" y="2276640"/>
            <a:ext cx="8229600" cy="21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bór pruski dostarczył przyszłemu państwu polskiemu dobrych gospodarzy, zabór rosyjski – konspiratorów, Galicja – urzędników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 doświadczonych parlamentarzystó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Bilans powsta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 militarnego punktu widzenia żadne powstanie nie miało większych sza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ostały wykorzystane przez zaborców do likwidacji pewnej autonomii uzyskanej po 1815 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ielu wartościowych ludzi zginęło, zostało skazanych na zesłanie lub musiało uciekać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 Kraj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A Ty jak uważasz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39640" y="1989000"/>
            <a:ext cx="8229600" cy="7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zy były jakieś pozytywne skutk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D:\scenariusze lekcji do przetargu\do realizacji\Realizm polityczny w II poł XIX w\grafika\Rys_1_T09_10_Polonia_Obrona_dworu.jpg"/>
          <p:cNvPicPr/>
          <p:nvPr/>
        </p:nvPicPr>
        <p:blipFill>
          <a:blip r:embed="rId1"/>
          <a:stretch/>
        </p:blipFill>
        <p:spPr>
          <a:xfrm>
            <a:off x="539640" y="2997360"/>
            <a:ext cx="3527640" cy="2725560"/>
          </a:xfrm>
          <a:prstGeom prst="rect">
            <a:avLst/>
          </a:prstGeom>
          <a:ln w="0">
            <a:noFill/>
          </a:ln>
        </p:spPr>
      </p:pic>
      <p:sp>
        <p:nvSpPr>
          <p:cNvPr id="104" name="pole tekstowe 4"/>
          <p:cNvSpPr/>
          <p:nvPr/>
        </p:nvSpPr>
        <p:spPr>
          <a:xfrm>
            <a:off x="560520" y="5805360"/>
            <a:ext cx="309636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1. Obrona dworu, malował A. Grottg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pinakoteka.zascianek.pl/Grottger/Images/Pol6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3" descr="C:\Users\Bartek\Downloads\Olszynka.jpg"/>
          <p:cNvPicPr/>
          <p:nvPr/>
        </p:nvPicPr>
        <p:blipFill>
          <a:blip r:embed="rId3"/>
          <a:stretch/>
        </p:blipFill>
        <p:spPr>
          <a:xfrm>
            <a:off x="4427640" y="3141720"/>
            <a:ext cx="3976560" cy="2520720"/>
          </a:xfrm>
          <a:prstGeom prst="rect">
            <a:avLst/>
          </a:prstGeom>
          <a:ln w="0">
            <a:noFill/>
          </a:ln>
        </p:spPr>
      </p:pic>
      <p:sp>
        <p:nvSpPr>
          <p:cNvPr id="106" name="pole tekstowe 6"/>
          <p:cNvSpPr/>
          <p:nvPr/>
        </p:nvSpPr>
        <p:spPr>
          <a:xfrm>
            <a:off x="4450680" y="5805360"/>
            <a:ext cx="33490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2. Olszynka Grochowska, malował W. Kossa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pinakoteka.zascianek.pl/Kossak_W/Images/Olszynka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ymbol zastępczy zawartości 2"/>
          <p:cNvSpPr/>
          <p:nvPr/>
        </p:nvSpPr>
        <p:spPr>
          <a:xfrm>
            <a:off x="539640" y="1268280"/>
            <a:ext cx="822960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ak oceniasz powstania narodow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Bilans powstań c.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zór postaw patriotyczny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radycja powstańcza odegrała dużą rolę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kształtowaniu świadomości narodowej (także chłopów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?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Rys_3_T09_10_pochod_na_sybir"/>
          <p:cNvPicPr/>
          <p:nvPr/>
        </p:nvPicPr>
        <p:blipFill>
          <a:blip r:embed="rId1"/>
          <a:stretch/>
        </p:blipFill>
        <p:spPr>
          <a:xfrm>
            <a:off x="4572000" y="3429000"/>
            <a:ext cx="4032360" cy="2360520"/>
          </a:xfrm>
          <a:prstGeom prst="rect">
            <a:avLst/>
          </a:prstGeom>
          <a:ln w="0">
            <a:noFill/>
          </a:ln>
        </p:spPr>
      </p:pic>
      <p:sp>
        <p:nvSpPr>
          <p:cNvPr id="111" name="pole tekstowe 4"/>
          <p:cNvSpPr/>
          <p:nvPr/>
        </p:nvSpPr>
        <p:spPr>
          <a:xfrm>
            <a:off x="4500720" y="5805360"/>
            <a:ext cx="32702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3. Pochód na Sybir, malował A. Grottg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pinakoteka.zascianek.pl/Grottger/Images/Pochod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lityka państw zaborczych po klęsce powstania styczniow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26920" y="1483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Zabór rosyjsk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likwidowano odrębność administracyjn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mieniono nazwę na „Priwislinskij Kraj”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(Kraj Nadwiślański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prowadzono język rosyjski jako urzędow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ześladowano Kościół (zlikwidowano Kościół unick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silono i rozbudowano system represj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e wszystkich szkołach wprowadzono język rosyjski jako wykładowy i usuwano polską kadrę pedagogiczną („noc Apuchtinowska”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lityka państw zaborczych po klęsce powstania styczniow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C:\Users\Bartek\Downloads\Rugi_pruskie.jpg"/>
          <p:cNvPicPr/>
          <p:nvPr/>
        </p:nvPicPr>
        <p:blipFill>
          <a:blip r:embed="rId1"/>
          <a:stretch/>
        </p:blipFill>
        <p:spPr>
          <a:xfrm>
            <a:off x="1619280" y="1700280"/>
            <a:ext cx="6048360" cy="3863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8" name="pole tekstowe 8"/>
          <p:cNvSpPr/>
          <p:nvPr/>
        </p:nvSpPr>
        <p:spPr>
          <a:xfrm>
            <a:off x="1644480" y="5805360"/>
            <a:ext cx="351684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4. Rugi pruskie, malował W. Kossa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http://www.pinakoteka.zascianek.pl/Kossak_W/Images/Rugi_pruskie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lityka państw zaborczych po klęsce powstania styczniow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56000" y="148392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Zabór prusk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prowadzono język niemiecki, jako urzędow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Rozpoczęto walkę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 Kościołem katolickim tzw. Kulturkampf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ykupywano ziemie należące do Polaków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 sprzedawano niemieckim kolonizatoro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zymusowo  wysiedlano ludność polską tzw. Rugi pruski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Całkowicie usunięto język polski ze szkó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lityka państw zaborczych po klęsce powstania styczniow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3" descr="C:\Users\Bartek\Downloads\Wiosna_roku_1905.jpg"/>
          <p:cNvPicPr/>
          <p:nvPr/>
        </p:nvPicPr>
        <p:blipFill>
          <a:blip r:embed="rId1"/>
          <a:stretch/>
        </p:blipFill>
        <p:spPr>
          <a:xfrm>
            <a:off x="1692360" y="1628640"/>
            <a:ext cx="5759280" cy="4040280"/>
          </a:xfrm>
          <a:prstGeom prst="rect">
            <a:avLst/>
          </a:prstGeom>
          <a:ln w="0">
            <a:noFill/>
          </a:ln>
        </p:spPr>
      </p:pic>
      <p:sp>
        <p:nvSpPr>
          <p:cNvPr id="125" name="pole tekstowe 10"/>
          <p:cNvSpPr/>
          <p:nvPr/>
        </p:nvSpPr>
        <p:spPr>
          <a:xfrm>
            <a:off x="1645560" y="5732640"/>
            <a:ext cx="3801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6. Wiosna roku 1905, malował S. Masłowski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www.pinakoteka.zascianek.pl/Maslowski/Images/Wiosna_roku_1905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Bartek</cp:lastModifiedBy>
  <dcterms:modified xsi:type="dcterms:W3CDTF">2013-06-02T15:43:07Z</dcterms:modified>
  <cp:revision>153</cp:revision>
  <dc:subject/>
  <dc:title>Slajd 1</dc:title>
</cp:coreProperties>
</file>