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0282-9CB1-4BF1-A46B-217B19188F9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85AD-B105-4E4C-8E2D-D0589E8CA8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AA20-E889-4C96-8072-1790CA31AF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A7D5-9590-4E59-BB6A-CC41D3A908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350A-2A14-442E-9B25-516C4882AE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BB0B-0956-4745-80A3-42292BF86F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4710-D4EF-4464-BDB1-66923AB0C4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7364-C6C6-4D22-8FE2-9DF969D9FB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9AA-F88C-4C2B-BB73-129B532656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24A6-3919-4FAF-A5AB-1C02FD8D90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C645-E532-4709-BBF8-AB494A2FDE5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AC4-9162-464E-B871-836EBE12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548-FF58-4DD2-AE15-B445DB12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FAE-E95C-4FFA-9AB8-B16F02A0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F75-7087-4160-AAA1-A73649EF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F1B5-0F06-4730-9878-0438D01E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2787-396E-4D3B-96EF-985C8139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B1AE-E123-400B-B7DF-5B68B00E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9E65-9A49-4DFA-9059-080A7086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A107-2AE2-447E-A716-1C5D72E2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06E3-373E-49A8-98E0-B181733D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A9D4-4B57-46FB-B08E-5FB2180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60D-B713-4357-BBBE-A4BE276B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F129-8564-4C64-8193-3947C4A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1943-2C42-41BE-8EB0-BE4360AC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65BF-14C7-4FCA-8EF3-FCC15CAB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4A68-8635-416A-AF54-4BCF902C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296E-DAB8-4F21-80C8-1FE9EA59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E76-38FA-4447-859F-F605F197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54B-2ED4-4F66-BD68-E4419E66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22D-7073-4843-8307-F425BB9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2DB-C14C-45BB-A292-0D0E11D0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238-AF38-4AEE-B817-5022CED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8BF-9BB9-4B22-8E53-C49982A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9EA-A5C2-414D-94C6-955CD51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D46B-39AE-43EC-80ED-B8BB9C741A1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2C90-0B9F-41E1-9B32-F9675FCCD32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www.pmk-wuppertal.de/kwartalnik_nasz_kosciol/kwartalnik25/swienta_swientych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chidiecezja.pl/include/article_img/olesnicki.jpg" TargetMode="External"/><Relationship Id="rId2" Type="http://schemas.openxmlformats.org/officeDocument/2006/relationships/hyperlink" Target="http://wiadomosci.wp.pl/kat,1342,title,Chcial-zabic-Gomulke-stracono-go-na-szubienicy,wid,14042997,wiadomosc.html?ticaid=110c53&amp;_ticrsn=5" TargetMode="External"/><Relationship Id="rId3" Type="http://schemas.openxmlformats.org/officeDocument/2006/relationships/hyperlink" Target="http://www.archidiecezja.pl/include/article_img/olesnicki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pn.poczytaj.pl/11625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p2w.pl/pl/33769/0/Biskup_Czeslaw_Kaczmarek_1895-1963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zb35PwkKgk" TargetMode="External"/><Relationship Id="rId2" Type="http://schemas.openxmlformats.org/officeDocument/2006/relationships/hyperlink" Target="http://www.youtube.com/watch?v=aVD-lgaLOs0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280" y="1591920"/>
            <a:ext cx="511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. Polski Panteon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17.Kościół katolicki wobec komuniz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mk-wuppertal.de/kwartalnik_nasz_kosciol/kwartalnik25/swienta_swientych.ht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11"/>
          <p:cNvPicPr/>
          <p:nvPr/>
        </p:nvPicPr>
        <p:blipFill>
          <a:blip r:embed="rId3"/>
          <a:stretch/>
        </p:blipFill>
        <p:spPr>
          <a:xfrm>
            <a:off x="395280" y="1268280"/>
            <a:ext cx="247644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wieczki Wyszyńskiego kontra barany Gomułki, czyli Mille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(196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6"/>
          <p:cNvSpPr/>
          <p:nvPr/>
        </p:nvSpPr>
        <p:spPr>
          <a:xfrm>
            <a:off x="4859280" y="4076640"/>
            <a:ext cx="42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adomosci.wp.pl/kat,1342,title,Chcial-zabic-Gomulke-stracono-go-na-szubienicy,wid,14042997,wiadomosc.html?ticaid=110c53&amp;_ticrsn=5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7"/>
          <p:cNvSpPr/>
          <p:nvPr/>
        </p:nvSpPr>
        <p:spPr>
          <a:xfrm>
            <a:off x="0" y="4292640"/>
            <a:ext cx="1908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s://upload.wikimedia.org/wikipedia/en/thumb/4/42/Wyszy%C5%84ski.jpg/220px-Wyszy%C5%84ski.jpg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0" descr="220px-Wyszy%C5%84ski"/>
          <p:cNvPicPr/>
          <p:nvPr/>
        </p:nvPicPr>
        <p:blipFill>
          <a:blip r:embed="rId4"/>
          <a:stretch/>
        </p:blipFill>
        <p:spPr>
          <a:xfrm>
            <a:off x="179280" y="1557360"/>
            <a:ext cx="2095560" cy="2705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pap_gomulka_600"/>
          <p:cNvPicPr/>
          <p:nvPr/>
        </p:nvPicPr>
        <p:blipFill>
          <a:blip r:embed="rId5"/>
          <a:stretch/>
        </p:blipFill>
        <p:spPr>
          <a:xfrm>
            <a:off x="4859280" y="1484280"/>
            <a:ext cx="3721320" cy="2481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6"/>
          <p:cNvSpPr/>
          <p:nvPr/>
        </p:nvSpPr>
        <p:spPr>
          <a:xfrm>
            <a:off x="2340000" y="2421000"/>
            <a:ext cx="2376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óba zawłaszczenia rocznicy chrztu (jako 1000-lecie państwa polski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rót do polityki ateizacji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Normalizacja stosunków prawnych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ormalizacja, zgody na budownictw0 sakral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prawa stosunków na linii Polska-Watyk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Nieznaczna normalizacja w I połowie lat 70-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4360" y="1916280"/>
            <a:ext cx="54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mowy ze Stolicą Apostolsk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gody na budowy kościołów (m.in. w Nowej Hucie, która miała być miastem bez kościołó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0" descr="Plik:KościółMatkiBożejKrólowejPolski(Arka)-UlicaObrońcówKrzyża-POL, Kraków.jpg"/>
          <p:cNvPicPr/>
          <p:nvPr/>
        </p:nvPicPr>
        <p:blipFill>
          <a:blip r:embed="rId1"/>
          <a:stretch/>
        </p:blipFill>
        <p:spPr>
          <a:xfrm>
            <a:off x="5651640" y="1700280"/>
            <a:ext cx="3090600" cy="2317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6804000" y="4057920"/>
            <a:ext cx="197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Ko%C5%9Bci%C3%B3%C5%82MatkiBo%C5%BCejKr%C3%B3lowejPolski(Arka)-UlicaObro%C5%84c%C3%B3wKrzy%C5%BCa-POL,_Krak%C3%B3w.jpg, dostęp 29/05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Jan Paweł II (1978 -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50920" y="292428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pielgrzymka do Ojczyzny – 1979 – spotkania z wiernymi uważane są za początek końca komunizmu. Polscy katolicy zobaczyli, że są liczni, zorganizowani i sil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uga (1983) – obudziła załamanego stanem wojennym ducha opozy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lgrzymek do Polski błogosławiony papież odbył jeszcze sześ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79280" y="52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ze streszczeniem pielgrzyme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7xXt03ODl0E, dostęp 20.05.201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1" descr="Plik:JohannesPaul2-portrait.jpg"/>
          <p:cNvPicPr/>
          <p:nvPr/>
        </p:nvPicPr>
        <p:blipFill>
          <a:blip r:embed="rId1"/>
          <a:stretch/>
        </p:blipFill>
        <p:spPr>
          <a:xfrm>
            <a:off x="250920" y="404640"/>
            <a:ext cx="1800000" cy="220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2124000" y="166608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JohannesPaul2-portrait.jpg, dostęp 20.05.20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epresje po stanie wojenny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ieznani sprawcy” – lista bandyckich napaści na kapłan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zmocnienie krytyki medialnej Kościo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strożność – władza Kościelna również odpowiednio ostrożnie reagu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Zaangażowanie Kościoła po stronie „Solidarności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Ks. Jerzy Popiełuszko, kapelan „Solidarności” i jego męczeńska śmier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rymasowski Komitet Pomocy Osobom Pozbawionym Wolności i Ich Rodzinom  był niezastąpionym wsparciem dla opozycji w czasach stanu wojen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strożna polityka prymasa Józefa Glempa i zaangażowanie w pośredniczeniu między władzą a opozycją w krytycznych latach 1988-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dtytuł 3"/>
          <p:cNvSpPr/>
          <p:nvPr/>
        </p:nvSpPr>
        <p:spPr>
          <a:xfrm>
            <a:off x="250920" y="333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statnia runda – 1980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1- zdobywanie władz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ładza jest ostrożna wobec Kościoł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rywa konkordat, ale nie odżegnuje się od praktyk religij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ikwiduje opozycję, szkodzi Kościołowi atakami „niezależnej prasy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Bolesław Bierut (oficjalnie bezpartyjny prezydent) demonstracyjnie brał udział we Mszach Św. Celem było przekonanie prostych ludzi o patriotyczno-religijnym charakterze nowych władz. Jednocześnie odwołano konkordat ze Stolicą Apostolsk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emonstracyjna pobożność partyjnych przywódc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organizacje_mlodziezowe_1947-49_400_267"/>
          <p:cNvPicPr/>
          <p:nvPr/>
        </p:nvPicPr>
        <p:blipFill>
          <a:blip r:embed="rId1"/>
          <a:stretch/>
        </p:blipFill>
        <p:spPr>
          <a:xfrm>
            <a:off x="1187280" y="3213000"/>
            <a:ext cx="3810240" cy="2543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580000" y="3573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lesław Bierut uczestniczy we Mszy św. we Wrześ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3850920" y="3933720"/>
            <a:ext cx="2050920" cy="5032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3"/>
          <p:cNvSpPr/>
          <p:nvPr/>
        </p:nvSpPr>
        <p:spPr>
          <a:xfrm>
            <a:off x="324000" y="4869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pn.poczytaj.pl/11625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9640" y="47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zw. księża – patrioci (1949 -19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9" descr="Ruch Księży patriotów w województwie katowickim w latach 1949-1956"/>
          <p:cNvPicPr/>
          <p:nvPr/>
        </p:nvPicPr>
        <p:blipFill>
          <a:blip r:embed="rId2"/>
          <a:stretch/>
        </p:blipFill>
        <p:spPr>
          <a:xfrm>
            <a:off x="3348000" y="1197000"/>
            <a:ext cx="2857680" cy="4143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9640" y="1413000"/>
            <a:ext cx="23036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mysł z 1949 wyszedł od rosyjskiego gen. Iwana Siero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sięża ci działali przy oficjalnej organizacji kombatanckiej (ZBOWi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588000" y="1268280"/>
            <a:ext cx="2305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ama nazwa sugerowała, że patriotami są tylko ci księża, którzy współpracują z władz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2- utrwalanie władz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zorne umowy (1950) i zaostrzenie repres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ieprzestrzeganie umów z Kościoł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2- utrwalanie władz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więzienia najbardziej niepokornyc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opniowe znoszenie nauczania religi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óba kontroli świeckiej nad Kościołem poprzez „księzy patriotów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Sprawa biskupa Czesława Kaczma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5"/>
          <p:cNvSpPr/>
          <p:nvPr/>
        </p:nvSpPr>
        <p:spPr>
          <a:xfrm>
            <a:off x="324000" y="422100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jp2w.pl/pl/33769/0/Biskup_Czeslaw_Kaczmarek_1895-1963.htm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8" descr="przesladowanie_kosciola_bp_stanislaw_kaczmarek"/>
          <p:cNvPicPr/>
          <p:nvPr/>
        </p:nvPicPr>
        <p:blipFill>
          <a:blip r:embed="rId2"/>
          <a:stretch/>
        </p:blipFill>
        <p:spPr>
          <a:xfrm>
            <a:off x="324000" y="1413000"/>
            <a:ext cx="2027160" cy="280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2987640" y="1484280"/>
            <a:ext cx="5400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y 21 stycznia 195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ezwzględnie torturowany w śledztw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azany pod zarzutem szpiegostwa w pokazowym procesie (153) na 12 lat więzi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olniony w 1957 roku, nadal prześladowany przez władze (żądano jego zwolnienia ze stanowisk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edy nie udało się złamać biskupa sięgnięto po oszczerstwa, publikowane przez działacza ruchu księży-patrio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3 – „odwilż” i ostre starc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prawa stosunków państwo Kośció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isław Wyszyński wychodzi z więzienia, lecz nie zmienia negatywnej postawy wobec komunis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chody Millenium irytują komunist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ładze zaostrzają kurs – znoszą relgię w szkołach, oraganizują konkurencyjne do Millenium impre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ędzie biskupów polskich do biskupów niemieckich-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77336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 Prosimy Was, katoliccy Pasterze Narodu niemieckiego, abyście na własny sposób obchodzili z nami nasze chrześcijański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lleni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ym jak najbardziej chrześcijańskim, ale i bardzo ludzkim duchu, wyciągamy do Was, siedzących tu, na ławach kończącego się Soboru, nasze ręce oraz udzielamy wybaczenia i prosimy o nie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50920" y="45079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zb35PwkKg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11280" y="5445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isteryczna reakcja PZPR – „nie prosimy i nie wybaczamy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24000" y="494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2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aVD-lgaLOs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27T17:36:15Z</dcterms:modified>
  <cp:revision>38</cp:revision>
  <dc:subject/>
  <dc:title>Slajd 1</dc:title>
</cp:coreProperties>
</file>