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8.wmf" ContentType="image/x-wmf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22.jpeg" ContentType="image/jpeg"/>
  <Override PartName="/ppt/media/image21.png" ContentType="image/png"/>
  <Override PartName="/ppt/media/image4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F3C4A-A4B5-4F74-A383-DFB11D257C9B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D9BAB-55A4-4BB3-87B4-F0EA9E7943D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70ADC-61C4-4D76-9187-A61292F308E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B4A0-A9A1-4AC9-B8B8-C1E2F3A8D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846F-F35C-41D8-9089-2B5FF1E21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F9B1-D5BE-4726-A1D2-C34A9BFE8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B090-6911-4DF5-A26A-EEBD4821F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69483-512D-462F-9E43-44381DFA3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74B24-E173-42B9-B0E3-B60C1E13E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EC2FC-F35A-4415-AF39-C0EB2F145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62B15-3CEA-4E23-8E1D-711301807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98D52-874D-4F83-B98A-0C9A7B7C2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3172B-DB49-4B7C-A41C-0C39C5CEC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F8617-70A5-4228-AC58-2B63D7FA9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14A0-4610-4BCD-B021-0446BDD45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87DCF-FBDD-4237-A071-FA7DF0F2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3A594-2091-4648-8536-14E70430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9F8C6-8153-4FB4-8972-8229CD7A0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55614-511F-4AEE-9A70-8A91B144C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0676F-7269-4700-8876-5CE5A026E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F66D-6DB2-48E6-A7E6-A67C694D7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A668-CED7-40EF-8DC0-429ECF50B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70A9-54B7-4C1D-B7AD-916BA5551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1C6B-BA67-4815-A181-4C8E11F9D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51C0-C5BD-4AAF-A6FD-B00320E8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AAA9-93F8-4627-8684-C3589473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E09E-F77F-4128-A71A-208FD437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D28CB-9D11-4237-BC52-AEC784F23F87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580DB-DB8E-45DA-89DB-6906DAE44D58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pl.wikipedia.org/wiki/Plik:Szko&#322;a_Rycerska.jpg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hyperlink" Target="http://naszlubin.pl/historia/868-ziemia-lubiska-zimna-woda.html" TargetMode="External"/><Relationship Id="rId4" Type="http://schemas.openxmlformats.org/officeDocument/2006/relationships/hyperlink" Target="http://pl.wikipedia.org/wiki/Plik:Pozna&#324;_-_KER_1841_PLudu.jpg" TargetMode="Externa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pl.wikipedia.org/wiki/Plik:Bar_confederation_flag.JPG" TargetMode="External"/><Relationship Id="rId3" Type="http://schemas.openxmlformats.org/officeDocument/2006/relationships/image" Target="../media/image15.jpeg"/><Relationship Id="rId4" Type="http://schemas.openxmlformats.org/officeDocument/2006/relationships/hyperlink" Target="http://pl.wikipedia.org/wiki/Plik:Konfederacja_Barska.jpg" TargetMode="External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hyperlink" Target="http://www.pinakoteka.zascianek.pl/Matejko/Images/Jozef_Szujski.jpg" TargetMode="External"/><Relationship Id="rId4" Type="http://schemas.openxmlformats.org/officeDocument/2006/relationships/hyperlink" Target="http://www.pinakoteka.zascianek.pl/Matejko/Images/Jozef_Szujski.jpg" TargetMode="External"/><Relationship Id="rId5" Type="http://schemas.openxmlformats.org/officeDocument/2006/relationships/hyperlink" Target="http://pl.wikipedia.org/wiki/Plik:Kalinka.jpg" TargetMode="External"/><Relationship Id="rId6" Type="http://schemas.openxmlformats.org/officeDocument/2006/relationships/image" Target="../media/image7.jpeg"/><Relationship Id="rId7" Type="http://schemas.openxmlformats.org/officeDocument/2006/relationships/hyperlink" Target="http://audiovis.nac.gov.pl/obraz/97381/3f03769c8d2502910570f5a8903567db/" TargetMode="External"/><Relationship Id="rId8" Type="http://schemas.openxmlformats.org/officeDocument/2006/relationships/hyperlink" Target="http://audiovis.nac.gov.pl/obraz/97381/3f03769c8d2502910570f5a8903567db/" TargetMode="External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dobroni.pl/rekonstrukcja-zdjecia,31821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pl.wikipedia.org/wiki/Plik:Stanis&#322;aw_August_Poniatowski.jpg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Kto winien upadku Rzeczypospolitej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Bartosz Rzoń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ierwsze reformy c.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Wprowadzono cło general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Utworzono pierwszy stały budż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Uruchomiono mennic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Obraz 3" descr="C:\Users\Bartek\Downloads\Szkoła_Rycerska.jpg"/>
          <p:cNvPicPr/>
          <p:nvPr/>
        </p:nvPicPr>
        <p:blipFill>
          <a:blip r:embed="rId1"/>
          <a:stretch/>
        </p:blipFill>
        <p:spPr>
          <a:xfrm>
            <a:off x="4932360" y="3357720"/>
            <a:ext cx="3795840" cy="2411280"/>
          </a:xfrm>
          <a:prstGeom prst="rect">
            <a:avLst/>
          </a:prstGeom>
          <a:ln w="0">
            <a:noFill/>
          </a:ln>
        </p:spPr>
      </p:pic>
      <p:sp>
        <p:nvSpPr>
          <p:cNvPr id="131" name="pole tekstowe 4"/>
          <p:cNvSpPr/>
          <p:nvPr/>
        </p:nvSpPr>
        <p:spPr>
          <a:xfrm>
            <a:off x="4880880" y="5805360"/>
            <a:ext cx="304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Rys. 6. T09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Budynek Szkoły Rycerskiej, malował 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Jan Piotr Norblin de la Gourdain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pl.wikipedia.org/wiki/Plik:Szko%C5%82a_Rycerska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Sprawa dysydentów i prawa kardynal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W XVI w. Rzeczypospolita była krajem wolności religijnej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W następnych stuleciach nastąpiło pogorszenie sytuacji innowiercó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Zostali pozbawieni możliwości zasiadania </a:t>
            </a:r>
            <a:br>
              <a:rPr sz="3200"/>
            </a:b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w sejmie i dostępu do urzędó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Zaczęli domagać się równouprawnien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Symbol zastępczy zawartości 9" descr="C:\Users\Bartek\Downloads\zimna_woda1.jpg"/>
          <p:cNvPicPr/>
          <p:nvPr/>
        </p:nvPicPr>
        <p:blipFill>
          <a:blip r:embed="rId1"/>
          <a:stretch/>
        </p:blipFill>
        <p:spPr>
          <a:xfrm>
            <a:off x="1104840" y="2052720"/>
            <a:ext cx="2743200" cy="3620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C:\Users\Bartek\Downloads\190px-Poznań_-_KER_1841_PLudu.jpg"/>
          <p:cNvPicPr/>
          <p:nvPr/>
        </p:nvPicPr>
        <p:blipFill>
          <a:blip r:embed="rId2"/>
          <a:stretch/>
        </p:blipFill>
        <p:spPr>
          <a:xfrm>
            <a:off x="5219640" y="2035080"/>
            <a:ext cx="2881440" cy="3638520"/>
          </a:xfrm>
          <a:prstGeom prst="rect">
            <a:avLst/>
          </a:prstGeom>
          <a:ln w="0">
            <a:noFill/>
          </a:ln>
        </p:spPr>
      </p:pic>
      <p:sp>
        <p:nvSpPr>
          <p:cNvPr id="137" name="pole tekstowe 13"/>
          <p:cNvSpPr/>
          <p:nvPr/>
        </p:nvSpPr>
        <p:spPr>
          <a:xfrm>
            <a:off x="539640" y="5805360"/>
            <a:ext cx="3880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Rys. 7. T09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Prawosławny kościół parafialny Zaśnięcia Przenajświętszej Bogarodzicy w Zimnej Wodzi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naszlubin.pl/historia/868-ziemia-lubiska-zimna-woda.htm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ole tekstowe 14"/>
          <p:cNvSpPr/>
          <p:nvPr/>
        </p:nvSpPr>
        <p:spPr>
          <a:xfrm>
            <a:off x="5097600" y="5805360"/>
            <a:ext cx="3463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Rys. 8. T09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Kościół ewangelicki św. Piotra w Poznaniu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pl.wikipedia.org/wiki/Plik:Pozna%C5%84_-_KER_1841_PLudu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Sprawa dysydentów i prawa kardynal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Sprawę dysydentów wykorzystała Rosja i Prusy do ingerencji w wewnętrzne sprawy Rzeczypospolitej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Na sejmie w 1767 r. rosyjski ambasador zażądał równouprawnienia dla dysydentó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Sejm został zastraszony i przywrócił prawa polityczne oraz swobodę kultu innowier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Sprawa dysydentów i prawa kardynal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6000"/>
          </a:bodyPr>
          <a:p>
            <a:pPr marL="88920" indent="-88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W 1768 r. sejm uchwalił prawa kardynal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8920" indent="-88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8920" indent="-88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8920" indent="-88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ole tekstowe 3"/>
          <p:cNvSpPr/>
          <p:nvPr/>
        </p:nvSpPr>
        <p:spPr>
          <a:xfrm>
            <a:off x="761760" y="2492280"/>
            <a:ext cx="176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liberum ve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ole tekstowe 4"/>
          <p:cNvSpPr/>
          <p:nvPr/>
        </p:nvSpPr>
        <p:spPr>
          <a:xfrm>
            <a:off x="764640" y="2997360"/>
            <a:ext cx="50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prawo wypowiadania posłuszeństwa królow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ole tekstowe 6"/>
          <p:cNvSpPr/>
          <p:nvPr/>
        </p:nvSpPr>
        <p:spPr>
          <a:xfrm>
            <a:off x="748800" y="3573360"/>
            <a:ext cx="848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wyłączne prawo szlachty do piastowania urzędów i posiadania dóbr ziemski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ole tekstowe 7"/>
          <p:cNvSpPr/>
          <p:nvPr/>
        </p:nvSpPr>
        <p:spPr>
          <a:xfrm>
            <a:off x="769320" y="4076640"/>
            <a:ext cx="361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zasada neminem captivabim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Konfederacja barska 1768-177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5998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Zawiązana w Barze (twierdz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Na czele Józef Pułaski i Michał Krasiń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Walki miały charakter partyzanc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Wielkim echem w Europie odbiła się próba zamachu na króla Stanisława Augusta inspirowana przez Kazimierza Pułaskiego (1771 r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Obraz 3" descr="C:\Users\Bartek\Downloads\416px-Bar_confederation_flag.JPG"/>
          <p:cNvPicPr/>
          <p:nvPr/>
        </p:nvPicPr>
        <p:blipFill>
          <a:blip r:embed="rId1"/>
          <a:stretch/>
        </p:blipFill>
        <p:spPr>
          <a:xfrm>
            <a:off x="611280" y="549360"/>
            <a:ext cx="2592360" cy="4103640"/>
          </a:xfrm>
          <a:prstGeom prst="rect">
            <a:avLst/>
          </a:prstGeom>
          <a:ln w="0">
            <a:noFill/>
          </a:ln>
        </p:spPr>
      </p:pic>
      <p:sp>
        <p:nvSpPr>
          <p:cNvPr id="150" name="pole tekstowe 4"/>
          <p:cNvSpPr/>
          <p:nvPr/>
        </p:nvSpPr>
        <p:spPr>
          <a:xfrm>
            <a:off x="637200" y="4724280"/>
            <a:ext cx="301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a452a"/>
                </a:solidFill>
                <a:latin typeface="Calibri"/>
              </a:rPr>
              <a:t>Rys. 9. T09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a452a"/>
                </a:solidFill>
                <a:latin typeface="Calibri"/>
              </a:rPr>
              <a:t>Chorągiew konfederatów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pl.wikipedia.org/wiki/Plik:Bar_confederation_flag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2" descr="C:\Users\Bartek\Downloads\800px-Konfederacja_Barska.jpg"/>
          <p:cNvPicPr/>
          <p:nvPr/>
        </p:nvPicPr>
        <p:blipFill>
          <a:blip r:embed="rId3"/>
          <a:stretch/>
        </p:blipFill>
        <p:spPr>
          <a:xfrm>
            <a:off x="4067280" y="1773360"/>
            <a:ext cx="4690800" cy="2854080"/>
          </a:xfrm>
          <a:prstGeom prst="rect">
            <a:avLst/>
          </a:prstGeom>
          <a:ln w="0">
            <a:noFill/>
          </a:ln>
        </p:spPr>
      </p:pic>
      <p:sp>
        <p:nvSpPr>
          <p:cNvPr id="152" name="pole tekstowe 6"/>
          <p:cNvSpPr/>
          <p:nvPr/>
        </p:nvSpPr>
        <p:spPr>
          <a:xfrm>
            <a:off x="4090680" y="4653000"/>
            <a:ext cx="287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a452a"/>
                </a:solidFill>
                <a:latin typeface="Calibri"/>
              </a:rPr>
              <a:t>Rys. 10. T09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a452a"/>
                </a:solidFill>
                <a:latin typeface="Calibri"/>
              </a:rPr>
              <a:t>Konfederacja barska, malował Józef Brandt</a:t>
            </a: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pl.wikipedia.org/wiki/Plik:Konfederacja_Barska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I rozbiór Rzeczypospolitej 177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59984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Uczestnicy: Austria, Rosja i Prus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Ogólne niezadowolenie w Europie z powodu rozbio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Aby uspokoić sytuację w państwach europejskich rozbiór miał zalegalizować sejm pol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Reformy sejmu porozbiorow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podniesienie liczby wojska do 30 tys. </a:t>
            </a:r>
            <a:br>
              <a:rPr sz="3200"/>
            </a:b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(w rzeczywistości do 18,5 tys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powołanie Rady Nieustającej (departamenty: Policji, Wojska, Sprawiedliwości, Skarbu </a:t>
            </a:r>
            <a:br>
              <a:rPr sz="3200"/>
            </a:b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i Interesów Cudzoziemskic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powołanie do życia Komisji Edukacji Narodowej (177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Obraz 1" descr="Rejtan_Upadek_Polski_Matejko"/>
          <p:cNvPicPr/>
          <p:nvPr/>
        </p:nvPicPr>
        <p:blipFill>
          <a:blip r:embed="rId1"/>
          <a:stretch/>
        </p:blipFill>
        <p:spPr>
          <a:xfrm>
            <a:off x="468360" y="620640"/>
            <a:ext cx="8280360" cy="504036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3"/>
          <p:cNvSpPr/>
          <p:nvPr/>
        </p:nvSpPr>
        <p:spPr>
          <a:xfrm>
            <a:off x="395280" y="5744880"/>
            <a:ext cx="482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Rys. 11. T09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Rejtan – upadek Polski, malował Jan Matejko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http://pl.wikipedia.org/wiki/Plik:Rejtan_Upadek_Polski_Matejko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lan Prezentac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4a452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Szkoła krakowska vs szkoła warszaws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4a452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Początek panowania Stanisława Augus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4a452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Dysydenci i prawa kardynal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4a452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I rozbiór i jego konsekwenc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4a452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Sejm Wiel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4a452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Na drodze do II rozbio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4a452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Sejm Wielki i jego refor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a452a"/>
                </a:solidFill>
                <a:latin typeface="Calibri"/>
              </a:rPr>
              <a:t>Obóz hetmańsk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Franciszek Ksawery Branicki, Seweryn Rzewuski, Szczęsny Potock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grupował konserwatywną szlachtę, przeciwną  reformom, dążył do obalenia króla przy pomocy Rosj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a452a"/>
                </a:solidFill>
                <a:latin typeface="Calibri"/>
              </a:rPr>
              <a:t>Obóz zwolenników kró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dążył do przeprowadzenia reform </a:t>
            </a:r>
            <a:br>
              <a:rPr sz="2000"/>
            </a:b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w kraju za pomocą sojuszu z Rosj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Sejm Wielki c.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a452a"/>
                </a:solidFill>
                <a:latin typeface="Calibri"/>
              </a:rPr>
              <a:t>Obóz patriotycz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Stanisław i Ignacy Potoccy, Adam Kazimierz Czartoryski, Stanisław Małachowsk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Ideowym przywódcą był Hugo Kołłąta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chciał przeprowadzić reformy, uniezależnić się od Rosji, proponował sojusz z Prusa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Obraz 6" descr="C:\Users\Bartek\Downloads\The_Vote_upon_theConstitution_of_May_3,_1791.PNG"/>
          <p:cNvPicPr/>
          <p:nvPr/>
        </p:nvPicPr>
        <p:blipFill>
          <a:blip r:embed="rId1"/>
          <a:stretch/>
        </p:blipFill>
        <p:spPr>
          <a:xfrm>
            <a:off x="4716360" y="2276640"/>
            <a:ext cx="4070520" cy="2803320"/>
          </a:xfrm>
          <a:prstGeom prst="rect">
            <a:avLst/>
          </a:prstGeom>
          <a:ln w="0">
            <a:noFill/>
          </a:ln>
        </p:spPr>
      </p:pic>
      <p:sp>
        <p:nvSpPr>
          <p:cNvPr id="169" name="pole tekstowe 7"/>
          <p:cNvSpPr/>
          <p:nvPr/>
        </p:nvSpPr>
        <p:spPr>
          <a:xfrm>
            <a:off x="4591080" y="5157720"/>
            <a:ext cx="4552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Rys. 12. T09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Uchwalenie Konstytucji 3 Maja, malował Kazimierz Wojniakowski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http://cyfrowe.mnw.art.pl/dmuseion/docmetadata?id=5327&amp;from=pubindex&amp;dirids=1&amp;lp=2389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Sejm Wielki c.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a452a"/>
                </a:solidFill>
                <a:latin typeface="Calibri"/>
              </a:rPr>
              <a:t>Sytuacja międzynarodow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W 1783 r. kolonie brytyjskie uzyskały niepodległoś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W 1787 r. uchwalono konstytucję Stanów Zjednoczony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W 1787 r. wybuchła wojna rosyjsko-turec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W 1789 r. zaczął się ferment rewolucyjny we Francj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Symbol zastępczy zawartości 6" descr="C:\Users\Bartek\Downloads\barek-globus.jpg"/>
          <p:cNvPicPr/>
          <p:nvPr/>
        </p:nvPicPr>
        <p:blipFill>
          <a:blip r:embed="rId1"/>
          <a:stretch/>
        </p:blipFill>
        <p:spPr>
          <a:xfrm>
            <a:off x="4716360" y="1700280"/>
            <a:ext cx="3951360" cy="3951360"/>
          </a:xfrm>
          <a:prstGeom prst="rect">
            <a:avLst/>
          </a:prstGeom>
          <a:ln w="0">
            <a:noFill/>
          </a:ln>
        </p:spPr>
      </p:pic>
      <p:sp>
        <p:nvSpPr>
          <p:cNvPr id="174" name="pole tekstowe 7"/>
          <p:cNvSpPr/>
          <p:nvPr/>
        </p:nvSpPr>
        <p:spPr>
          <a:xfrm>
            <a:off x="5435640" y="5589720"/>
            <a:ext cx="281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Rys. 13. T09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Globu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sklep.goldlewana.pl/barki/26-barek-globus.htm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Sejm Wielki c.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a452a"/>
                </a:solidFill>
                <a:latin typeface="Calibri"/>
              </a:rPr>
              <a:t>Najważniejsze reform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Zwiększenie sił zbrojnych do 100 tys. (w rzeczywistości do 65 tys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Rozwiązanie Rady Nieustające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Prawo o sejmikach (wyłączało z udziału </a:t>
            </a:r>
            <a:br>
              <a:rPr sz="2400"/>
            </a:b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w sejmikach szlachtę nieposiadającą ziem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716000" y="2133360"/>
            <a:ext cx="40417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Prawo o miastach (mieszczanie uzyskali prawo nietykalności osobistej, prawo nabywania dóbr ziemskich, dostęp do urzędów, prawo powoływania samorządó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2556000" y="5805000"/>
            <a:ext cx="548640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Rys. 14. T09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pl.wikipedia.org/wiki/Plik:May_constitution_pre20th_cent_book_cover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Obraz 9" descr="C:\Users\Bartek\Downloads\May_constitution_pre20th_cent_book_cover.jpg"/>
          <p:cNvPicPr/>
          <p:nvPr/>
        </p:nvPicPr>
        <p:blipFill>
          <a:blip r:embed="rId1"/>
          <a:stretch/>
        </p:blipFill>
        <p:spPr>
          <a:xfrm>
            <a:off x="2916360" y="620640"/>
            <a:ext cx="36003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Sejm Wielki c.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ytuł 9"/>
          <p:cNvSpPr/>
          <p:nvPr/>
        </p:nvSpPr>
        <p:spPr>
          <a:xfrm>
            <a:off x="468360" y="1557360"/>
            <a:ext cx="8229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Konstytucja 3 ma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ole tekstowe 5"/>
          <p:cNvSpPr/>
          <p:nvPr/>
        </p:nvSpPr>
        <p:spPr>
          <a:xfrm>
            <a:off x="250920" y="2852640"/>
            <a:ext cx="8642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imię Boga, w Trójcy Świętej jedynego. Stanisław August z Bożej łaski i woli Narodu Król Polski, Wielki  Książę Litewski, Ruski, Pruski, Mazowiecki, Żmudzki, Kijowski, Wołyński, Podolski, Podlaski, Inflancki, Smoleński, Siewierski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i Czernichowski, wraz ze Stanami Skonfederowanymi, w liczbie podwójnej naród polski reprezentującym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Sejm Wielki c.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68360" y="2331720"/>
            <a:ext cx="8229600" cy="37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Tron stawał się dziedziczny w dynastii saskie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Organem władzy ustawodawczej był sej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Organem władzy wykonawczej była Straż Pra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Zniesiono odrębne instytucje centralne na Litwie i w Koron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Zniesiono </a:t>
            </a:r>
            <a:r>
              <a:rPr b="0" i="1" lang="pl-PL" sz="2000" spc="-1" strike="noStrike">
                <a:solidFill>
                  <a:srgbClr val="4a452a"/>
                </a:solidFill>
                <a:latin typeface="Calibri"/>
              </a:rPr>
              <a:t>liberum ve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Szlachcie gołocie odebrano prawa wyborcz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Mieszczanom przyznano wolność osobistą oraz prawo sprawowania urzędów i funkcji oficerski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Poruszono kwestię „chłopską” – Deklaracja „opieki prawa i rządu krajowego” nad ludem chłopski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rostokąt 4"/>
          <p:cNvSpPr/>
          <p:nvPr/>
        </p:nvSpPr>
        <p:spPr>
          <a:xfrm>
            <a:off x="2914920" y="1628640"/>
            <a:ext cx="331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Konstytucja 3 ma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Rzeczpospolita stawała się nowoczesną monarchią konstytucyjną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Obraz 5" descr="C:\Users\Bartek\Downloads\Konstytucja_3_Maja.jpg"/>
          <p:cNvPicPr/>
          <p:nvPr/>
        </p:nvPicPr>
        <p:blipFill>
          <a:blip r:embed="rId1"/>
          <a:stretch/>
        </p:blipFill>
        <p:spPr>
          <a:xfrm>
            <a:off x="2050920" y="2708280"/>
            <a:ext cx="4873680" cy="2859120"/>
          </a:xfrm>
          <a:prstGeom prst="rect">
            <a:avLst/>
          </a:prstGeom>
          <a:ln w="0">
            <a:noFill/>
          </a:ln>
        </p:spPr>
      </p:pic>
      <p:sp>
        <p:nvSpPr>
          <p:cNvPr id="189" name="pole tekstowe 6"/>
          <p:cNvSpPr/>
          <p:nvPr/>
        </p:nvSpPr>
        <p:spPr>
          <a:xfrm>
            <a:off x="2001240" y="5661000"/>
            <a:ext cx="284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Rys. 15. T09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Konstytucja 3 Maja 1791, malował Jan Matejko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pl.wikipedia.org/wiki/Plik:Konstytucja_3_Maja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Wojna w obronie konstytuc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Przeciwko konstytucji wystąpili przywódcy obozu hetmańskie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W 1792 r. zawiązano konfederację targowicką przeciwko konstytucji i królow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Targowiczanie poprosili Rosję o pomoc wojskow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Wojna w obronie konstytuc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Inicjator konfederacji targowickiej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Obraz 3" descr="C:\Users\Bartek\Downloads\432px-Stanisław_Szczęsny_Potocki_by_Jan_Chrzciciel_Lampi_the_Elder.PNG"/>
          <p:cNvPicPr/>
          <p:nvPr/>
        </p:nvPicPr>
        <p:blipFill>
          <a:blip r:embed="rId1"/>
          <a:stretch/>
        </p:blipFill>
        <p:spPr>
          <a:xfrm>
            <a:off x="3059280" y="2205000"/>
            <a:ext cx="2520720" cy="3672000"/>
          </a:xfrm>
          <a:prstGeom prst="rect">
            <a:avLst/>
          </a:prstGeom>
          <a:ln w="0">
            <a:noFill/>
          </a:ln>
        </p:spPr>
      </p:pic>
      <p:sp>
        <p:nvSpPr>
          <p:cNvPr id="195" name="pole tekstowe 4"/>
          <p:cNvSpPr/>
          <p:nvPr/>
        </p:nvSpPr>
        <p:spPr>
          <a:xfrm>
            <a:off x="2014920" y="5950080"/>
            <a:ext cx="537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Rys. 16. T09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Stanisław Szczęsny Potocki, malował Jan Chrzciciel Lampi the Elde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pl.wikipedia.org/wiki/Plik:Stanis%C5%82aw_Szcz%C4%99sny_Potocki_by_Jan_Chrzciciel_Lampi_the_Elder.PN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Spór o politykę w dobie upadk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Symbol zastępczy zawartości 10" descr="C:\Users\Bartek\Downloads\Kalinka.jpg"/>
          <p:cNvPicPr/>
          <p:nvPr/>
        </p:nvPicPr>
        <p:blipFill>
          <a:blip r:embed="rId1"/>
          <a:stretch/>
        </p:blipFill>
        <p:spPr>
          <a:xfrm>
            <a:off x="5796000" y="1484280"/>
            <a:ext cx="2376360" cy="2592360"/>
          </a:xfrm>
          <a:prstGeom prst="rect">
            <a:avLst/>
          </a:prstGeom>
          <a:ln w="0">
            <a:noFill/>
          </a:ln>
        </p:spPr>
      </p:pic>
      <p:pic>
        <p:nvPicPr>
          <p:cNvPr id="101" name="Obraz 11" descr="C:\Users\Bartek\Downloads\Jozef_Szujski.jpg"/>
          <p:cNvPicPr/>
          <p:nvPr/>
        </p:nvPicPr>
        <p:blipFill>
          <a:blip r:embed="rId2"/>
          <a:stretch/>
        </p:blipFill>
        <p:spPr>
          <a:xfrm>
            <a:off x="3276720" y="3213000"/>
            <a:ext cx="2087280" cy="2376720"/>
          </a:xfrm>
          <a:prstGeom prst="rect">
            <a:avLst/>
          </a:prstGeom>
          <a:ln w="0">
            <a:noFill/>
          </a:ln>
        </p:spPr>
      </p:pic>
      <p:sp>
        <p:nvSpPr>
          <p:cNvPr id="102" name="pole tekstowe 13"/>
          <p:cNvSpPr/>
          <p:nvPr/>
        </p:nvSpPr>
        <p:spPr>
          <a:xfrm>
            <a:off x="3296160" y="5661000"/>
            <a:ext cx="24454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a452a"/>
                </a:solidFill>
                <a:latin typeface="Calibri"/>
              </a:rPr>
              <a:t>Rys. 2. T09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a452a"/>
                </a:solidFill>
                <a:latin typeface="Calibri"/>
              </a:rPr>
              <a:t>Józef Szujsk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pinakoteka.zascianek.pl/Matejko/I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mages/Jozef_Szujski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ole tekstowe 14"/>
          <p:cNvSpPr/>
          <p:nvPr/>
        </p:nvSpPr>
        <p:spPr>
          <a:xfrm>
            <a:off x="5886000" y="4149720"/>
            <a:ext cx="229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a452a"/>
                </a:solidFill>
                <a:latin typeface="Calibri"/>
              </a:rPr>
              <a:t>Rys. 3. T09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a452a"/>
                </a:solidFill>
                <a:latin typeface="Calibri"/>
              </a:rPr>
              <a:t>Walerian Kalin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pl.wikipedia.org/wiki/Plik:Kalinka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Obraz 16" descr="C:\Users\Bartek\Downloads\SM0_1-N-277.jpg"/>
          <p:cNvPicPr/>
          <p:nvPr/>
        </p:nvPicPr>
        <p:blipFill>
          <a:blip r:embed="rId6"/>
          <a:stretch/>
        </p:blipFill>
        <p:spPr>
          <a:xfrm>
            <a:off x="826920" y="1628640"/>
            <a:ext cx="1873440" cy="2376720"/>
          </a:xfrm>
          <a:prstGeom prst="rect">
            <a:avLst/>
          </a:prstGeom>
          <a:ln w="0">
            <a:noFill/>
          </a:ln>
        </p:spPr>
      </p:pic>
      <p:sp>
        <p:nvSpPr>
          <p:cNvPr id="105" name="pole tekstowe 17"/>
          <p:cNvSpPr/>
          <p:nvPr/>
        </p:nvSpPr>
        <p:spPr>
          <a:xfrm>
            <a:off x="842400" y="4076640"/>
            <a:ext cx="217116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a452a"/>
                </a:solidFill>
                <a:latin typeface="Calibri"/>
              </a:rPr>
              <a:t>Rys. 1. T09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a452a"/>
                </a:solidFill>
                <a:latin typeface="Calibri"/>
              </a:rPr>
              <a:t>Tadeusz Korz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audiovis.nac.gov.pl/obraz/97381/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3f03769c8d2502910570f5a8903567db/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Wojna w obronie konstytuc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Austria i Prusy uznały interwencję wojsk rosyjskich w Rzeczypospolitej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Zwycięstwo armii koronnej dowodzonej przez ks. Józefa Poniatowskiego pod Zieleńcami (ustanowienie orderu </a:t>
            </a:r>
            <a:r>
              <a:rPr b="0" i="1" lang="pl-PL" sz="3200" spc="-1" strike="noStrike">
                <a:solidFill>
                  <a:srgbClr val="4a452a"/>
                </a:solidFill>
                <a:latin typeface="Calibri"/>
              </a:rPr>
              <a:t>Virtuti Militari</a:t>
            </a: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Porażka Tadeusza Kościuszki pod Dubienk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Przystąpienie króla do Targowicy (synonim zdrad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II rozbiór Rzeczypospolitej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68360" y="2060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W drugim rozbiorze uczestniczyły tylko Rosja </a:t>
            </a:r>
            <a:br>
              <a:rPr sz="3200"/>
            </a:b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i Prus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Konwencja rozbiorowa została podpisana </a:t>
            </a:r>
            <a:br>
              <a:rPr sz="3200"/>
            </a:b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w Petersburgu w 1793 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Sejm w Grodnie zatwierdził rozbiór – był to ostatni sejm w historii I Rzeczypospolitej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Obraz 3" descr="C:\Users\Bartek\Downloads\397px-Traktat_rozbiorowy.jpg"/>
          <p:cNvPicPr/>
          <p:nvPr/>
        </p:nvPicPr>
        <p:blipFill>
          <a:blip r:embed="rId1"/>
          <a:stretch/>
        </p:blipFill>
        <p:spPr>
          <a:xfrm>
            <a:off x="2771640" y="549360"/>
            <a:ext cx="3672000" cy="4751280"/>
          </a:xfrm>
          <a:prstGeom prst="rect">
            <a:avLst/>
          </a:prstGeom>
          <a:ln w="0">
            <a:noFill/>
          </a:ln>
        </p:spPr>
      </p:pic>
      <p:sp>
        <p:nvSpPr>
          <p:cNvPr id="201" name="pole tekstowe 4"/>
          <p:cNvSpPr/>
          <p:nvPr/>
        </p:nvSpPr>
        <p:spPr>
          <a:xfrm>
            <a:off x="2793960" y="5445000"/>
            <a:ext cx="2814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Rys. 17.T09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Traktat rozbiorowy z 1793 r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pl.wikipedia.org/wiki/Plik:Traktat_rozbiorowy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Obraz 2" descr="C:\Users\Bartek\Downloads\Rzeczpospolita_Rozbiory_4.png"/>
          <p:cNvPicPr/>
          <p:nvPr/>
        </p:nvPicPr>
        <p:blipFill>
          <a:blip r:embed="rId1"/>
          <a:stretch/>
        </p:blipFill>
        <p:spPr>
          <a:xfrm>
            <a:off x="900000" y="260280"/>
            <a:ext cx="7704360" cy="5691240"/>
          </a:xfrm>
          <a:prstGeom prst="rect">
            <a:avLst/>
          </a:prstGeom>
          <a:ln w="0">
            <a:noFill/>
          </a:ln>
        </p:spPr>
      </p:pic>
      <p:sp>
        <p:nvSpPr>
          <p:cNvPr id="203" name="pole tekstowe 3"/>
          <p:cNvSpPr/>
          <p:nvPr/>
        </p:nvSpPr>
        <p:spPr>
          <a:xfrm>
            <a:off x="783360" y="6021360"/>
            <a:ext cx="315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Rys. 18. T09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pl.wikipedia.org/wiki/Plik:Rzeczpospolita_Rozbiory_4.pn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Zadanie dla ucznió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4a452a"/>
                </a:solidFill>
                <a:latin typeface="Calibri"/>
              </a:rPr>
              <a:t>	</a:t>
            </a:r>
            <a:r>
              <a:rPr b="0" i="1" lang="pl-PL" sz="3200" spc="-1" strike="noStrike">
                <a:solidFill>
                  <a:srgbClr val="4a452a"/>
                </a:solidFill>
                <a:latin typeface="Calibri"/>
              </a:rPr>
              <a:t>Dobierzcie się teraz w grupy zwolenników szkoły krakowskiej lub warszawskiej. Na dołączonej karcie znajdziecie materiały, które mogą być przydatne do debaty. Teraz macie 15 minut na przygotowanie </a:t>
            </a:r>
            <a:br>
              <a:rPr sz="3200"/>
            </a:br>
            <a:r>
              <a:rPr b="0" i="1" lang="pl-PL" sz="3200" spc="-1" strike="noStrike">
                <a:solidFill>
                  <a:srgbClr val="4a452a"/>
                </a:solidFill>
                <a:latin typeface="Calibri"/>
              </a:rPr>
              <a:t>i przedyskutowanie waszych argumentów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2" descr="C:\Program Files (x86)\Microsoft Office\MEDIA\CAGCAT10\j0195812.wmf"/>
          <p:cNvPicPr/>
          <p:nvPr/>
        </p:nvPicPr>
        <p:blipFill>
          <a:blip r:embed="rId1"/>
          <a:stretch/>
        </p:blipFill>
        <p:spPr>
          <a:xfrm>
            <a:off x="3635280" y="4508640"/>
            <a:ext cx="177336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Bibliograf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M. Markiewicz, </a:t>
            </a:r>
            <a:r>
              <a:rPr b="0" i="1" lang="pl-PL" sz="2000" spc="-1" strike="noStrike">
                <a:solidFill>
                  <a:srgbClr val="4a452a"/>
                </a:solidFill>
                <a:latin typeface="Calibri"/>
              </a:rPr>
              <a:t>Historia Polski 1492-1795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, Kraków 200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T. Cegielski, Ł. Kądziela, </a:t>
            </a:r>
            <a:r>
              <a:rPr b="0" i="1" lang="pl-PL" sz="2000" spc="-1" strike="noStrike">
                <a:solidFill>
                  <a:srgbClr val="4a452a"/>
                </a:solidFill>
                <a:latin typeface="Calibri"/>
              </a:rPr>
              <a:t>Rozbiory Polski 1772-1793-1795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, Warszawa 199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J. Łojek, </a:t>
            </a:r>
            <a:r>
              <a:rPr b="0" i="1" lang="pl-PL" sz="2000" spc="-1" strike="noStrike">
                <a:solidFill>
                  <a:srgbClr val="4a452a"/>
                </a:solidFill>
                <a:latin typeface="Calibri"/>
              </a:rPr>
              <a:t>Geneza i obalenie Konstytucji 3 Maja. Polityka zagraniczna Rzeczypospolitej 1787-1792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, Lublin 198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J. Łojek, </a:t>
            </a:r>
            <a:r>
              <a:rPr b="0" i="1" lang="pl-PL" sz="2000" spc="-1" strike="noStrike">
                <a:solidFill>
                  <a:srgbClr val="4a452a"/>
                </a:solidFill>
                <a:latin typeface="Calibri"/>
              </a:rPr>
              <a:t>Ku naprawie Rzeczypospolitej. Konstytucja 3 Maja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, Warszawa 198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J. Łojek, </a:t>
            </a:r>
            <a:r>
              <a:rPr b="0" i="1" lang="pl-PL" sz="2000" spc="-1" strike="noStrike">
                <a:solidFill>
                  <a:srgbClr val="4a452a"/>
                </a:solidFill>
                <a:latin typeface="Calibri"/>
              </a:rPr>
              <a:t>Dzieje zdrajcy. Szczęsny Potocki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, Katowice 198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K. Zienkowska, </a:t>
            </a:r>
            <a:r>
              <a:rPr b="0" i="1" lang="pl-PL" sz="2000" spc="-1" strike="noStrike">
                <a:solidFill>
                  <a:srgbClr val="4a452a"/>
                </a:solidFill>
                <a:latin typeface="Calibri"/>
              </a:rPr>
              <a:t>Stanisław August Poniatowski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, Wrocław 199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E. Rostworowski, </a:t>
            </a:r>
            <a:r>
              <a:rPr b="0" i="1" lang="pl-PL" sz="2000" spc="-1" strike="noStrike">
                <a:solidFill>
                  <a:srgbClr val="4a452a"/>
                </a:solidFill>
                <a:latin typeface="Calibri"/>
              </a:rPr>
              <a:t>Ostatni król Rzeczypospolitej. Geneza i upadek Konstytucji 3 Maja, 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Warszawa 196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Spór o politykę w dobie upadk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a452a"/>
                </a:solidFill>
                <a:latin typeface="Calibri"/>
              </a:rPr>
              <a:t>Szkoła krakows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Sami Polacy są winni upadkowi państw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Cechowali się pychą, brakiem szacunku dla władzy, wywyższaniem się ponad inne naro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Największym winowajcą była szlach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a452a"/>
                </a:solidFill>
                <a:latin typeface="Calibri"/>
              </a:rPr>
              <a:t>Szkoła warszaws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Państwa ościenne były winne rozpadowi Rzeczypospolite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Proces demokratyzacji kraju w XVIII w. został zahamowany przez politykę zaborców i to doprowadziło do katastrofy (III rozbió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Spór o politykę w dobie upadku</a:t>
            </a:r>
            <a:br>
              <a:rPr sz="4400"/>
            </a:b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odsumowan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a452a"/>
                </a:solidFill>
                <a:latin typeface="Calibri"/>
              </a:rPr>
              <a:t>Szkoła krakows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Przyczyną rozpadu Rzeczypospolitej była wewnętrzna słabość oraz błędy popełniane przez kolejne pokolen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a452a"/>
                </a:solidFill>
                <a:latin typeface="Calibri"/>
              </a:rPr>
              <a:t>Szkoła warszaws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Upadek Rzeczypospolitej był spowodowany czynnikami zewnętrznym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Zadanie dla ucznió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4a452a"/>
                </a:solidFill>
                <a:latin typeface="Calibri"/>
              </a:rPr>
              <a:t>	</a:t>
            </a:r>
            <a:r>
              <a:rPr b="0" i="1" lang="pl-PL" sz="3200" spc="-1" strike="noStrike">
                <a:solidFill>
                  <a:srgbClr val="4a452a"/>
                </a:solidFill>
                <a:latin typeface="Calibri"/>
              </a:rPr>
              <a:t>Podczas następnej części lekcji postaraj się notować wszystkie argumenty, które są Ci bliższe w sporze o przyczyny upadku. Po skończonym wykładzie, będziesz musiał zająć stanowisko i uargumentować je podczas deba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C:\Program Files (x86)\Microsoft Office\MEDIA\CAGCAT10\j0195812.wmf"/>
          <p:cNvPicPr/>
          <p:nvPr/>
        </p:nvPicPr>
        <p:blipFill>
          <a:blip r:embed="rId1"/>
          <a:stretch/>
        </p:blipFill>
        <p:spPr>
          <a:xfrm>
            <a:off x="3564000" y="4581360"/>
            <a:ext cx="177300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Stanisław August Poniatowski 1764-179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W 1764 r. Stanisław August Poniatowski został wybrany królem Polski. Była to ostatnia wolna elekcja w historii Rzeczypospolitej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C:\Users\Bartek\Downloads\20080709172429!stanislaw_august_poniatowski.jpg"/>
          <p:cNvPicPr/>
          <p:nvPr/>
        </p:nvPicPr>
        <p:blipFill>
          <a:blip r:embed="rId1"/>
          <a:stretch/>
        </p:blipFill>
        <p:spPr>
          <a:xfrm>
            <a:off x="3564000" y="3213000"/>
            <a:ext cx="1871640" cy="2859120"/>
          </a:xfrm>
          <a:prstGeom prst="rect">
            <a:avLst/>
          </a:prstGeom>
          <a:ln w="0">
            <a:noFill/>
          </a:ln>
        </p:spPr>
      </p:pic>
      <p:sp>
        <p:nvSpPr>
          <p:cNvPr id="122" name="pole tekstowe 6"/>
          <p:cNvSpPr/>
          <p:nvPr/>
        </p:nvSpPr>
        <p:spPr>
          <a:xfrm>
            <a:off x="3509640" y="6119640"/>
            <a:ext cx="264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Rys. 4.T09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Stanisław August Poniatowski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dobroni.pl/rekonstrukcja-zdjecia,3182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Król rozpoczął próbę reformy kraj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3" descr="C:\Users\Bartek\Downloads\200px-Stanisław_August_Poniatowski.jpg"/>
          <p:cNvPicPr/>
          <p:nvPr/>
        </p:nvPicPr>
        <p:blipFill>
          <a:blip r:embed="rId1"/>
          <a:stretch/>
        </p:blipFill>
        <p:spPr>
          <a:xfrm>
            <a:off x="3132000" y="1844640"/>
            <a:ext cx="3322800" cy="3672000"/>
          </a:xfrm>
          <a:prstGeom prst="rect">
            <a:avLst/>
          </a:prstGeom>
          <a:ln w="0">
            <a:noFill/>
          </a:ln>
        </p:spPr>
      </p:pic>
      <p:sp>
        <p:nvSpPr>
          <p:cNvPr id="125" name="pole tekstowe 6"/>
          <p:cNvSpPr/>
          <p:nvPr/>
        </p:nvSpPr>
        <p:spPr>
          <a:xfrm>
            <a:off x="3156120" y="5589720"/>
            <a:ext cx="361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Rys. 5. T09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Stanisław August Poniatowski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pl.wikipedia.org/wiki/Plik:Stanis%C5%82aw_August_Poniatowski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ierwsze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refor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Powołano gabinet, który zajmował się dyplomacją i wojskie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Wprowadzono „konferencję króla </a:t>
            </a:r>
            <a:br>
              <a:rPr sz="3200"/>
            </a:b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z ministrami” – posiedzenia rady ministró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Dokonano lustracji królewszczyz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Otworzono Szkołę Rycersk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Bartek</cp:lastModifiedBy>
  <dcterms:modified xsi:type="dcterms:W3CDTF">2013-06-02T15:34:03Z</dcterms:modified>
  <cp:revision>112</cp:revision>
  <dc:subject/>
  <dc:title>Slajd 1</dc:title>
</cp:coreProperties>
</file>