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8866-1F6A-427A-9DC2-9B76E0510FB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F4A8-489A-48EF-A1AD-0CCBEF66011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E0AC-7ABC-4096-A728-7C43978406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E5C-DB57-4E6D-AC3F-5B2E3601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4296-3972-46F9-B624-E7C20100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39F-5C8E-458F-83B3-04413349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BAB-0798-4333-AB87-8D11A878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B3F9-0868-4782-8EBE-C0C74071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4256-21AE-4E3E-A29C-7B54C535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EE95-DC63-45A9-9138-FFE88C26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6DDB-23C6-4E5D-A049-1F54B2F3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EB56-4A17-4DDE-8537-CC5187BB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E995-03D2-41C0-9ECE-FD35E4E0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3D20-FE4F-4E28-AC35-57695E7E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6CAD-E66A-4433-B57C-197C81E3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9470-FD79-4588-A800-27B772E6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EC41-A576-4F91-A8E2-4F37402E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5528-EB4E-4D4C-A39D-D0E65686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C47A-38CE-404D-9219-5F238744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8BB6-F9B9-413B-9762-35AE1B77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E1B-570B-4DFD-AFA0-900E396D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511-DEBE-46B5-8B68-EB20D0B7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B0E-AABD-4D1A-B033-57DDC49E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660-CD4F-4706-8C5C-7951540A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A23-D2C5-4652-BE72-1FDD84D7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432-5A36-45DF-83D9-CB00BD55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5B7-B92D-4A3B-9292-3C5AEAFB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0F90-5A74-48F9-8C70-032DBF962E5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6177-A4E7-4AE1-B71E-8557CA85C09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yborcza.pl/1,104173,7601016,Dwie_twarze_Cycerona.html?as=1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zór obywatela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ęść 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n Kochanowski (1530-158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4"/>
          <p:cNvSpPr/>
          <p:nvPr/>
        </p:nvSpPr>
        <p:spPr>
          <a:xfrm>
            <a:off x="3780000" y="1628640"/>
            <a:ext cx="5040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ybitniejszy polski poeta renesansowy  w swoich utworach chętnie odwoływał się do motywu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noty (łac. virtus)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do norm etycznych obowiązujących „męża dobrego” – człowieka mądrego, uczciwego, będąceg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orem obywatela i patriot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wykorzystywał przy tym motywy antyczne i nawiązywał do myśli filozofów starożytnych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Obraz 3" descr="Jan_Kochanowski.png"/>
          <p:cNvPicPr/>
          <p:nvPr/>
        </p:nvPicPr>
        <p:blipFill>
          <a:blip r:embed="rId1"/>
          <a:stretch/>
        </p:blipFill>
        <p:spPr>
          <a:xfrm>
            <a:off x="611280" y="1628640"/>
            <a:ext cx="27432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u pożytku dobra spólnego…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5"/>
          <p:cNvSpPr/>
          <p:nvPr/>
        </p:nvSpPr>
        <p:spPr>
          <a:xfrm>
            <a:off x="250920" y="105264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Pieśni XII (księgi II) „Nie masz, i po drugi raz nie masz wątpliwości…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chanowski podkreśla wartość patriotyzmu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A jesli komu droga otwarta do nieba,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Tym, co służą ojczyźnie. Wątpić nie potrzeba,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Że co im zazdrość ujmie, Bóg nagradzać będzie,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A cnota kiedykolwiek miejsce swe osiądz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Pieśni XIX  (księgi II) „Jest kto, co by wzgardziwszy te doczesne rzeczy…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chęca, by każdy wykorzystywał swoje zdolności dla dobra ogółu – ci, którzy są mężni, niech walczą, pozostali mogą dbać o porządek w państwie, szerzyć dobre obyczaje, żyć uczciwi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Służmy poczciwej sławie, a jako kto może,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iech ku pożytku dobra spólnego pomoże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ak mądr po szkodzi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5"/>
          <p:cNvSpPr/>
          <p:nvPr/>
        </p:nvSpPr>
        <p:spPr>
          <a:xfrm>
            <a:off x="324000" y="1052640"/>
            <a:ext cx="8569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Pieśni V (księgi II) „Wieczna sromota i nienagrodzona…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chanowski opisuje najazd Tatarów na Podole w 1575 r. – wzywa Polaków do wzięcia odpowiedzialności za losy kraju, by w przyszłości nie powtórzył się podobny scenariusz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ieszy mię ten rym: „Polak mądr po szkodzie”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ecz jesli prawda i z tego nas zbodzie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ą przypowieść Polak sobie kupi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Że i przed szkodą, i po szkodzie głupi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„Odprawie posłów greckich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dramacie nawiązującym do mitu o wojnie trojańskiej, poeta przedstawia wzór patrioty – Antenor jest uczciwy,  odpowiedzialny, nieprzekupny, działa pro publico bono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espazjan Kochowski (1633-170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4"/>
          <p:cNvSpPr/>
          <p:nvPr/>
        </p:nvSpPr>
        <p:spPr>
          <a:xfrm>
            <a:off x="324000" y="995400"/>
            <a:ext cx="8496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rokowy poeta i autor prac historycznych, przedstawiciel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armatyzmu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jego najbardziej znane utwory to zbiór wiersz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Niepróżnujące próżnowanie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Psalmodia Polska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swoich utworach zestawiał dzielnych przodków z pokoleniem współczesnych mu Polaków i pokazywa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upadek starych wzor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Wieleć mamy swobód w tej naszej koro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Cóż gdy się nie staramy i nie dbamy o 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rzeważa prywatnych pożytków chciw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Bardziej dbamy o włości, a nie o woln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Słobody niż swobody głowę nam mozol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iż złotą wolność bardziej złoto wolą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Epigramat „O wolności polskiej”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gnacy Krasicki (1735-18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Obraz 3" descr="rysunek3_T16_Krasicki_w_prezentacji.PNG"/>
          <p:cNvPicPr/>
          <p:nvPr/>
        </p:nvPicPr>
        <p:blipFill>
          <a:blip r:embed="rId1"/>
          <a:stretch/>
        </p:blipFill>
        <p:spPr>
          <a:xfrm>
            <a:off x="539640" y="1484280"/>
            <a:ext cx="2857680" cy="3745080"/>
          </a:xfrm>
          <a:prstGeom prst="rect">
            <a:avLst/>
          </a:prstGeom>
          <a:ln w="0">
            <a:noFill/>
          </a:ln>
        </p:spPr>
      </p:pic>
      <p:sp>
        <p:nvSpPr>
          <p:cNvPr id="130" name="pole tekstowe 4"/>
          <p:cNvSpPr/>
          <p:nvPr/>
        </p:nvSpPr>
        <p:spPr>
          <a:xfrm>
            <a:off x="3635280" y="1484280"/>
            <a:ext cx="4824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ybitniejszy pisarz polskiego oświecenia, związany z programem reform Stanisława Augusta, w swoich utworach krytykował sarmackie zacofanie i piętnował wady społeczeńst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estawiał dobrą przeszłość ze złą teraźniejszości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Gdzieżeś, cnoto? gdzieś, prawdo? gdzieście się podziały?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” – pytał w satyrze „Świat zepsuty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czciwiej być w okręcie…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5"/>
          <p:cNvSpPr/>
          <p:nvPr/>
        </p:nvSpPr>
        <p:spPr>
          <a:xfrm>
            <a:off x="250920" y="105264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satyrze „Złość ukryta i jawna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asicki podkreśla rolę cnoty i konieczność zmia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Grunt wszystkiego poczciwość, pobożność i z cnot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adnie taka budowla, gdzie grunt nie jest stał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Chcemy nasz stan, stan kraju, ustanowić trwał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Odmieńmy obyczaje, a jąwszy się prac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Niech będą dobrzy, będą szczęśliwi Polacy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satyrze „Świat zepsuty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równał ojczyznę do okrętu w czasie burz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Grozi burza, grzmi niebo; okręt nie zaton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Majtki zgodne z żeglarzem, gdy staną w obron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A choć bezpieczniej okręt opuścić i płynąć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oczciwej być w okręcie, ocalić lub zginą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ublicystyka oświeceni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5"/>
          <p:cNvSpPr/>
          <p:nvPr/>
        </p:nvSpPr>
        <p:spPr>
          <a:xfrm>
            <a:off x="250920" y="1052640"/>
            <a:ext cx="8642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3"/>
          <p:cNvSpPr/>
          <p:nvPr/>
        </p:nvSpPr>
        <p:spPr>
          <a:xfrm>
            <a:off x="539640" y="1557360"/>
            <a:ext cx="813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latach 1765-1785 ukazywało się pismo „Monitor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wzorowane na angielskim „The Spectator”) – krytykowano w nim sarmackie zacofanie, propagowano reformy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kazywano wzór oświeconego szlachcic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wiązani z pismem byli m.in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rasicki, Bohomolec, Konarski, Naruszewicz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okresie Sejmu Czteroletniego działała tzw. Kuźnica Kołłątajowsk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tworzyła ją grupa publicystów, działaczy społecznych i literatów, którzy propagowali program reform i swoimi piórami zabiegali o wsparcie opinii publicznej (czołowe postacie t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łłątaj, Jezierski, Dmochowski, Dembowsk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uliusz Słowacki (1809-184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3"/>
          <p:cNvSpPr/>
          <p:nvPr/>
        </p:nvSpPr>
        <p:spPr>
          <a:xfrm>
            <a:off x="611280" y="1484280"/>
            <a:ext cx="813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eta, dramaturg i epistolograf, jeden z najwybitniejszych twórców epoki romantyzmu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utworze „Grób Agamemnona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kazuje analogie między starożytną Grecją i współczesną Polską ; ojczyzna to dla niego „dusza anielska” w „czerepie rubasznym”, „służebnica cudza”, która była w przeszłości „pawiem narodów” i „papugą”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„Kordianie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prowadza motyw patrioty – spiskowca, który musi zdecydować, czy dla dobra ojczyzny może posłużyć się metodami wątpliwymi etyczne (podstępem i zdradą); jego bohater jest młodym, szlachetnym zapaleńcem, postacią tragiczną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mantyzm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zytywiz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3"/>
          <p:cNvSpPr/>
          <p:nvPr/>
        </p:nvSpPr>
        <p:spPr>
          <a:xfrm>
            <a:off x="611280" y="1052640"/>
            <a:ext cx="813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załka w dół 4"/>
          <p:cNvSpPr/>
          <p:nvPr/>
        </p:nvSpPr>
        <p:spPr>
          <a:xfrm>
            <a:off x="1476360" y="981000"/>
            <a:ext cx="792000" cy="792360"/>
          </a:xfrm>
          <a:prstGeom prst="down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załka w dół 5"/>
          <p:cNvSpPr/>
          <p:nvPr/>
        </p:nvSpPr>
        <p:spPr>
          <a:xfrm>
            <a:off x="6804000" y="981000"/>
            <a:ext cx="792360" cy="792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7"/>
          <p:cNvSpPr/>
          <p:nvPr/>
        </p:nvSpPr>
        <p:spPr>
          <a:xfrm>
            <a:off x="250920" y="1773360"/>
            <a:ext cx="4321080" cy="47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ezgraniczn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święcen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ojczyźnie całego swojego życia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raktowanie sprawy narodowej jako sprawy osobistej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ohaterska i bezkompromisow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alka jednostk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a sprawę ogółu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poteoza rewolucji, spisku i młodości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Teraz duszą jam w moją ojczyznę wcielony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Ciałem połknąłem jej duszę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Ja i ojczyzna to jedno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ickiewicz A., Dziady, cz. III, sc. II, w. 257-5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10"/>
          <p:cNvSpPr/>
          <p:nvPr/>
        </p:nvSpPr>
        <p:spPr>
          <a:xfrm>
            <a:off x="4859280" y="1773360"/>
            <a:ext cx="40338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raca u podstaw” i „praca organiczna”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łużące przebudowie i rozwojowi społeczeństwa jako sposób na ratowanie polskości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zorem obywatela jest człowiek czynu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dolny, pracowity, przedsiębiorczy, rzetelny, zaradny, tolerancyjny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Przysługi otrzymane od społeczeństwa rodzimego jednostka wynagrodzić może tylko osobistą, własną pracą (…)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Orzeszkowa E., Patriotyzm i kosmopolityz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załka w prawo 12"/>
          <p:cNvSpPr/>
          <p:nvPr/>
        </p:nvSpPr>
        <p:spPr>
          <a:xfrm>
            <a:off x="3780000" y="333360"/>
            <a:ext cx="1512720" cy="503280"/>
          </a:xfrm>
          <a:prstGeom prst="right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tefan Żeromski (1864-192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4"/>
          <p:cNvSpPr/>
          <p:nvPr/>
        </p:nvSpPr>
        <p:spPr>
          <a:xfrm>
            <a:off x="250920" y="1125360"/>
            <a:ext cx="8569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utor powieści, nowel i dramatów, publicysta; jeden z najbardziej znanych pisarzy młodopolskich, nazywany „sumieniem polskiej literatury” i „sumieniem narodu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powieści „Ludzie bezdomni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pokazuje bohatera wewnętrznie rozdartego – Tomasz Judym jest lekarzem, który wydobywa się ze społecznych nizin i nie zapomina o swoim pochodzeniu; wyrzeka się miłości i poświęca życie osobiste, by pracować na rzecz najuboższych – czuje, że to jego obywatelski obowiązek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ohater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wieści „Przedwiośnie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ezary Baryka, przechodzi przemianę – obserwujemy nieodpowiedzialnego, łatwo ulegającego ideologiom młodzieńca, który staje się patriotą szukającym najlepszej drogi, by zmieniać Polskę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177336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nota obywatelska w antyku – Sokrates, Platon, Arystoteles, Cyceron (civis romanu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cepcja wzorców antycznych w polskiej myśli politycznej, publicystyce, tradycji literackiej i edukacyjnej późniejszych epok – wybrane przykłady (Jan Długosz, Andrzej Frycz Modrzewski, Jan Kochanowski, Wespazjan Kochowski, Ignacy Krasicki, publicyści oświeceniowi, Juliusz Słowack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ór obywatela w romantyzmie i pozytywizm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nota „nieznośna w swoim uporze” (Stefan Żeromski, Zbigniew Herber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bigniew Herbert (1924-199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4"/>
          <p:cNvSpPr/>
          <p:nvPr/>
        </p:nvSpPr>
        <p:spPr>
          <a:xfrm>
            <a:off x="250920" y="855720"/>
            <a:ext cx="85690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eta, pisarz, dramaturg; w swojej twórczości często odwoływał się d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tradycji antycznej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pisząc o współczesności; w wierszu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„Pan Cogito o cnocie”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ypomina postać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okrates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isze, ż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cnota wydaje się teraz mało atrakcyjna i „nieznośna w swoim uporze”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ic dziwnego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że nie jest oblubienicą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dziwych mężczyz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generałów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tletów władzy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espotów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z wieki idzie za nimi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a płaczliwa stara pann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okropnym kapeluszu Armii Zbawie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pomina”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 cnota to bezzębna stara pan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4"/>
          <p:cNvSpPr/>
          <p:nvPr/>
        </p:nvSpPr>
        <p:spPr>
          <a:xfrm>
            <a:off x="611280" y="1700280"/>
            <a:ext cx="792000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(…) ta zrzędząca, bezzębna stara panna, jaką jest cnota, była za innych czasów, np. u Greków, Rzymian czy w okresie rozkwitu średniowiecza, istotą pełną wdzięku, powabu i czar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x Scheler, O rehabilitacji cnoty, „Biblioteka Marchołta” nr 3, Instytut Literacki, Warszawa 193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3"/>
          <p:cNvSpPr/>
          <p:nvPr/>
        </p:nvSpPr>
        <p:spPr>
          <a:xfrm>
            <a:off x="250920" y="895320"/>
            <a:ext cx="86421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Cyceron, O państwie; O prawach, Wydawnictwo Antyk, Kęty 19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ługosz J., Roczniki czyli kroniki sławnego Królestwa Polskiego. Księga I-XII: do 1480 roku, Wydawnictwo Naukowe PWN, Warszawa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Frycz Modrzewski A., O poprawie Rzeczypospolitej, http://wolnelektury.pl/katalog/lektura/o-poprawie-rzeczypospolitej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erbert Z, 89 wierszy, Wydawnictwo a5, Kraków 199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ernas Cz., Barok, Wydawnictwo Naukowe PWN, Warszawa 19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chanowski J., Odprawa posłów greckich, http://wolnelektury.pl/katalog/lektura/odprawa-poslow-greckich.htm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chanowski J., Pieśni, http://wolnelektury.pl/katalog/lektura/piesn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chowski W., Utwory poetyckie – wybór, Biblioteka Narodowa I 92, Zakład Narodowy im. Ossolińskich, Wrocław 199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rasicki I., Satyry, http://wolnelektury.pl/katalog/lektura/satyry-czesc-pierwsza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Leszczyński A., Dwie twarze Cycerona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yborcza.pl/1,104173,7601016,Dwie_twarze_Cycerona.html?as=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ole tekstowe 3"/>
          <p:cNvSpPr/>
          <p:nvPr/>
        </p:nvSpPr>
        <p:spPr>
          <a:xfrm>
            <a:off x="250920" y="1052640"/>
            <a:ext cx="86421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arkiewicz H., Pozytywizm, Wydawnictwo Naukowe PWN, Warszawa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iłosz Cz., Historia literatury polskiej, Wydawnictwo ZNAK, Kraków 199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zeszkowa E., Patryotyzm i kosmopolityzm: studyum społeczne, Wilno 188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ssowska M., Wzór obywatela w ustroju demokratycznym, Zarząd Główny Towarzystwa Uniwersytetu Robotniczego, Warszawa 194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cheler M., O rehabilitacji cnoty, „Biblioteka Marchołta” nr 3, Instytut Literacki, Warszawa 193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iwicka D., Romantyzm 1822-1863, Wydawnictwo Naukowe PWN, Warszawa 1999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łowacki J., Kordian, http://wolnelektury.pl/katalog/lektura/kordian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łowacki J., Grób Agamemnona, http://wolnelektury.pl/katalog/lektura/grob-agamemnon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zacki J., Historia myśli socjologicznej, Wydawnictwo Naukowe PWN, Warszawa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Środa M., Etyka dla myślących, Czarna Owca, Warszawa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itczak T., Literatura Średniowiecza, Wydawnictwo Naukowe PWN, Warszawa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iomek J., Literatura Odrodzenia, Wydawnictwo Naukowe PWN, Warszawa 199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Żeromski S., Ludzie bezdomni, http://wolnelektury.pl/katalog/lektura/ludzie-bezdomn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Żeromski S., Przedwiośnie, http://wolnelektury.pl/katalog/lektura/przedwiosnie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ole tekstowe 3"/>
          <p:cNvSpPr/>
          <p:nvPr/>
        </p:nvSpPr>
        <p:spPr>
          <a:xfrm>
            <a:off x="684360" y="1197000"/>
            <a:ext cx="7775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.Sokrates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zdjęcie popiersia wykonanego w IV w p.n.e., znajdującego się w Muzeum Pio-Clementino, fot. Jastrow (Marie-Lan Nguyen), źródło: http://commons.wikimedia.org/wiki/File:Socrates_Pio-Clementino_Inv314.jpg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. Platon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ragment fresku „Szkoła ateńska”, autor: Rafael Santi, źródło: Wikimedia Commons, http://pl.wikipedia.org/wiki/Plik:Plato-raphael.jpg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. Jan Długosz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otograficzna reprodukcja rysunku Walerego Eljasza-Radzikowskiego, źródło: http://pl.wikipedia.org/wiki/Plik:Jan_Długosz.P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. Jan Kochanowsk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otograficzna reprodukcja grafiki Aleksandra Tadeusza Regulskiego, źródło: http://pl.wikipedia.org/wiki/Plik:Jan_Kochanowski.p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5. Ignacy Krasick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otograficzna reprodukcja portretu, autor obrazu: Per Krafft the Elder, źródło: Wikimedia Commons, http://pl.wikipedia.org/wiki/Plik:Ignacy_Krasicki_111.P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nota obywatelska w anty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611280" y="119700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starożytnośc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nota (areté)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yła jednym z podstawowych pojęć, bardzo szeroko rozumianym – człowiek cnotliwy m.in. miał silną osobowość, był konsekwentny, niezależny, samodzielny, roztropny, znał swoje możliwości; cnotę można było ćwiczyć pod okiem doświadczonego nauczyciel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jęc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cnoty obywatelskiej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 związek z funkcjonowaniem demokracji ateńskiej i rozwojem republiki rzymskiej –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civis romanus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orowy obywatel: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dkładał dobro ojczyzny nad swoje własne, brał aktywny udział w życiu publicznym, był sprawiedliwy, odpowiedzialny, zdyscyplinowany, miał poczucie obowiązku; tak jak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bry żołnierz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ył też odważny, twardy, lojalny (akcenty militarystyczn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okrates (470-399 p.n.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le tekstowe 4"/>
          <p:cNvSpPr/>
          <p:nvPr/>
        </p:nvSpPr>
        <p:spPr>
          <a:xfrm>
            <a:off x="611280" y="119700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ył filozofem, który rozmawiając z ludźmi i zadając im pytania, skłaniał ich do zastanawiania się nad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ażnymi w życiu wartościam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uświadamiał im ich niewiedzę; nie pozostawił po sobie żadnych pism; został skazany na śmierć za bezbożność i psucie młodzieży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Obraz 3" descr="Socrates_Pio-Clementino_Inv314.jpg"/>
          <p:cNvPicPr/>
          <p:nvPr/>
        </p:nvPicPr>
        <p:blipFill>
          <a:blip r:embed="rId1"/>
          <a:stretch/>
        </p:blipFill>
        <p:spPr>
          <a:xfrm>
            <a:off x="755640" y="3068640"/>
            <a:ext cx="2087640" cy="279576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4"/>
          <p:cNvSpPr/>
          <p:nvPr/>
        </p:nvSpPr>
        <p:spPr>
          <a:xfrm>
            <a:off x="3419640" y="3141720"/>
            <a:ext cx="468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okrates uważał, ż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dstawą cnoty jest wiedz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więc np. ktoś, kto wie, czym jest sprawiedliwość, jest sprawiedliwy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noty można się nauczyć, wytrwale nad sobą pracując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ton (ok. 427-347 p.n.e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4"/>
          <p:cNvSpPr/>
          <p:nvPr/>
        </p:nvSpPr>
        <p:spPr>
          <a:xfrm>
            <a:off x="611280" y="1197000"/>
            <a:ext cx="7993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en słynny grecki filozof traktowa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aństwo jak organiz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tóry dobrze funkcjonuje, jeśli jego poszczególne części podporządkują się potrzebom całości; był zwolennikiem uniformizacji obywateli w sferze zachowania, myśli, odczuć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Obraz 3" descr="rysunek1_T16_Platon_w_prezentacji.jpg"/>
          <p:cNvPicPr/>
          <p:nvPr/>
        </p:nvPicPr>
        <p:blipFill>
          <a:blip r:embed="rId1"/>
          <a:stretch/>
        </p:blipFill>
        <p:spPr>
          <a:xfrm>
            <a:off x="684360" y="299736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108" name="pole tekstowe 4"/>
          <p:cNvSpPr/>
          <p:nvPr/>
        </p:nvSpPr>
        <p:spPr>
          <a:xfrm>
            <a:off x="3348000" y="2924280"/>
            <a:ext cx="5472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odrębnił trzy części duszy człowieka i każdej przypisał  cnotę: części rozumnej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ądr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części impulsywnej (popędliwej)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ęstwo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a części zmysłowej (pożądliwej)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umiarkowa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 aby osiągnąć harmonię potrzebna jest jeszcz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rawiedliwość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nadrzędna cnot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rystoteles (384-322 p.n.e.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611280" y="1197000"/>
            <a:ext cx="7993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rystoteles za Stagir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traktował państwo jak organizm, ale podkreślał różnorodność jego części, które dzięki swojej niezależności i odmienności, współpracując ze sobą, tworzą harmonijną całość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łowiek jest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zwierzęciem politycznym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zn. jest z natury stworzony do życia w państwie i tylko we wspólnocie może być szczęśliw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cnotach trzeba się ćwiczyć – wytrwale nad  sobą pracując, podporządkowywać namiętności rozumowi, zgodnie z zasadą złotego środk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arek Tulliusz Cyceron (106-43 p.n.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4"/>
          <p:cNvSpPr/>
          <p:nvPr/>
        </p:nvSpPr>
        <p:spPr>
          <a:xfrm>
            <a:off x="611280" y="1197000"/>
            <a:ext cx="799308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ówca, filozof i polityk rzymski; ze względu na szczególne zasługi dla państwa był nazywan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ojcem ojczyzny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daremnił spisek Katyliny, który chciał obalić republikę; został zamordowany na polecenie Marka Antoniusza, przeciwko któremu wygłosił czternaście mów (zwanych filipikami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swoich tekstach (przede wszystkim w mowach) jako cnoty obywateli angażujących się w życie publiczne wymieniał m.in.: odwagę, męstwo, uczciwość, odpowiedzialność, wielkoduszność, sprawiedliwość, umiarkowanie, skromność, roztropność, powagę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go zdaniem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Przystoi, aby Ojczyzna była nam droższa niż my sami sobie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n Długosz (1415-1480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395280" y="1052640"/>
            <a:ext cx="5761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Średniowieczny kronikarz, historyk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duchowny i dyplomata, był nauczycielem synów króla Kazimierza Jagiellończyka;  dzieło jego życia t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Roczniki czyli kroniki sławnego Królestwa Polskiego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„Annales seu Cronicae incliti Regni Poloniae”) – w XII księgach opisał dzieje Polski od bajkowych początków do 1480 r., by unieśmiertelnić dzieje narodu i jego bohaterów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Obraz 3" descr="Jan_Długosz.PNG"/>
          <p:cNvPicPr/>
          <p:nvPr/>
        </p:nvPicPr>
        <p:blipFill>
          <a:blip r:embed="rId1"/>
          <a:stretch/>
        </p:blipFill>
        <p:spPr>
          <a:xfrm>
            <a:off x="6372360" y="1052640"/>
            <a:ext cx="2257200" cy="3003480"/>
          </a:xfrm>
          <a:prstGeom prst="rect">
            <a:avLst/>
          </a:prstGeom>
          <a:ln w="0">
            <a:noFill/>
          </a:ln>
        </p:spPr>
      </p:pic>
      <p:sp>
        <p:nvSpPr>
          <p:cNvPr id="116" name="pole tekstowe 4"/>
          <p:cNvSpPr/>
          <p:nvPr/>
        </p:nvSpPr>
        <p:spPr>
          <a:xfrm>
            <a:off x="250920" y="4365720"/>
            <a:ext cx="84978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Każdy tyle dłużen jest swojej Ojczyznie, na ile go stać przy jego zdolnościach i siłach. Za ostatniego taki ma być uważanym, który jej jakimkolwiek upominkiem nie poczci i nie wspomoż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Cytat z dedykacji do „Roczników…” adresowanej w hołdzie pozgonnym do Zbigniewa Oleśnickiego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ndrzej Frycz Modrzewski (1503-157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3"/>
          <p:cNvSpPr/>
          <p:nvPr/>
        </p:nvSpPr>
        <p:spPr>
          <a:xfrm>
            <a:off x="250920" y="1197000"/>
            <a:ext cx="8569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utor rozprawy 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O poprawie Rzeczypospolitej”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był retorem i pisarzem politycznym oraz królewskim sekretarzem. Jego dzieło zostało umieszczone na indeksie ksiąg zakazanych – część dotycząca kościoła została uznana za heretyck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stulowa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równość wobec praw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szystkich grup społecznych, opowiadał się za publicznym szkolnictwem i roztoczeniem przez państwo opieki nad ubogimi; uważał, że władza powinna kontrolować obywate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konywał, ż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amowiedza i mądrość prowadzą do dobrego i uczciwego życi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a złe obyczaje są tylko skutkiem niewiedzy, braku edukacji; powołując się na filozofów starożytnych zalecał ćwiczenie się w cnocie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Ania</cp:lastModifiedBy>
  <dcterms:modified xsi:type="dcterms:W3CDTF">2013-04-10T10:42:41Z</dcterms:modified>
  <cp:revision>380</cp:revision>
  <dc:subject/>
  <dc:title>Slajd 1</dc:title>
</cp:coreProperties>
</file>