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8F0-4BB3-493C-83C6-A8D5E5F2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390-36AD-4AC2-B4A0-AFEF914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40A-E171-45D3-A8A1-88A12DC2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EE1-6CF5-4241-ADAD-ED1D0BFB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C88-2AE2-4238-9C8D-C12760F0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F5E-16C5-4DC3-AD7C-053EEC2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F9B-A5A7-4457-8642-A1331A6F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293-667F-467C-A8C2-C51A1446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B41-B3AD-4273-8D1F-6B09D0CD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1C6-6DFD-4F7A-BB88-7C17E79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DC7-4713-4AC2-927F-2E87B84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43E-D7BB-40F6-BD95-08EB4CE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F3DD-C13C-4A11-B8B8-DCF7C32995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ustrojowa</a:t>
            </a:r>
            <a:br>
              <a:rPr sz="4000"/>
            </a:b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 społeczna po</a:t>
            </a:r>
            <a:r>
              <a:rPr b="1" lang="pl-PL" sz="4000" spc="-1" strike="noStrike">
                <a:solidFill>
                  <a:srgbClr val="008000"/>
                </a:solidFill>
                <a:latin typeface="Tahoma"/>
                <a:ea typeface="Tahoma"/>
              </a:rPr>
              <a:t>           </a:t>
            </a: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ro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72040" y="292896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9"/>
          <p:cNvSpPr/>
          <p:nvPr/>
        </p:nvSpPr>
        <p:spPr>
          <a:xfrm>
            <a:off x="1928880" y="39290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adosław Marzę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571680" y="785880"/>
            <a:ext cx="764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400" spc="-1" strike="noStrike">
                <a:solidFill>
                  <a:srgbClr val="1e1c11"/>
                </a:solidFill>
                <a:latin typeface="Tahoma"/>
                <a:ea typeface="Tahoma"/>
              </a:rPr>
              <a:t>4 czerwca skończył się w Polsce komunizm…” – wyniki wyb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Wykres 14" descr=""/>
          <p:cNvPicPr/>
          <p:nvPr/>
        </p:nvPicPr>
        <p:blipFill>
          <a:blip r:embed="rId4"/>
          <a:stretch/>
        </p:blipFill>
        <p:spPr>
          <a:xfrm>
            <a:off x="592200" y="159228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16"/>
          <p:cNvSpPr/>
          <p:nvPr/>
        </p:nvSpPr>
        <p:spPr>
          <a:xfrm>
            <a:off x="232920" y="221472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7"/>
          <p:cNvSpPr/>
          <p:nvPr/>
        </p:nvSpPr>
        <p:spPr>
          <a:xfrm>
            <a:off x="2333160" y="428616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sojuszn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Wykres 18" descr=""/>
          <p:cNvPicPr/>
          <p:nvPr/>
        </p:nvPicPr>
        <p:blipFill>
          <a:blip r:embed="rId5"/>
          <a:stretch/>
        </p:blipFill>
        <p:spPr>
          <a:xfrm>
            <a:off x="4307040" y="1663560"/>
            <a:ext cx="4887720" cy="30625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13"/>
          <p:cNvSpPr/>
          <p:nvPr/>
        </p:nvSpPr>
        <p:spPr>
          <a:xfrm>
            <a:off x="5590440" y="4786200"/>
            <a:ext cx="219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mitet Obywatelsk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lidarność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19"/>
          <p:cNvSpPr/>
          <p:nvPr/>
        </p:nvSpPr>
        <p:spPr>
          <a:xfrm>
            <a:off x="7252200" y="22147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enryk Stokło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21"/>
          <p:cNvSpPr/>
          <p:nvPr/>
        </p:nvSpPr>
        <p:spPr>
          <a:xfrm>
            <a:off x="357120" y="500076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Frekwencja w II turze: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5%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6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W „Sejmie kontraktowym”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4645080" y="2255760"/>
            <a:ext cx="4711680" cy="329112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9"/>
          <p:cNvSpPr/>
          <p:nvPr/>
        </p:nvSpPr>
        <p:spPr>
          <a:xfrm>
            <a:off x="285840" y="2643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alicja rządzą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10"/>
          <p:cNvSpPr/>
          <p:nvPr/>
        </p:nvSpPr>
        <p:spPr>
          <a:xfrm>
            <a:off x="3429000" y="26431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poz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11"/>
          <p:cNvSpPr/>
          <p:nvPr/>
        </p:nvSpPr>
        <p:spPr>
          <a:xfrm>
            <a:off x="243360" y="3143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ZPR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12"/>
          <p:cNvSpPr/>
          <p:nvPr/>
        </p:nvSpPr>
        <p:spPr>
          <a:xfrm>
            <a:off x="1038240" y="314316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SL, 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4"/>
          <p:cNvSpPr/>
          <p:nvPr/>
        </p:nvSpPr>
        <p:spPr>
          <a:xfrm>
            <a:off x="4437360" y="31431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5"/>
          <p:cNvSpPr/>
          <p:nvPr/>
        </p:nvSpPr>
        <p:spPr>
          <a:xfrm>
            <a:off x="4178160" y="3143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6"/>
          <p:cNvSpPr/>
          <p:nvPr/>
        </p:nvSpPr>
        <p:spPr>
          <a:xfrm>
            <a:off x="35712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9 lipc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gen. Jaruzelski wybrany prezydentem przez Zgromadzenie Narod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7"/>
          <p:cNvSpPr/>
          <p:nvPr/>
        </p:nvSpPr>
        <p:spPr>
          <a:xfrm>
            <a:off x="500040" y="435780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adeusz Mazowiecki nowym kandydatem na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ole tekstowe 19"/>
          <p:cNvSpPr/>
          <p:nvPr/>
        </p:nvSpPr>
        <p:spPr>
          <a:xfrm>
            <a:off x="286200" y="35002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X, UChS, PZK-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ole tekstowe 7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y rzą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16"/>
          <p:cNvSpPr/>
          <p:nvPr/>
        </p:nvSpPr>
        <p:spPr>
          <a:xfrm>
            <a:off x="3500280" y="1785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24 sierpnia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ejm powołuje Mazowieckiego na urząd premi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http://www.poland.gov.pl/generuj/800/600/gallery/kalendarium/72c28_Mazowiecki.jpg"/>
          <p:cNvPicPr/>
          <p:nvPr/>
        </p:nvPicPr>
        <p:blipFill>
          <a:blip r:embed="rId4"/>
          <a:stretch/>
        </p:blipFill>
        <p:spPr>
          <a:xfrm>
            <a:off x="66600" y="1889280"/>
            <a:ext cx="3267000" cy="462096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19"/>
          <p:cNvSpPr/>
          <p:nvPr/>
        </p:nvSpPr>
        <p:spPr>
          <a:xfrm>
            <a:off x="3500280" y="26431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kład nowego rząd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KP, ZSL, SD + pięciu ministrów z PZP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ole tekstowe 21"/>
          <p:cNvSpPr/>
          <p:nvPr/>
        </p:nvSpPr>
        <p:spPr>
          <a:xfrm>
            <a:off x="3500280" y="3500280"/>
            <a:ext cx="56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szłość oddzielamy grubą linią. Odpowiadać będziemy jedynie za to, co uczyniliśmy, by wydobyć Polskę z obecnego stanu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. Mazowie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ole tekstowe 12"/>
          <p:cNvSpPr/>
          <p:nvPr/>
        </p:nvSpPr>
        <p:spPr>
          <a:xfrm>
            <a:off x="78480" y="5286240"/>
            <a:ext cx="286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ahoma"/>
                <a:ea typeface="Tahoma"/>
              </a:rPr>
              <a:t>Fot. Chris Niedenthal/FORUM, http://www.poland.gov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9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ole tekstowe 7"/>
          <p:cNvSpPr/>
          <p:nvPr/>
        </p:nvSpPr>
        <p:spPr>
          <a:xfrm>
            <a:off x="2571840" y="7858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emiany ustrojo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ole tekstowe 16"/>
          <p:cNvSpPr/>
          <p:nvPr/>
        </p:nvSpPr>
        <p:spPr>
          <a:xfrm>
            <a:off x="2571840" y="157176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ustroju jest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STYTUCJA – „nowela grudniow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http://tamteczasy.pl/photo_db/3/4/2/img_da7408e6-0e0e-4fd6-a3ef-4670bbc4c101_orig.jpg"/>
          <p:cNvPicPr/>
          <p:nvPr/>
        </p:nvPicPr>
        <p:blipFill>
          <a:blip r:embed="rId4"/>
          <a:stretch/>
        </p:blipFill>
        <p:spPr>
          <a:xfrm>
            <a:off x="214200" y="500040"/>
            <a:ext cx="1876680" cy="285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195" name=""/>
          <p:cNvGraphicFramePr/>
          <p:nvPr/>
        </p:nvGraphicFramePr>
        <p:xfrm>
          <a:off x="2428920" y="2500200"/>
          <a:ext cx="6500880" cy="267516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Zmi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Nowe zas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azwa państwa: „Rzeczpospolita Pol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demokratycznego państwa praw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„kierowniczej roli parti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sada „sprawiedliwości społecznej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unięto zapis o przyjaźni z ZS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luralizm politycz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iana godła Polski – przywrócenie korony na głowie orł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woboda działalności gospodarcz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chrona własnoś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4" descr="http://www.jakiznaktwoj.pl/_/rsrc/1307522305116/home/minister/mr-pole/godlo.png"/>
          <p:cNvPicPr/>
          <p:nvPr/>
        </p:nvPicPr>
        <p:blipFill>
          <a:blip r:embed="rId5"/>
          <a:stretch/>
        </p:blipFill>
        <p:spPr>
          <a:xfrm>
            <a:off x="428760" y="3714840"/>
            <a:ext cx="1428480" cy="1693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ole tekstowe 7"/>
          <p:cNvSpPr/>
          <p:nvPr/>
        </p:nvSpPr>
        <p:spPr>
          <a:xfrm>
            <a:off x="1500120" y="7858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Nowa polityka zagranicz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ole tekstowe 16"/>
          <p:cNvSpPr/>
          <p:nvPr/>
        </p:nvSpPr>
        <p:spPr>
          <a:xfrm>
            <a:off x="142920" y="157176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łożenie dobrych stosunków z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mc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SRR, potem Ros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ajami Europy Środkowo-Wschodn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aństwami zachodnimi (US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ttp://www.oppeln.diplo.de/contentblob/2364198/Galeriebild_gross/412929/19891112_Kohl_Mazowiecki_Kreisau.jpg"/>
          <p:cNvPicPr/>
          <p:nvPr/>
        </p:nvPicPr>
        <p:blipFill>
          <a:blip r:embed="rId4"/>
          <a:stretch/>
        </p:blipFill>
        <p:spPr>
          <a:xfrm>
            <a:off x="5214960" y="1500120"/>
            <a:ext cx="4429080" cy="28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Prostokąt 13"/>
          <p:cNvSpPr/>
          <p:nvPr/>
        </p:nvSpPr>
        <p:spPr>
          <a:xfrm>
            <a:off x="285840" y="492912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kcesja do NATO oraz Europejskiej Wspólnoty Gospodarczej (Unii Europejski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rostokąt 14"/>
          <p:cNvSpPr/>
          <p:nvPr/>
        </p:nvSpPr>
        <p:spPr>
          <a:xfrm>
            <a:off x="6545520" y="4572000"/>
            <a:ext cx="25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picture-alliance/dpa, http://www.oppeln.diplo.d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1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ole tekstowe 16"/>
          <p:cNvSpPr/>
          <p:nvPr/>
        </p:nvSpPr>
        <p:spPr>
          <a:xfrm>
            <a:off x="142920" y="1571760"/>
            <a:ext cx="8501040" cy="39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89, 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ttp://www.tvp.pl/historia/rocznice-i-wydarzenia/89tvppl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Codogni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bory czerwcowe 1989 roku. U progu przemiany ustrojowej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Instytut Pamięci Narodowej, Warszawa 20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Friszke A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Rok 1989. Polska droga do wolnośc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Sejmowe, Warszawa 2009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Huntington S., Trzecia fala demokratyzacji, PWN, Warszawa 199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Kołodziejczyk M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A to niespodzianka!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8,1,a-to-niespodzianka.rea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sęka P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Wygłosowana niepodległość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polityka.pl/historia/291727,1,wyglosowana-niepodleglosc.read, 9.03.2013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. Codogni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 czyli Polski Rubikon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Prószyński i S-ka, Warszawa 2009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eykowski J. (red.)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Okrągły Stół: droga do demokratycznej Polski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Adam Marszałek, Toruń 20010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oszkowski W., </a:t>
            </a: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Najnowsza historia Polski: 1980-2006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Wydawnictwo Świat Książki, Warszawa 2007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000000"/>
                </a:solidFill>
                <a:latin typeface="Calibri"/>
              </a:rPr>
              <a:t>Zaczęło się w Polsce</a:t>
            </a: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, http://www.rok1989.pl/, 9.03.2013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ole tekstowe 12"/>
          <p:cNvSpPr/>
          <p:nvPr/>
        </p:nvSpPr>
        <p:spPr>
          <a:xfrm>
            <a:off x="1785960" y="7858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22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ole tekstowe 12"/>
          <p:cNvSpPr/>
          <p:nvPr/>
        </p:nvSpPr>
        <p:spPr>
          <a:xfrm>
            <a:off x="1785960" y="292896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ole tekstowe 10"/>
          <p:cNvSpPr/>
          <p:nvPr/>
        </p:nvSpPr>
        <p:spPr>
          <a:xfrm>
            <a:off x="500040" y="1928880"/>
            <a:ext cx="814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jęcie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yczyny transform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ansformacja polityczna – obrady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stanowienia Okrągłego Sto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bory z 4 czerwca 1989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onsekwencje wybor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iany ustroj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lityka zagranicz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ezentacja poświęcona jest przemianom politycznym zapoczątkowanym obradami Okrągłego Stołu. W trakcie lekcji omawiane są przyczyny transformacji ustrojowej, przebieg i skutki porozumienia pomiędzy obozem komunistycznym i solidarnościowym, znaczenie wyborów z 4 czerwca 1989 rok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6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Transformac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ole tekstowe 10"/>
          <p:cNvSpPr/>
          <p:nvPr/>
        </p:nvSpPr>
        <p:spPr>
          <a:xfrm>
            <a:off x="0" y="164304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ahoma"/>
                <a:ea typeface="Tahoma"/>
              </a:rPr>
              <a:t>Polska Rzeczpospolita Lud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ole tekstowe 12"/>
          <p:cNvSpPr/>
          <p:nvPr/>
        </p:nvSpPr>
        <p:spPr>
          <a:xfrm>
            <a:off x="5572080" y="178596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ążkowana strzałka w prawo 13"/>
          <p:cNvSpPr/>
          <p:nvPr/>
        </p:nvSpPr>
        <p:spPr>
          <a:xfrm>
            <a:off x="3143160" y="1714680"/>
            <a:ext cx="2643120" cy="928440"/>
          </a:xfrm>
          <a:prstGeom prst="pi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TRANS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357200" y="3286080"/>
          <a:ext cx="6500880" cy="2011320"/>
        </p:xfrm>
        <a:graphic>
          <a:graphicData uri="http://schemas.openxmlformats.org/drawingml/2006/table">
            <a:tbl>
              <a:tblPr/>
              <a:tblGrid>
                <a:gridCol w="3251160"/>
                <a:gridCol w="324972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bsz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tyka (instytucj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mokratyz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spodar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olny ryn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połeczeństwo obywatels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rzyczy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4"/>
          <p:cNvSpPr/>
          <p:nvPr/>
        </p:nvSpPr>
        <p:spPr>
          <a:xfrm>
            <a:off x="357120" y="15717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uprawomocnienia władzy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kompromitowana władza utraciła możliwość „samoodnow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rostokąt 16"/>
          <p:cNvSpPr/>
          <p:nvPr/>
        </p:nvSpPr>
        <p:spPr>
          <a:xfrm>
            <a:off x="5000760" y="2071800"/>
            <a:ext cx="4143240" cy="1500120"/>
          </a:xfrm>
          <a:prstGeom prst="rect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ystemy demokratyczne odnawiają się poprzez </a:t>
            </a:r>
            <a:r>
              <a:rPr b="1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ybory</a:t>
            </a:r>
            <a:r>
              <a:rPr b="0" i="1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, które umożliwiają dojście do władzy nowej koalicji, z nową polityką i nowymi obietnicami na przyszł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Samuel Huntington, „Trzecia fala demokratyzacji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17"/>
          <p:cNvSpPr/>
          <p:nvPr/>
        </p:nvSpPr>
        <p:spPr>
          <a:xfrm>
            <a:off x="357120" y="23572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ływ polityki kierownictwa ZSRR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lityka reform („pierestrojka”) zapoczątkowana w 1985 roku przez Michaiła Gorbacz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8"/>
          <p:cNvSpPr/>
          <p:nvPr/>
        </p:nvSpPr>
        <p:spPr>
          <a:xfrm>
            <a:off x="357120" y="314316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ryzys gospodarki socjalistycznej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9"/>
          <p:cNvSpPr/>
          <p:nvPr/>
        </p:nvSpPr>
        <p:spPr>
          <a:xfrm>
            <a:off x="357120" y="371484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działy wewnątrz elity komunistycznej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rtyjni reformatorzy 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vs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rtyjny be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21"/>
          <p:cNvSpPr/>
          <p:nvPr/>
        </p:nvSpPr>
        <p:spPr>
          <a:xfrm>
            <a:off x="357120" y="457200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ola niekonfrontacyjnych sił opozycjinych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zczególnie lider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lity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1500120"/>
          <a:ext cx="8358120" cy="1235160"/>
        </p:xfrm>
        <a:graphic>
          <a:graphicData uri="http://schemas.openxmlformats.org/drawingml/2006/table">
            <a:tbl>
              <a:tblPr/>
              <a:tblGrid>
                <a:gridCol w="3071880"/>
                <a:gridCol w="5286240"/>
              </a:tblGrid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Ważne wydarze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Okrągły Stó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iedy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lutego 1989 – 5 kwietnia 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dzi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Pałac Namiestnikowski (Prezydencki) – Warsza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90" name="Wycinek koła 22"/>
          <p:cNvSpPr/>
          <p:nvPr/>
        </p:nvSpPr>
        <p:spPr>
          <a:xfrm>
            <a:off x="200016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Wycinek koła 23"/>
          <p:cNvSpPr/>
          <p:nvPr/>
        </p:nvSpPr>
        <p:spPr>
          <a:xfrm rot="10800000">
            <a:off x="5571720" y="3500280"/>
            <a:ext cx="1500120" cy="1571760"/>
          </a:xfrm>
          <a:custGeom>
            <a:avLst/>
            <a:gdLst>
              <a:gd name="textAreaLeft" fmla="*/ 219600 w 1500120"/>
              <a:gd name="textAreaRight" fmla="*/ 1280520 w 1500120"/>
              <a:gd name="textAreaTop" fmla="*/ 230040 h 1571760"/>
              <a:gd name="textAreaBottom" fmla="*/ 1341720 h 1571760"/>
            </a:gdLst>
            <a:ahLst/>
            <a:rect l="textAreaLeft" t="textAreaTop" r="textAreaRight" b="textAreaBottom"/>
            <a:pathLst>
              <a:path w="1500198" h="1571636">
                <a:moveTo>
                  <a:pt x="764775" y="1571486"/>
                </a:moveTo>
                <a:lnTo>
                  <a:pt x="764775" y="1571486"/>
                </a:lnTo>
                <a:arcTo wR="750099" hR="785818" stAng="5335792" swAng="10864213"/>
                <a:lnTo>
                  <a:pt x="750099" y="785818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24"/>
          <p:cNvSpPr/>
          <p:nvPr/>
        </p:nvSpPr>
        <p:spPr>
          <a:xfrm>
            <a:off x="714240" y="3071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rządow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25"/>
          <p:cNvSpPr/>
          <p:nvPr/>
        </p:nvSpPr>
        <p:spPr>
          <a:xfrm>
            <a:off x="5786280" y="307188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ona społeczna – władze P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27"/>
          <p:cNvSpPr/>
          <p:nvPr/>
        </p:nvSpPr>
        <p:spPr>
          <a:xfrm>
            <a:off x="3000240" y="535788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erwatorzy kościel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28"/>
          <p:cNvSpPr/>
          <p:nvPr/>
        </p:nvSpPr>
        <p:spPr>
          <a:xfrm>
            <a:off x="2781360" y="3571920"/>
            <a:ext cx="348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zespoł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gospodarki i polityk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reform polity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s. pluralizmu związkow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i.wp.pl/a/f/jpeg/21640/02293432.jpeg"/>
          <p:cNvPicPr/>
          <p:nvPr/>
        </p:nvPicPr>
        <p:blipFill>
          <a:blip r:embed="rId4"/>
          <a:stretch/>
        </p:blipFill>
        <p:spPr>
          <a:xfrm>
            <a:off x="1714680" y="928800"/>
            <a:ext cx="609264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pole tekstowe 17"/>
          <p:cNvSpPr/>
          <p:nvPr/>
        </p:nvSpPr>
        <p:spPr>
          <a:xfrm>
            <a:off x="5592600" y="5357880"/>
            <a:ext cx="26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Fot. Damazy Kwiatkowski, http://wiadomosci.wp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0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357120" y="157176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stotą Okrągłego Stołu okazało si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6"/>
          <p:cNvSpPr/>
          <p:nvPr/>
        </p:nvSpPr>
        <p:spPr>
          <a:xfrm>
            <a:off x="4471560" y="157176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POROZUMIE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7"/>
          <p:cNvSpPr/>
          <p:nvPr/>
        </p:nvSpPr>
        <p:spPr>
          <a:xfrm>
            <a:off x="357120" y="214308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miana prawa o stowarzyszeniach i legalizacja „Solidarnośc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18"/>
          <p:cNvSpPr/>
          <p:nvPr/>
        </p:nvSpPr>
        <p:spPr>
          <a:xfrm>
            <a:off x="357120" y="2643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Kontrakt przedwyborczy” – częściowo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Wykres 19" descr=""/>
          <p:cNvPicPr/>
          <p:nvPr/>
        </p:nvPicPr>
        <p:blipFill>
          <a:blip r:embed="rId4"/>
          <a:stretch/>
        </p:blipFill>
        <p:spPr>
          <a:xfrm>
            <a:off x="4307040" y="2878200"/>
            <a:ext cx="4887720" cy="30621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21"/>
          <p:cNvSpPr/>
          <p:nvPr/>
        </p:nvSpPr>
        <p:spPr>
          <a:xfrm>
            <a:off x="2643120" y="3571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andaty do podziału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olnych wybora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22"/>
          <p:cNvSpPr/>
          <p:nvPr/>
        </p:nvSpPr>
        <p:spPr>
          <a:xfrm>
            <a:off x="7143840" y="535788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ZPR i koalicjan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3"/>
          <p:cNvSpPr/>
          <p:nvPr/>
        </p:nvSpPr>
        <p:spPr>
          <a:xfrm>
            <a:off x="357120" y="500076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 Senatu – wolne wyb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1071720" y="78588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1e1c11"/>
                </a:solidFill>
                <a:latin typeface="Tahoma"/>
                <a:ea typeface="Tahoma"/>
              </a:rPr>
              <a:t>Postanowie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8"/>
          <p:cNvSpPr/>
          <p:nvPr/>
        </p:nvSpPr>
        <p:spPr>
          <a:xfrm>
            <a:off x="357120" y="17146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tworzenie urzędu Prezydenta PRL – wybierany przez Zgromadzenie Narodowe na 6 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24"/>
          <p:cNvSpPr/>
          <p:nvPr/>
        </p:nvSpPr>
        <p:spPr>
          <a:xfrm>
            <a:off x="357120" y="2428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ostęp opozycji do mediów („Gazeta Wyborcza”, „Tygodnik Solidarność”, własny 1-godzinny program w telewizj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25"/>
          <p:cNvSpPr/>
          <p:nvPr/>
        </p:nvSpPr>
        <p:spPr>
          <a:xfrm>
            <a:off x="357120" y="31431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lenie terminu wyborów na początek czerwca 1989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rostokąt 26"/>
          <p:cNvSpPr/>
          <p:nvPr/>
        </p:nvSpPr>
        <p:spPr>
          <a:xfrm>
            <a:off x="1000080" y="39290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leży wreszcie wyjaśnić sprawę Katynia, Ostaszkowa i Starobielska (...) Podkreślam - to jest sprawa naszego honoru narod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ładysław Siła-Nowic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3"/>
          <a:stretch/>
        </p:blipFill>
        <p:spPr>
          <a:xfrm>
            <a:off x="142920" y="6000840"/>
            <a:ext cx="1533600" cy="647640"/>
          </a:xfrm>
          <a:prstGeom prst="rect">
            <a:avLst/>
          </a:prstGeom>
          <a:ln w="0">
            <a:noFill/>
          </a:ln>
        </p:spPr>
      </p:pic>
      <p:sp>
        <p:nvSpPr>
          <p:cNvPr id="13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77933c"/>
          </a:solidFill>
          <a:ln w="25560">
            <a:solidFill>
              <a:srgbClr val="77933c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9"/>
          <p:cNvSpPr/>
          <p:nvPr/>
        </p:nvSpPr>
        <p:spPr>
          <a:xfrm>
            <a:off x="857160" y="785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„</a:t>
            </a: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Wybory czerwcowe” – 4 czerwca 19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biblioteka.teatrnn.pl/dlibra/Content/7985/029.jpg?handler=mono-jpg_js"/>
          <p:cNvPicPr/>
          <p:nvPr/>
        </p:nvPicPr>
        <p:blipFill>
          <a:blip r:embed="rId4"/>
          <a:stretch/>
        </p:blipFill>
        <p:spPr>
          <a:xfrm>
            <a:off x="6572160" y="1500120"/>
            <a:ext cx="2238480" cy="32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rostokąt 15"/>
          <p:cNvSpPr/>
          <p:nvPr/>
        </p:nvSpPr>
        <p:spPr>
          <a:xfrm>
            <a:off x="7826040" y="5500800"/>
            <a:ext cx="11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biblioteka.teatrn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http://biblioteka.teatrnn.pl/dlibra/Content/7945/007.jpg?handler=mono-jpg_js"/>
          <p:cNvPicPr/>
          <p:nvPr/>
        </p:nvPicPr>
        <p:blipFill>
          <a:blip r:embed="rId5"/>
          <a:stretch/>
        </p:blipFill>
        <p:spPr>
          <a:xfrm>
            <a:off x="3857760" y="2071800"/>
            <a:ext cx="2357280" cy="15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http://biblioteka.teatrnn.pl/dlibra/Content/7982/plakat_1989.jpg?handler=mono-jpg_js"/>
          <p:cNvPicPr/>
          <p:nvPr/>
        </p:nvPicPr>
        <p:blipFill>
          <a:blip r:embed="rId6"/>
          <a:stretch/>
        </p:blipFill>
        <p:spPr>
          <a:xfrm>
            <a:off x="142920" y="1714680"/>
            <a:ext cx="33703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Picture 8" descr="http://biblioteka.teatrnn.pl/dlibra/Content/7935/002.jpg?handler=mono-jpg_js"/>
          <p:cNvPicPr/>
          <p:nvPr/>
        </p:nvPicPr>
        <p:blipFill>
          <a:blip r:embed="rId7"/>
          <a:stretch/>
        </p:blipFill>
        <p:spPr>
          <a:xfrm>
            <a:off x="3786120" y="4429080"/>
            <a:ext cx="2428920" cy="114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27T18:20:58Z</dcterms:modified>
  <cp:revision>32</cp:revision>
  <dc:subject/>
  <dc:title>Slajd 1</dc:title>
</cp:coreProperties>
</file>