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28C-8FF8-4149-A45E-96A485A1C7A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5060-136B-47BA-975B-42757A80BF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C4E-78FD-4820-8DD9-DFDBAB9F7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B70-3DFC-4320-9D89-05070C66CB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CD3D-D5E5-4757-A408-2C53F18908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6BD-9116-406F-8F58-C662B350E0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0CF-E56F-4115-9D02-77319207A9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E6D-DA11-40CC-A9AC-E4F769C6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B3E-6D53-4C70-8D7F-D84B434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2C9-46FA-425D-8E0E-1300C3EA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DDF-8F5D-43F9-A44C-9D30A635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CF1-AA33-49EB-B0C6-EB163AA6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2AB-085C-4B68-8E41-6AD131B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9AC7-9B26-419C-849F-4D8B18E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D6C2-5E3E-419F-939B-E551137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09B9-7058-405E-B5AB-43E04000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253-198B-42B0-B895-F3B622E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52F2-961E-4982-9DDE-AF52341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92C-FD2D-4132-99A6-B37260F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4278-16AF-4F62-9951-A651F26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247-0B91-4168-A76E-66F6244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6704-0EB6-4881-8891-4937D70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685-99DA-4B8E-AF90-61712525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85C9-9447-41CA-861D-71C41670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D31-0F43-4E23-90EB-5FF1A468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F56-7768-4015-A836-7A80BF1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8A7-AB76-4922-83B0-1F5A888E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5B1-C9EC-4FAC-A1AE-4D793097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0E1-43CC-42EA-B1EC-F69080D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A7D-8DEE-4C27-8320-5805ADC2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E28-CE2D-4002-8810-498356AE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21A-8474-4E54-A413-3FCC1C437BB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2C46-4FEE-4AD7-A770-CB0370AF003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1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or Kordecki, polski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anuarego Suchodolskiego, </a:t>
            </a: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Obrona Jasnej Gór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1190129371"/>
          <p:cNvPicPr/>
          <p:nvPr/>
        </p:nvPicPr>
        <p:blipFill>
          <a:blip r:embed="rId1"/>
          <a:stretch/>
        </p:blipFill>
        <p:spPr>
          <a:xfrm>
            <a:off x="3348000" y="1574640"/>
            <a:ext cx="52783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ktor – obrońca Ojczyz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obrażenie Hektora, żegnającego się z Andromachą i synem powtarza się wielokrotnie w Europejskiej sztuce. W Rzeczypospolitej występuje jako figura literacka oraz przetworzony cytat w dziełach sztu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ector%20et%20Andromache"/>
          <p:cNvPicPr/>
          <p:nvPr/>
        </p:nvPicPr>
        <p:blipFill>
          <a:blip r:embed="rId1"/>
          <a:stretch/>
        </p:blipFill>
        <p:spPr>
          <a:xfrm>
            <a:off x="3708360" y="1341360"/>
            <a:ext cx="5004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Artur Grottg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Wojna cz.4, Pożegn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Wojna04"/>
          <p:cNvPicPr/>
          <p:nvPr/>
        </p:nvPicPr>
        <p:blipFill>
          <a:blip r:embed="rId1"/>
          <a:stretch/>
        </p:blipFill>
        <p:spPr>
          <a:xfrm>
            <a:off x="1763640" y="1700280"/>
            <a:ext cx="52196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Hektor żegna Andromach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http://feyd.rautha.free.fr/Myth/Hector%20adieu.jpg"/>
          <p:cNvPicPr/>
          <p:nvPr/>
        </p:nvPicPr>
        <p:blipFill>
          <a:blip r:embed="rId1"/>
          <a:stretch/>
        </p:blipFill>
        <p:spPr>
          <a:xfrm>
            <a:off x="2987640" y="1557360"/>
            <a:ext cx="327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ózef Simml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Pożegnanie Wacława z Mari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Pozegnanie"/>
          <p:cNvPicPr/>
          <p:nvPr/>
        </p:nvPicPr>
        <p:blipFill>
          <a:blip r:embed="rId1"/>
          <a:stretch/>
        </p:blipFill>
        <p:spPr>
          <a:xfrm>
            <a:off x="1763640" y="2093760"/>
            <a:ext cx="5329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upomina Pary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Hector%20et%20Paris%2001"/>
          <p:cNvPicPr/>
          <p:nvPr/>
        </p:nvPicPr>
        <p:blipFill>
          <a:blip r:embed="rId1"/>
          <a:stretch/>
        </p:blipFill>
        <p:spPr>
          <a:xfrm>
            <a:off x="1768320" y="1600200"/>
            <a:ext cx="52516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walczy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Achilles+fighting+Hector"/>
          <p:cNvPicPr/>
          <p:nvPr/>
        </p:nvPicPr>
        <p:blipFill>
          <a:blip r:embed="rId1"/>
          <a:stretch/>
        </p:blipFill>
        <p:spPr>
          <a:xfrm>
            <a:off x="3348000" y="1852560"/>
            <a:ext cx="5148360" cy="3624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11280" y="1628640"/>
            <a:ext cx="216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agiczna walka Hektora, który podjął wyzwanie, widząc jedynie cień szansy. Już w starożytności przedstawiana była wielokrotnie w sztu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alka Hektora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Achille%20et%20Hector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51280" y="2421000"/>
            <a:ext cx="3035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Jean-Baptis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shays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Ciało Hektora nad brzegiem rzeki Xan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Jean-Baptiste_Deshays_-_Hector_Exposed_on_the_Banks_of_the_Xanthus_River_-_WGA06310"/>
          <p:cNvPicPr/>
          <p:nvPr/>
        </p:nvPicPr>
        <p:blipFill>
          <a:blip r:embed="rId1"/>
          <a:stretch/>
        </p:blipFill>
        <p:spPr>
          <a:xfrm>
            <a:off x="826920" y="1197000"/>
            <a:ext cx="3500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34:09Z</dcterms:modified>
  <cp:revision>13</cp:revision>
  <dc:subject/>
  <dc:title>Slajd 1</dc:title>
</cp:coreProperties>
</file>