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ACE6-D6CB-45F5-983E-2ED7078A33C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5D2-7441-471A-B55B-F1AC82F3BA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1C7C-AF51-4BBB-B43D-2B9A7CB368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D1BF-F426-4C55-BFD2-5519064E0E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B863-81EA-41FF-B646-EEA67AD8E6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4C5B-A6B5-46EA-AEB6-88FE77CF6D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EFA-84A3-4C3A-845A-0E56A56186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A59-4864-49F1-8E7C-CCE33E19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5AF-5A02-45E2-83D0-95C46DEC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2E0-40DF-49CB-AD72-91E9E149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E3F-46F1-466A-89C7-40FF794F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4D0F-20CB-4DB1-82B4-B492A289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5617-A5A1-4C04-94D0-A30ABDA6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2D80-DA0D-434F-A473-DA82B4E7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55CF-7E70-4752-AA70-6637C7EA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C8B-6A0E-47C5-9121-5E86FAC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9863-2BF3-49FC-B38F-91EE160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2170-7D0B-4F42-8BDD-F1D03C1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876-FC37-4AC1-A08B-710CBE2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1BD-B41C-4A18-91AC-BF64630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2825-932F-436F-806C-75412F2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708B-71B0-4A34-ADCD-FB94079B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14C-3180-4EF2-8D25-C99D98CB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87AC-E392-4CF2-9E6B-2A7D022C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DF1-5E3B-41F1-8820-A03CE29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EEF-BA99-4089-A4FB-03CCA8B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245-FBC8-4143-9341-BAFCE65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982-2187-4FA4-9FEE-C38E34A0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743-0B9D-4D4B-970B-486BE6E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1FB-BD15-4791-B31E-2C48D35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A42-254E-4C97-A85F-DDCDF35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70D-A27C-47D0-A487-8FEADF92315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9E0-1569-4879-A1D0-182284497C4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QL0bXxjqEQ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ntyczni herosi 1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or Kordecki, polski Hekt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anuarego Suchodolskiego, </a:t>
            </a:r>
            <a:r>
              <a:rPr b="1" i="1" lang="pl-PL" sz="3200" spc="-1" strike="noStrike">
                <a:solidFill>
                  <a:srgbClr val="000000"/>
                </a:solidFill>
                <a:latin typeface="Calibri"/>
              </a:rPr>
              <a:t>Obrona Jasnej Gór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1190129371"/>
          <p:cNvPicPr/>
          <p:nvPr/>
        </p:nvPicPr>
        <p:blipFill>
          <a:blip r:embed="rId1"/>
          <a:stretch/>
        </p:blipFill>
        <p:spPr>
          <a:xfrm>
            <a:off x="3348000" y="1574640"/>
            <a:ext cx="52783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liusz Konstanty Or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Plik:Julian Ordon1.JPG"/>
          <p:cNvPicPr/>
          <p:nvPr/>
        </p:nvPicPr>
        <p:blipFill>
          <a:blip r:embed="rId1"/>
          <a:stretch/>
        </p:blipFill>
        <p:spPr>
          <a:xfrm>
            <a:off x="575460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755640" y="1484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ważany za polski synonim Samsona i Hektora, oficer który wysadził w 1831 redutę nr 54, wraz z wkraczającymi do niej żołnierzami rosyjskimi. Adam Mickiewicz poświęcił mu wiersz, w którym Ordon miał polec. Okazało się jednak, że zdołał, mimo obrażeń, przeży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http://www.livius.org/a/greece/sparta/sparta_athena_chalkioiokos_leonidas_mus_sparta_jvv5.JPG"/>
          <p:cNvPicPr/>
          <p:nvPr/>
        </p:nvPicPr>
        <p:blipFill>
          <a:blip r:embed="rId1"/>
          <a:stretch/>
        </p:blipFill>
        <p:spPr>
          <a:xfrm>
            <a:off x="2843280" y="1484280"/>
            <a:ext cx="2846160" cy="4465800"/>
          </a:xfrm>
          <a:prstGeom prst="rect">
            <a:avLst/>
          </a:prstGeom>
          <a:ln w="0">
            <a:noFill/>
          </a:ln>
        </p:spPr>
      </p:pic>
      <p:sp>
        <p:nvSpPr>
          <p:cNvPr id="123" name="Prostokąt 1"/>
          <p:cNvSpPr/>
          <p:nvPr/>
        </p:nvSpPr>
        <p:spPr>
          <a:xfrm>
            <a:off x="1763640" y="476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o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molon-labe"/>
          <p:cNvPicPr/>
          <p:nvPr/>
        </p:nvPicPr>
        <p:blipFill>
          <a:blip r:embed="rId1"/>
          <a:stretch/>
        </p:blipFill>
        <p:spPr>
          <a:xfrm>
            <a:off x="395280" y="2276640"/>
            <a:ext cx="8388360" cy="3001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dź i we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1484280"/>
            <a:ext cx="59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Arial"/>
              </a:rPr>
              <a:t>Nazywany „Polskim Leonidasem” kpt. Władysław Raginis bronił odcinka umocnionego „Wizna”z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360 (wg innych źródeł 720) żołnierzami i 9 bunkrami (niedokończonymi) zatrzymał przez trzy dni XIX Korpus Pancerny gen. Heinza Guderiana – razem 42 200 żołnierzy niemieckich, 350 czołgów, 457 dział, wspieranych przez 600 samolotów Luftwaffe. Poległ na posterun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Wladyslaw_Raginis"/>
          <p:cNvPicPr/>
          <p:nvPr/>
        </p:nvPicPr>
        <p:blipFill>
          <a:blip r:embed="rId1"/>
          <a:stretch/>
        </p:blipFill>
        <p:spPr>
          <a:xfrm>
            <a:off x="6300720" y="2060640"/>
            <a:ext cx="226692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pt. Władysław Ragi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pt. Raginis na nowo odkry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95280" y="206064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ocno zapomnianą postać kapitana „odkryli na nowo” szwedzcy muzycy z zespołu Saba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1QL0bXxjqEQ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(dostęp 15.03.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Hektor – obrońca Ojczyz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obrażenie Hektora, żegnającego się z Andromachą i synem powtarza się wielokrotnie w Europejskiej sztuce. W Rzeczypospolitej występuje jako figura literacka oraz przetworzony cytat w dziełach sztu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ector%20et%20Andromache"/>
          <p:cNvPicPr/>
          <p:nvPr/>
        </p:nvPicPr>
        <p:blipFill>
          <a:blip r:embed="rId1"/>
          <a:stretch/>
        </p:blipFill>
        <p:spPr>
          <a:xfrm>
            <a:off x="3708360" y="1341360"/>
            <a:ext cx="50040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Artur Grottger, 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Wojna cz.4, Pożegn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Wojna04"/>
          <p:cNvPicPr/>
          <p:nvPr/>
        </p:nvPicPr>
        <p:blipFill>
          <a:blip r:embed="rId1"/>
          <a:stretch/>
        </p:blipFill>
        <p:spPr>
          <a:xfrm>
            <a:off x="1763640" y="1700280"/>
            <a:ext cx="52196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Hektor żegna Andromach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http://feyd.rautha.free.fr/Myth/Hector%20adieu.jpg"/>
          <p:cNvPicPr/>
          <p:nvPr/>
        </p:nvPicPr>
        <p:blipFill>
          <a:blip r:embed="rId1"/>
          <a:stretch/>
        </p:blipFill>
        <p:spPr>
          <a:xfrm>
            <a:off x="2987640" y="1557360"/>
            <a:ext cx="3270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ózef Simmler, </a:t>
            </a:r>
            <a:r>
              <a:rPr b="0" i="1" lang="pl-PL" sz="4000" spc="-1" strike="noStrike">
                <a:solidFill>
                  <a:srgbClr val="000000"/>
                </a:solidFill>
                <a:latin typeface="Calibri"/>
              </a:rPr>
              <a:t>Pożegnanie Wacława z Mari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Pozegnanie"/>
          <p:cNvPicPr/>
          <p:nvPr/>
        </p:nvPicPr>
        <p:blipFill>
          <a:blip r:embed="rId1"/>
          <a:stretch/>
        </p:blipFill>
        <p:spPr>
          <a:xfrm>
            <a:off x="1763640" y="2093760"/>
            <a:ext cx="5329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ektor upomina Pary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Hector%20et%20Paris%2001"/>
          <p:cNvPicPr/>
          <p:nvPr/>
        </p:nvPicPr>
        <p:blipFill>
          <a:blip r:embed="rId1"/>
          <a:stretch/>
        </p:blipFill>
        <p:spPr>
          <a:xfrm>
            <a:off x="1768320" y="1600200"/>
            <a:ext cx="52516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ektor walczy z Achilles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Achilles+fighting+Hector"/>
          <p:cNvPicPr/>
          <p:nvPr/>
        </p:nvPicPr>
        <p:blipFill>
          <a:blip r:embed="rId1"/>
          <a:stretch/>
        </p:blipFill>
        <p:spPr>
          <a:xfrm>
            <a:off x="3348000" y="1852560"/>
            <a:ext cx="5148360" cy="3624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11280" y="1628640"/>
            <a:ext cx="216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agiczna walka Hektora, który podjął wyzwanie, widząc jedynie cień szansy. Już w starożytności przedstawiana była wielokrotnie w sztu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alka Hektora z Achilles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Achille%20et%20Hector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mierć Hekt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51280" y="2421000"/>
            <a:ext cx="3035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raz Jean-Baptis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shays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Ciało Hektora nad brzegiem rzeki Xan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Jean-Baptiste_Deshays_-_Hector_Exposed_on_the_Banks_of_the_Xanthus_River_-_WGA06310"/>
          <p:cNvPicPr/>
          <p:nvPr/>
        </p:nvPicPr>
        <p:blipFill>
          <a:blip r:embed="rId1"/>
          <a:stretch/>
        </p:blipFill>
        <p:spPr>
          <a:xfrm>
            <a:off x="826920" y="1197000"/>
            <a:ext cx="35006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34:09Z</dcterms:modified>
  <cp:revision>13</cp:revision>
  <dc:subject/>
  <dc:title>Slajd 1</dc:title>
</cp:coreProperties>
</file>