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F107-45A3-4618-B27D-FDF4DBB78C1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8B7C-900C-4817-B5DA-3DC339EDBE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A4B2-64D1-48C6-959A-0A1E0AE5F84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CA7D-40BD-4C6A-A642-EB89546813F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5D3-04C9-464E-AEB1-D3EBF5E29F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F4D2-7265-416A-AA9C-3DCF46B0F9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57FA-C9E0-409B-BB59-EEC340FC7E0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D726-79BE-438F-8DCA-1AEB50D301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7664-39DE-40F1-AAC9-94AD031E0A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8524-A456-49CA-985B-5EDEA5747E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B1E7-3091-4D77-B2B7-F53FD45D8E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4D2-23F6-48D5-B1F5-CC674E11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74E-056F-41E0-BF6E-E8512D2F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462-F03E-4A1F-A4F5-1C891ADF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FFF-C25B-4BBC-928E-8E3DC466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BD8C-3F39-4C58-B7FC-74DE6CB9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AFFB-9081-4BF9-B8A2-FD566275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DC99-4D32-4CD7-AE49-63512AE8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763D-74F8-4E07-B043-44159A00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EFDE-37FA-46A0-9A79-4A22A7D0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ECF5-BF7E-4371-8F12-94A180F2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CE56-1DAB-4DC4-88BD-925B8081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FED-D81B-45C3-B1C9-AABD4035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5D36-45BF-4585-8EB6-CF38E7C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5826-F22C-419E-97DD-B46EAC80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F14F-EF3B-4798-9564-C8844926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25D6-5BB7-44BC-A7D9-62EA54A9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E3B6-F8DC-4FF8-98E5-87F69692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449-850E-483D-BE06-64F6C792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1C6-9A21-4995-92B3-ADBBF575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71D-DB75-4E51-93E5-02C5E807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D8F-443D-4EB9-9F25-A58A4A6D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1FE-6F41-434F-B8D7-5B71CF58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2B0-72BC-431C-95AA-3B6D8BFA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7E6-4915-4203-B43B-025DC07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BEB7-BEC9-4C88-A586-BF85FCA8E87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BBE-F908-42D1-84CF-7A2FFED7D44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www.pmk-wuppertal.de/kwartalnik_nasz_kosciol/kwartalnik25/swienta_swientych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chidiecezja.pl/include/article_img/olesnicki.jpg" TargetMode="External"/><Relationship Id="rId2" Type="http://schemas.openxmlformats.org/officeDocument/2006/relationships/hyperlink" Target="http://wiadomosci.wp.pl/kat,1342,title,Chcial-zabic-Gomulke-stracono-go-na-szubienicy,wid,14042997,wiadomosc.html?ticaid=110c53&amp;_ticrsn=5" TargetMode="External"/><Relationship Id="rId3" Type="http://schemas.openxmlformats.org/officeDocument/2006/relationships/hyperlink" Target="http://www.archidiecezja.pl/include/article_img/olesnicki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pn.poczytaj.pl/116252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p2w.pl/pl/33769/0/Biskup_Czeslaw_Kaczmarek_1895-1963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Kzb35PwkKgk" TargetMode="External"/><Relationship Id="rId2" Type="http://schemas.openxmlformats.org/officeDocument/2006/relationships/hyperlink" Target="http://www.youtube.com/watch?v=aVD-lgaLOs0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280" y="1591920"/>
            <a:ext cx="5113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. Polski Panteon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17.Kościół katolicki wobec komuniz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mk-wuppertal.de/kwartalnik_nasz_kosciol/kwartalnik25/swienta_swientych.ht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11"/>
          <p:cNvPicPr/>
          <p:nvPr/>
        </p:nvPicPr>
        <p:blipFill>
          <a:blip r:embed="rId3"/>
          <a:stretch/>
        </p:blipFill>
        <p:spPr>
          <a:xfrm>
            <a:off x="395280" y="1268280"/>
            <a:ext cx="247644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wieczki Wyszyńskiego kontra barany Gomułki, czyli Millen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(196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6"/>
          <p:cNvSpPr/>
          <p:nvPr/>
        </p:nvSpPr>
        <p:spPr>
          <a:xfrm>
            <a:off x="4859280" y="4076640"/>
            <a:ext cx="42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adomosci.wp.pl/kat,1342,title,Chcial-zabic-Gomulke-stracono-go-na-szubienicy,wid,14042997,wiadomosc.html?ticaid=110c53&amp;_ticrsn=5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7"/>
          <p:cNvSpPr/>
          <p:nvPr/>
        </p:nvSpPr>
        <p:spPr>
          <a:xfrm>
            <a:off x="0" y="4292640"/>
            <a:ext cx="1908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s://upload.wikimedia.org/wikipedia/en/thumb/4/42/Wyszy%C5%84ski.jpg/220px-Wyszy%C5%84ski.jpg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0" descr="220px-Wyszy%C5%84ski"/>
          <p:cNvPicPr/>
          <p:nvPr/>
        </p:nvPicPr>
        <p:blipFill>
          <a:blip r:embed="rId4"/>
          <a:stretch/>
        </p:blipFill>
        <p:spPr>
          <a:xfrm>
            <a:off x="179280" y="1557360"/>
            <a:ext cx="2095560" cy="2705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pap_gomulka_600"/>
          <p:cNvPicPr/>
          <p:nvPr/>
        </p:nvPicPr>
        <p:blipFill>
          <a:blip r:embed="rId5"/>
          <a:stretch/>
        </p:blipFill>
        <p:spPr>
          <a:xfrm>
            <a:off x="4859280" y="1484280"/>
            <a:ext cx="3721320" cy="2481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6"/>
          <p:cNvSpPr/>
          <p:nvPr/>
        </p:nvSpPr>
        <p:spPr>
          <a:xfrm>
            <a:off x="2340000" y="2421000"/>
            <a:ext cx="2376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óba zawłaszczenia rocznicy chrztu (jako 1000-lecie państwa polskieg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rót do polityki ateizacji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Normalizacja stosunków prawnych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ormalizacja, zgody na budownictw0 sakraln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prawa stosunków na linii Polska-Watyk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Nieznaczna normalizacja w I połowie lat 70-t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4360" y="1916280"/>
            <a:ext cx="54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mowy ze Stolicą Apostolsk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gody na budowy kościołów (m.in. w Nowej Hucie, która miała być miastem bez kościołów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0" descr="Plik:KościółMatkiBożejKrólowejPolski(Arka)-UlicaObrońcówKrzyża-POL, Kraków.jpg"/>
          <p:cNvPicPr/>
          <p:nvPr/>
        </p:nvPicPr>
        <p:blipFill>
          <a:blip r:embed="rId1"/>
          <a:stretch/>
        </p:blipFill>
        <p:spPr>
          <a:xfrm>
            <a:off x="5651640" y="1700280"/>
            <a:ext cx="3090600" cy="23176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6804000" y="4057920"/>
            <a:ext cx="197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Ko%C5%9Bci%C3%B3%C5%82MatkiBo%C5%BCejKr%C3%B3lowejPolski(Arka)-UlicaObro%C5%84c%C3%B3wKrzy%C5%BCa-POL,_Krak%C3%B3w.jpg, dostęp 29/05/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Jan Paweł II (1978 - 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50920" y="292428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pielgrzymka do Ojczyzny – 1979 – spotkania z wiernymi uważane są za początek końca komunizmu. Polscy katolicy zobaczyli, że są liczni, zorganizowani i siln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uga (1983) – obudziła załamanego stanem wojennym ducha opozy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lgrzymek do Polski błogosławiony papież odbył jeszcze sześ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79280" y="52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ze streszczeniem pielgrzyme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7xXt03ODl0E, dostęp 20.05.201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1" descr="Plik:JohannesPaul2-portrait.jpg"/>
          <p:cNvPicPr/>
          <p:nvPr/>
        </p:nvPicPr>
        <p:blipFill>
          <a:blip r:embed="rId1"/>
          <a:stretch/>
        </p:blipFill>
        <p:spPr>
          <a:xfrm>
            <a:off x="250920" y="404640"/>
            <a:ext cx="1800000" cy="220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2124000" y="166608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pl.wikipedia.org/wiki/Plik:JohannesPaul2-portrait.jpg, dostęp 20.05.20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epresje po stanie wojenny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ieznani sprawcy” – lista bandyckich napaści na kapłan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zmocnienie krytyki medialnej Kościo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strożność – władza Kościelna również odpowiednio ostrożnie reagu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Zaangażowanie Kościoła po stronie „Solidarności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Ks. Jerzy Popiełuszko, kapelan „Solidarności” i jego męczeńska śmier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rymasowski Komitet Pomocy Osobom Pozbawionym Wolności i Ich Rodzinom  był niezastąpionym wsparciem dla opozycji w czasach stanu wojen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strożna polityka prymasa Józefa Glempa i zaangażowanie w pośredniczeniu między władzą a opozycją w krytycznych latach 1988-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dtytuł 3"/>
          <p:cNvSpPr/>
          <p:nvPr/>
        </p:nvSpPr>
        <p:spPr>
          <a:xfrm>
            <a:off x="250920" y="33336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Ostatnia runda – 1980-19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1- zdobywanie władz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ładza jest ostrożna wobec Kościoł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rywa konkordat, ale nie odżegnuje się od praktyk religij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ikwiduje opozycję, szkodzi Kościołowi atakami „niezależnej prasy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Bolesław Bierut (oficjalnie bezpartyjny prezydent) demonstracyjnie brał udział we Mszach Św. Celem było przekonanie prostych ludzi o patriotyczno-religijnym charakterze nowych władz. Jednocześnie odwołano konkordat ze Stolicą Apostolsk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emonstracyjna pobożność partyjnych przywódc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organizacje_mlodziezowe_1947-49_400_267"/>
          <p:cNvPicPr/>
          <p:nvPr/>
        </p:nvPicPr>
        <p:blipFill>
          <a:blip r:embed="rId1"/>
          <a:stretch/>
        </p:blipFill>
        <p:spPr>
          <a:xfrm>
            <a:off x="1187280" y="3213000"/>
            <a:ext cx="3810240" cy="2543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580000" y="3573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lesław Bierut uczestniczy we Mszy św. we Wrześ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9"/>
          <p:cNvSpPr/>
          <p:nvPr/>
        </p:nvSpPr>
        <p:spPr>
          <a:xfrm flipH="1">
            <a:off x="3850920" y="3933720"/>
            <a:ext cx="2050920" cy="50328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3"/>
          <p:cNvSpPr/>
          <p:nvPr/>
        </p:nvSpPr>
        <p:spPr>
          <a:xfrm>
            <a:off x="324000" y="4869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pn.poczytaj.pl/11625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9640" y="47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zw. księża – patrioci (1949 -19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9" descr="Ruch Księży patriotów w województwie katowickim w latach 1949-1956"/>
          <p:cNvPicPr/>
          <p:nvPr/>
        </p:nvPicPr>
        <p:blipFill>
          <a:blip r:embed="rId2"/>
          <a:stretch/>
        </p:blipFill>
        <p:spPr>
          <a:xfrm>
            <a:off x="3348000" y="1197000"/>
            <a:ext cx="2857680" cy="4143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9640" y="1413000"/>
            <a:ext cx="23036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mysł z 1949 wyszedł od rosyjskiego gen. Iwana Siero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sięża ci działali przy oficjalnej organizacji kombatanckiej (ZBOWi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6588000" y="1268280"/>
            <a:ext cx="2305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ama nazwa sugerowała, że patriotami są tylko ci księża, którzy współpracują z władz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2- utrwalanie władz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zorne umowy (1950) i zaostrzenie repres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ieprzestrzeganie umów z Kościoł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2- utrwalanie władz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więzienia najbardziej niepokornyc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opniowe znoszenie nauczania religi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óba kontroli świeckiej nad Kościołem poprzez „księzy patriotów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Sprawa biskupa Czesława Kaczmar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rostokąt 5"/>
          <p:cNvSpPr/>
          <p:nvPr/>
        </p:nvSpPr>
        <p:spPr>
          <a:xfrm>
            <a:off x="324000" y="422100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jp2w.pl/pl/33769/0/Biskup_Czeslaw_Kaczmarek_1895-1963.htm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8" descr="przesladowanie_kosciola_bp_stanislaw_kaczmarek"/>
          <p:cNvPicPr/>
          <p:nvPr/>
        </p:nvPicPr>
        <p:blipFill>
          <a:blip r:embed="rId2"/>
          <a:stretch/>
        </p:blipFill>
        <p:spPr>
          <a:xfrm>
            <a:off x="324000" y="1413000"/>
            <a:ext cx="2027160" cy="280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2987640" y="1484280"/>
            <a:ext cx="5400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esztowany 21 stycznia 195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ezwzględnie torturowany w śledztw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azany pod zarzutem szpiegostwa w pokazowym procesie (153) na 12 lat więzi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olniony w 1957 roku, nadal prześladowany przez władze (żądano jego zwolnienia ze stanowisk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iedy nie udało się złamać biskupa sięgnięto po oszczerstwa, publikowane przez działacza ruchu księży-patrio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tap 3 – „odwilż” i ostre starc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prawa stosunków państwo Kośció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isław Wyszyński wychodzi z więzienia, lecz nie zmienia negatywnej postawy wobec komunist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chody Millenium irytują komunist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ładze zaostrzają kurs – znoszą relgię w szkołach, oraganizują konkurencyjne do Millenium impre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ędzie biskupów polskich do biskupów niemieckich-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77336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 Prosimy Was, katoliccy Pasterze Narodu niemieckiego, abyście na własny sposób obchodzili z nami nasze chrześcijański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lleni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ym jak najbardziej chrześcijańskim, ale i bardzo ludzkim duchu, wyciągamy do Was, siedzących tu, na ławach kończącego się Soboru, nasze ręce oraz udzielamy wybaczenia i prosimy o nie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50920" y="45079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Kzb35PwkKg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11280" y="5445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isteryczna reakcja PZPR – „nie prosimy i nie wybaczamy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24000" y="494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 2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aVD-lgaLOs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, dostęp 23.05. 201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27T17:36:15Z</dcterms:modified>
  <cp:revision>38</cp:revision>
  <dc:subject/>
  <dc:title>Slajd 1</dc:title>
</cp:coreProperties>
</file>