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29D2-A51F-4C28-B22C-D086CDD11422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DC60-5218-45F2-B657-E11C7BCD8CF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CCE0-41D4-4DEB-BDB9-2B3D519B0A3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2D40-AE31-4981-99AC-E8BD56957FC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B339-E8B6-4234-B985-203FE5391A8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7D16-B309-41CD-938E-246ECFDF238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7B9D-7B08-40D0-B4B2-ED52B93211E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33D3-F9A8-4F05-A01B-7A5375323A9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598D-1F69-46DA-9B97-47D4C5E6959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18DB-64F6-4FE2-8607-30855EA8DBC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F1B6-92EB-49ED-9A3E-2B6DDEFCC05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B633-CA35-43BA-A535-1B4748F9D99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A7B3-CAAE-474D-BBAC-88BDFE70A6C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1807-06E2-4888-9FB4-95F8B1EBA0F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7DD6-6DDE-4651-AE8E-E8CFD8C8562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9D26-9020-46EF-81AF-54E2794F2DE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1DFC-FB2E-48FE-8ADA-44AC35941DD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80DF-CDC6-4FE2-AA26-2A057AEF6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4373-D8CC-482A-AC30-8615BEBE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4188-A0E2-4C27-ACF3-AEA4E0278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E228-1647-48DA-BFED-7D35D282C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2BCD-4E21-4A01-9A7F-21B34C491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B2AA5-CCBF-40D3-834A-C6C1AD96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01F3-CEA3-4FC0-9F64-DDABF63E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895C-2E5D-4A80-8A88-B360FD75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3B76-0F24-43D7-833E-EBDE4565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A30B-E05E-4C53-BB57-8E4CB6C0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068A-94DC-4B99-9463-08AF38A5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75B9-7621-4070-AFB8-A7F9C8CF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54F8-092C-48E9-A90E-93E53A49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52A7-6C72-464C-8B81-39E40F35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2638-5CC2-4946-A89A-E918F4ED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15D86-07A2-4A55-B3E7-2E372C644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A846B-9417-4C49-9A5D-ED214CE07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0865-4C40-44D5-82EB-AA96CC79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3665-B38E-43E0-BD0E-17B54CFE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82E2-5249-45FC-A12C-0E57AAE7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74FE-EB3D-405D-A44A-329836F2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4E1E-5224-4DDD-B80B-F3ABAB90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22F6-9A47-4DA9-B786-B4336C6E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D685-4D26-4DEC-B77B-77FE8F23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69F9-9EA7-482F-9E93-B54BD11B9067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58EA-B9B8-4623-8BC0-B4418B8E406D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thumb/c/cd/Cleric-Knight-Workman.jpg/250px-Cleric-Knight-Workman.jpg" TargetMode="External"/><Relationship Id="rId2" Type="http://schemas.openxmlformats.org/officeDocument/2006/relationships/hyperlink" Target="http://www.pmk-wuppertal.de/kwartalnik_nasz_kosciol/kwartalnik25/swienta_swientych.htm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archidiecezja.pl/include/article_img/olesnicki.jpg" TargetMode="External"/><Relationship Id="rId2" Type="http://schemas.openxmlformats.org/officeDocument/2006/relationships/hyperlink" Target="http://wiadomosci.wp.pl/kat,1342,title,Chcial-zabic-Gomulke-stracono-go-na-szubienicy,wid,14042997,wiadomosc.html?ticaid=110c53&amp;_ticrsn=5" TargetMode="External"/><Relationship Id="rId3" Type="http://schemas.openxmlformats.org/officeDocument/2006/relationships/hyperlink" Target="http://www.archidiecezja.pl/include/article_img/olesnicki.jpg" TargetMode="External"/><Relationship Id="rId4" Type="http://schemas.openxmlformats.org/officeDocument/2006/relationships/hyperlink" Target="https://upload.wikimedia.org/wikipedia/en/thumb/4/42/Wyszy&#324;ski.jpg/220px-Wyszy&#324;ski.jpg" TargetMode="External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thumb/c/cd/Cleric-Knight-Workman.jpg/250px-Cleric-Knight-Workman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repozytorium.fn.org.pl/?q=pl/node/4517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lustronauki.files.wordpress.com/2011/05/5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pn.poczytaj.pl/116252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repozytorium.fn.org.pl/?q=pl/node/5576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jp2w.pl/pl/33769/0/Biskup_Czeslaw_Kaczmarek_1895-1963.html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Kzb35PwkKgk" TargetMode="External"/><Relationship Id="rId2" Type="http://schemas.openxmlformats.org/officeDocument/2006/relationships/hyperlink" Target="http://www.youtube.com/watch?v=aVD-lgaLOs0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19280" y="1591920"/>
            <a:ext cx="511308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9. Polski Panteon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17.Kościół katolicki wobec komuniz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2411280" y="357336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rostokąt 3"/>
          <p:cNvSpPr/>
          <p:nvPr/>
        </p:nvSpPr>
        <p:spPr>
          <a:xfrm>
            <a:off x="324000" y="4869000"/>
            <a:ext cx="2879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Źródło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pmk-wuppertal.de/kwartalnik_nasz_kosciol/kwartalnik25/swienta_swientych.htm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, dostęp 16.05.201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9" descr="11"/>
          <p:cNvPicPr/>
          <p:nvPr/>
        </p:nvPicPr>
        <p:blipFill>
          <a:blip r:embed="rId3"/>
          <a:stretch/>
        </p:blipFill>
        <p:spPr>
          <a:xfrm>
            <a:off x="395280" y="1268280"/>
            <a:ext cx="2476440" cy="3038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39528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Owieczki Wyszyńskiego kontra barany Gomułki, czyli Millen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(196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rostokąt 6"/>
          <p:cNvSpPr/>
          <p:nvPr/>
        </p:nvSpPr>
        <p:spPr>
          <a:xfrm>
            <a:off x="4859280" y="4076640"/>
            <a:ext cx="428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Źródło:</a:t>
            </a:r>
            <a:r>
              <a:rPr b="0" lang="pl-PL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iadomosci.wp.pl/kat,1342,title,Chcial-zabic-Gomulke-stracono-go-na-szubienicy,wid,14042997,wiadomosc.html?ticaid=110c53&amp;_ticrsn=5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rostokąt 7"/>
          <p:cNvSpPr/>
          <p:nvPr/>
        </p:nvSpPr>
        <p:spPr>
          <a:xfrm>
            <a:off x="0" y="4292640"/>
            <a:ext cx="1908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Źródło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s://upload.wikimedia.org/wikipedia/en/thumb/4/42/Wyszy%C5%84ski.jpg/220px-Wyszy%C5%84ski.jpg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Dostęp 21.05.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0" descr="220px-Wyszy%C5%84ski"/>
          <p:cNvPicPr/>
          <p:nvPr/>
        </p:nvPicPr>
        <p:blipFill>
          <a:blip r:embed="rId5"/>
          <a:stretch/>
        </p:blipFill>
        <p:spPr>
          <a:xfrm>
            <a:off x="179280" y="1557360"/>
            <a:ext cx="2095560" cy="2705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4" descr="pap_gomulka_600"/>
          <p:cNvPicPr/>
          <p:nvPr/>
        </p:nvPicPr>
        <p:blipFill>
          <a:blip r:embed="rId6"/>
          <a:stretch/>
        </p:blipFill>
        <p:spPr>
          <a:xfrm>
            <a:off x="4859280" y="1484280"/>
            <a:ext cx="3721320" cy="24811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6"/>
          <p:cNvSpPr/>
          <p:nvPr/>
        </p:nvSpPr>
        <p:spPr>
          <a:xfrm>
            <a:off x="2340000" y="2421000"/>
            <a:ext cx="23763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óba zawłaszczenia rocznicy chrztu (jako 1000-lecie państwa polskieg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wrót do polityki ateizacji kraj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Arial"/>
              </a:rPr>
              <a:t>Koniec części 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Arial"/>
              </a:rPr>
              <a:t>Zapraszam na część 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419280" y="1591920"/>
            <a:ext cx="511308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9. Polski Panteon 17.Kościół katolicki wobec komunizmu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.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Część 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odtytuł 2"/>
          <p:cNvSpPr/>
          <p:nvPr/>
        </p:nvSpPr>
        <p:spPr>
          <a:xfrm>
            <a:off x="2411280" y="357336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rostokąt 3"/>
          <p:cNvSpPr/>
          <p:nvPr/>
        </p:nvSpPr>
        <p:spPr>
          <a:xfrm>
            <a:off x="324000" y="5516640"/>
            <a:ext cx="287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Źródło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Arial"/>
              </a:rPr>
              <a:t>http://www.niedziela.pl/artykul/77068/nd/Ojciec-Swiety-Jan-Pawel-II-o-Stefanie , dostęp 16.05.201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7" descr="n200524_010"/>
          <p:cNvPicPr/>
          <p:nvPr/>
        </p:nvPicPr>
        <p:blipFill>
          <a:blip r:embed="rId2"/>
          <a:stretch/>
        </p:blipFill>
        <p:spPr>
          <a:xfrm>
            <a:off x="324000" y="2043000"/>
            <a:ext cx="2952720" cy="29163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8"/>
          <p:cNvSpPr/>
          <p:nvPr/>
        </p:nvSpPr>
        <p:spPr>
          <a:xfrm>
            <a:off x="324000" y="5013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Fot. Archiwum Instytutu Prymasowskiego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539640" y="404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Nieznaczna normalizacja w I połowie lat 70-ty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684360" y="1916280"/>
            <a:ext cx="5400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ozmowy ze Stolicą Apostolsk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gody na budowy kościołów (m.in. w Nowej Hucie, która miała być miastem bez kościołów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10" descr="Plik:KościółMatkiBożejKrólowejPolski(Arka)-UlicaObrońcówKrzyża-POL, Kraków.jpg"/>
          <p:cNvPicPr/>
          <p:nvPr/>
        </p:nvPicPr>
        <p:blipFill>
          <a:blip r:embed="rId1"/>
          <a:stretch/>
        </p:blipFill>
        <p:spPr>
          <a:xfrm>
            <a:off x="5651640" y="1700280"/>
            <a:ext cx="3090600" cy="23176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1"/>
          <p:cNvSpPr/>
          <p:nvPr/>
        </p:nvSpPr>
        <p:spPr>
          <a:xfrm>
            <a:off x="6804000" y="4057920"/>
            <a:ext cx="19796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Źródło: http://pl.wikipedia.org/wiki/Plik:Ko%C5%9Bci%C3%B3%C5%82MatkiBo%C5%BCejKr%C3%B3lowejPolski(Arka)-UlicaObro%C5%84c%C3%B3wKrzy%C5%BCa-POL,_Krak%C3%B3w.jpg, dostęp 29/05/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332000" y="404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Jan Paweł II (1978 - 200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250920" y="2924280"/>
            <a:ext cx="7848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ierwsza pielgrzymka do Ojczyzny – 1979 – spotkania z wiernymi uważane są za początek końca komunizmu. Polscy katolicy zobaczyli, że są liczni, zorganizowani i siln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ruga (1983) – obudziła załamanego stanem wojennym ducha opozyc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ielgrzymek do Polski błogosławiony papież odbył jeszcze sześć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79280" y="5228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ilm ze streszczeniem pielgrzymek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youtube.com/watch?v=7xXt03ODl0E, dostęp 20.05.2013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11" descr="Plik:JohannesPaul2-portrait.jpg"/>
          <p:cNvPicPr/>
          <p:nvPr/>
        </p:nvPicPr>
        <p:blipFill>
          <a:blip r:embed="rId1"/>
          <a:stretch/>
        </p:blipFill>
        <p:spPr>
          <a:xfrm>
            <a:off x="250920" y="404640"/>
            <a:ext cx="1800000" cy="220032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12"/>
          <p:cNvSpPr/>
          <p:nvPr/>
        </p:nvSpPr>
        <p:spPr>
          <a:xfrm>
            <a:off x="2124000" y="1666080"/>
            <a:ext cx="64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Źródło: http://pl.wikipedia.org/wiki/Plik:JohannesPaul2-portrait.jpg, dostęp 20.05.201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250560" y="1341000"/>
            <a:ext cx="8569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60000"/>
              </a:lnSpc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898989"/>
                </a:solidFill>
                <a:latin typeface="Calibri"/>
              </a:rPr>
              <a:t>Zaangażowanie Kościoła po stronie „Solidarności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898989"/>
                </a:solidFill>
                <a:latin typeface="Calibri"/>
              </a:rPr>
              <a:t>Ks. Jerzy Popiełuszko, kapelan „Solidarności” i jego męczeńska śmierć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898989"/>
                </a:solidFill>
                <a:latin typeface="Calibri"/>
              </a:rPr>
              <a:t>Prymasowski Komitet Pomocy Osobom Pozbawionym Wolności i Ich Rodzinom  był niezastąpionym wsparciem dla opozycji w czasach stanu wojenneg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898989"/>
                </a:solidFill>
                <a:latin typeface="Calibri"/>
              </a:rPr>
              <a:t>Ostrożna polityka prymasa Józefa Glempa i zaangażowanie w pośredniczeniu między władzą a opozycją w krytycznych latach 1988-8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odtytuł 3"/>
          <p:cNvSpPr/>
          <p:nvPr/>
        </p:nvSpPr>
        <p:spPr>
          <a:xfrm>
            <a:off x="250920" y="333360"/>
            <a:ext cx="6400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Ostatnia runda – 1980-198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250920" y="5660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ilm (długi): http://www.youtube.com/watch?v=hbjvOj0Yyxw, dostęp 20.05. 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68360" y="1773000"/>
            <a:ext cx="8424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98989"/>
                </a:solidFill>
                <a:latin typeface="Calibri"/>
              </a:rPr>
              <a:t>Bolesław Bierut (oficjalnie bezpartyjny prezydent) demonstracyjnie brał udział we Mszach Św. Celem było przekonanie prostych ludzi o patriotyczno-religijnym charakterze nowych władz. Jednocześnie odwołano konkordat ze Stolicą Apostolsk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79280" y="475920"/>
            <a:ext cx="6337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Demonstracyjna pobożność partyjnych przywódcó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684360" y="24998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il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epozytorium.fn.org.pl/?q=pl/node/4517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7" descr="organizacje_mlodziezowe_1947-49_400_267"/>
          <p:cNvPicPr/>
          <p:nvPr/>
        </p:nvPicPr>
        <p:blipFill>
          <a:blip r:embed="rId2"/>
          <a:stretch/>
        </p:blipFill>
        <p:spPr>
          <a:xfrm>
            <a:off x="1187280" y="3213000"/>
            <a:ext cx="3810240" cy="25434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5580000" y="3573360"/>
            <a:ext cx="158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olesław Bierut uczestniczy we Mszy św. we Wrześn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Line 9"/>
          <p:cNvSpPr/>
          <p:nvPr/>
        </p:nvSpPr>
        <p:spPr>
          <a:xfrm flipH="1">
            <a:off x="3850920" y="3933720"/>
            <a:ext cx="2050920" cy="50328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rostokąt 5"/>
          <p:cNvSpPr/>
          <p:nvPr/>
        </p:nvSpPr>
        <p:spPr>
          <a:xfrm>
            <a:off x="179280" y="5589720"/>
            <a:ext cx="2016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Calibri"/>
              </a:rPr>
              <a:t>Źródło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lustronauki.files.wordpress.com/2011/05/5.jpg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9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Calibri"/>
              </a:rPr>
              <a:t>Dostęp 19.05.201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7" descr="5"/>
          <p:cNvPicPr/>
          <p:nvPr/>
        </p:nvPicPr>
        <p:blipFill>
          <a:blip r:embed="rId2"/>
          <a:stretch/>
        </p:blipFill>
        <p:spPr>
          <a:xfrm>
            <a:off x="179280" y="1197000"/>
            <a:ext cx="7201080" cy="43862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8"/>
          <p:cNvSpPr/>
          <p:nvPr/>
        </p:nvSpPr>
        <p:spPr>
          <a:xfrm>
            <a:off x="7524720" y="1484280"/>
            <a:ext cx="136836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3 maja 1946 – pacyfikacja pochodu krakowskich studentów, wychodzących ze Mszy św. w Kościele Mariackim. Oficjalnie nie była to jeszcze walka z Kościołem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468360" y="40464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Ataki nieoficjal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6"/>
          <p:cNvSpPr/>
          <p:nvPr/>
        </p:nvSpPr>
        <p:spPr>
          <a:xfrm>
            <a:off x="468360" y="40464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taki nieoficjalne c.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539640" y="1052640"/>
            <a:ext cx="7056720" cy="54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o ataków (zwłaszcza prasowych) na Kościół wykorzystano sprawę pogromu kieleckiego z 4 lipca 1946 roku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mimo odczytywanego w Kościołach listu pasterskiego, posłuszna władzy prasa twierdziła, że ciągle nie ma oświadczenia Kościoła, potępiającego pogro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Śledztwo w sprawie prowadzone było tak, by udowodnić, że mordowali „Polacy – katolicy, Andersowcy i zwolennicy PSL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rostokąt 3"/>
          <p:cNvSpPr/>
          <p:nvPr/>
        </p:nvSpPr>
        <p:spPr>
          <a:xfrm>
            <a:off x="324000" y="486900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ipn.poczytaj.pl/116252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539640" y="47628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zw. księża – patrioci (1949 -195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9" descr="Ruch Księży patriotów w województwie katowickim w latach 1949-1956"/>
          <p:cNvPicPr/>
          <p:nvPr/>
        </p:nvPicPr>
        <p:blipFill>
          <a:blip r:embed="rId2"/>
          <a:stretch/>
        </p:blipFill>
        <p:spPr>
          <a:xfrm>
            <a:off x="3348000" y="1197000"/>
            <a:ext cx="2857680" cy="41432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0"/>
          <p:cNvSpPr/>
          <p:nvPr/>
        </p:nvSpPr>
        <p:spPr>
          <a:xfrm>
            <a:off x="539640" y="1413000"/>
            <a:ext cx="23036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mysł z 1949 wyszedł od rosyjskiego gen. Iwana Sierow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sięża ci działali przy oficjalnej organizacji kombatanckiej (ZBOWiD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900000" y="558900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ilm: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repozytorium.fn.org.pl/?q=pl/node/5576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, dostęp 1.06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6588000" y="1268280"/>
            <a:ext cx="230508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ama nazwa sugerowała, że patriotami są tylko ci księża, którzy współpracują z władz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324000" y="259920"/>
            <a:ext cx="64008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Porozumienie z 1950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68360" y="1268280"/>
            <a:ext cx="69832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ładze gwarantowały nauczanie religii w szkołach (usunięto w praktyce kilka lat później, przywrócono i znów i w 1961 r. zlikwidowano do 199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ościół potępiał działalność antypaństwową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ościół uznawał zmiany terytorium państw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68360" y="404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Sprawa biskupa Czesława Kaczmar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rostokąt 5"/>
          <p:cNvSpPr/>
          <p:nvPr/>
        </p:nvSpPr>
        <p:spPr>
          <a:xfrm>
            <a:off x="324000" y="4221000"/>
            <a:ext cx="201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jp2w.pl/pl/33769/0/Biskup_Czeslaw_Kaczmarek_1895-1963.html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, dostęp 20.05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8" descr="przesladowanie_kosciola_bp_stanislaw_kaczmarek"/>
          <p:cNvPicPr/>
          <p:nvPr/>
        </p:nvPicPr>
        <p:blipFill>
          <a:blip r:embed="rId2"/>
          <a:stretch/>
        </p:blipFill>
        <p:spPr>
          <a:xfrm>
            <a:off x="324000" y="1413000"/>
            <a:ext cx="2027160" cy="280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9"/>
          <p:cNvSpPr/>
          <p:nvPr/>
        </p:nvSpPr>
        <p:spPr>
          <a:xfrm>
            <a:off x="2987640" y="1484280"/>
            <a:ext cx="540072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resztowany 21 stycznia 1951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ezwzględnie torturowany w śledztwi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kazany pod zarzutem szpiegostwa w pokazowym procesie (153) na 12 lat więzieni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wolniony w 1957 roku, nadal prześladowany przez władze (żądano jego zwolnienia ze stanowisk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iedy nie udało się złamać biskupa sięgnięto po oszczerstwa, publikowane przez działacza ruchu księży-patriotó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324000" y="259920"/>
            <a:ext cx="64008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Uwięziony Prym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1953-195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6" descr="11"/>
          <p:cNvPicPr/>
          <p:nvPr/>
        </p:nvPicPr>
        <p:blipFill>
          <a:blip r:embed="rId1"/>
          <a:stretch/>
        </p:blipFill>
        <p:spPr>
          <a:xfrm>
            <a:off x="250920" y="1197000"/>
            <a:ext cx="3462120" cy="4248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4859280" y="1413000"/>
            <a:ext cx="395928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resztowanie przywódcy polskiego Kościoł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resztowania wielu księży, próba zastraszania pozostałych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 dziennika księdza kardynała (1954): „Ostatnia modlitwa - za naszych dozorców, zwłaszcza za tych, co teraz siedzą na korytarzach, i za żołnierzy, stojących wokół w śniegu, wśród lasu, na posterunkach. Wiemy, że tym ludziom musi być najboleśniej, najciężej.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39528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rędzie biskupów polskich do biskupów niemieckich- 196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611280" y="1773360"/>
            <a:ext cx="784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[…] Prosimy Was, katoliccy Pasterze Narodu niemieckiego, abyście na własny sposób obchodzili z nami nasze chrześcijańskie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Millenium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tym jak najbardziej chrześcijańskim, ale i bardzo ludzkim duchu, wyciągamy do Was, siedzących tu, na ławach kończącego się Soboru, nasze ręce oraz udzielamy wybaczenia i prosimy o nie”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250920" y="450792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ilm: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Kzb35PwkKgk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, dostęp 23.05. 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611280" y="5445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isteryczna reakcja PZPR – „nie prosimy i nie wybaczamy”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324000" y="4941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ilm 2: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youtube.com/watch?v=aVD-lgaLOs0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, dostęp 23.05. 2013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iwona</cp:lastModifiedBy>
  <dcterms:modified xsi:type="dcterms:W3CDTF">2013-08-27T17:35:05Z</dcterms:modified>
  <cp:revision>37</cp:revision>
  <dc:subject/>
  <dc:title>Slajd 1</dc:title>
</cp:coreProperties>
</file>