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D27-5095-4BCB-A9A2-731B30BB485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4E4-55D5-4EF4-9143-BD007E33DB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893-0F34-455F-9686-37835A79F1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6F61-887B-4715-9ADA-55E8277DD8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2750-F5C6-4C97-B42D-5421BAE370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BBC-A501-40D8-9A3A-C2D853DA70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AE2-176B-49B4-9780-EC57757456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BD34-7D1C-426C-8011-C306BDDCD05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403-8CA1-4DAB-9A98-9CB8CF0D79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82E0-7D56-4D7A-A84B-4D21E2A21D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5E63-E189-42EA-A686-B7FE4EE1E0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945-F6D2-45F3-9474-A4425E05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6E8-433A-48AB-B3F2-8CB5FD49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420-23DA-49F6-BECB-CF7B31E3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328-7BD2-4698-9734-151DDB0E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C40C-44A0-457C-994B-43985E2A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931-FFD6-4E1C-97E5-612AD487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B9F9-E210-4BE0-8B2B-671D536B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3125-BE6A-402F-95A9-2061120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783-AAC1-4328-A32D-868201E9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5184-26E0-4CAC-AF58-A324BADA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8CB-6704-416B-89E7-07AD541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251-FBB1-4DAB-9E7B-E9BE646A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69A7-C6AB-48F8-A1F3-30134142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3373-3ACC-4F67-9157-DE69E11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B64E-B729-4A5B-ACC3-47768F4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7A5-64FE-4C10-A883-9F7C42C2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C1B-AD7D-454F-9EBA-C0037D8F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2C4-1284-4EA9-8F05-0912ABE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21A-B4B5-45CA-9F85-7EF1B35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1E7-59B6-488D-AEEC-9F87FB1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96A-FFEA-4898-A1E4-500D4A5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EE8-817C-460D-A083-8CD58B4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396-1A63-4EB6-A7D3-19B49C6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C6-6C5F-41C3-8C88-B952DC8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D15-1026-45EF-8A22-C76DD371877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29D-7782-47D6-97B7-80E3DBEAEFF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7"/>
          <p:cNvSpPr/>
          <p:nvPr/>
        </p:nvSpPr>
        <p:spPr>
          <a:xfrm>
            <a:off x="0" y="4292640"/>
            <a:ext cx="1908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upload.wikimedia.org/wikipedia/en/thumb/4/42/Wyszy%C5%84ski.jpg/220px-Wyszy%C5%84sk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220px-Wyszy%C5%84ski"/>
          <p:cNvPicPr/>
          <p:nvPr/>
        </p:nvPicPr>
        <p:blipFill>
          <a:blip r:embed="rId4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pap_gomulka_600"/>
          <p:cNvPicPr/>
          <p:nvPr/>
        </p:nvPicPr>
        <p:blipFill>
          <a:blip r:embed="rId5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ormalizacja stosunków prawnych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ormalizacja, zgody na budownictw0 sakral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na linii Polska-Waty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presje po stanie wojenn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znani sprawcy” – lista bandyckich napaści na kapłan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zmocnienie krytyki medialnej Kościo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trożność – władza Kościelna również odpowiednio ostrożnie reagu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1- zdobyw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a jest ostrożna wobec Kościo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rywa konkordat, ale nie odżegnuje się od praktyk religij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kwiduje opozycję, szkodzi Kościołowi atakami „niezależnej pras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organizacje_mlodziezowe_1947-49_400_267"/>
          <p:cNvPicPr/>
          <p:nvPr/>
        </p:nvPicPr>
        <p:blipFill>
          <a:blip r:embed="rId1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zorne umowy (1950) i zaostrzenie repres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przestrzeganie umów z Kościoł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więzienia najbardziej niepokor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opniowe znoszenie nauczania religi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óba kontroli świeckiej nad Kościołem poprzez „księzy patriotów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3 – „odwilż” i ostre sta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państwo Kośció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isław Wyszyński wychodzi z więzienia, lecz nie zmienia negatywnej postawy wobec komuni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chody Millenium irytują komunist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e zaostrzają kurs – znoszą relgię w szkołach, oraganizują konkurencyjne do Millenium impre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6:15Z</dcterms:modified>
  <cp:revision>38</cp:revision>
  <dc:subject/>
  <dc:title>Slajd 1</dc:title>
</cp:coreProperties>
</file>