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C4F-728D-4738-84DC-A769F54A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82A-3309-49FC-A46F-B052CB3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F1C-BF06-4A8C-88F2-90FA4323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1B5-779B-41B3-B754-01060BB4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349-9C65-42D7-A713-E5F5E7A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130-3E3F-4EA3-8DC9-356EEE04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A84-3026-4668-8C12-D08925F4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506-C6D4-4EEC-9EAE-7A787294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55B-9D2D-47C9-88A7-E5257FD7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0F9-385A-40DA-A850-B12A76B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DCF-F663-4D40-8524-8F4E215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9E0-0A20-4890-9D99-E99B11F3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22AF-4D81-446C-A784-76B5B6BDC8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7"/>
          <p:cNvSpPr/>
          <p:nvPr/>
        </p:nvSpPr>
        <p:spPr>
          <a:xfrm>
            <a:off x="1071720" y="22147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Transformacja ustrojowa</a:t>
            </a:r>
            <a:br>
              <a:rPr sz="4000"/>
            </a:b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i społeczna po</a:t>
            </a:r>
            <a:r>
              <a:rPr b="1" lang="pl-PL" sz="4000" spc="-1" strike="noStrike">
                <a:solidFill>
                  <a:srgbClr val="008000"/>
                </a:solidFill>
                <a:latin typeface="Tahoma"/>
                <a:ea typeface="Tahoma"/>
              </a:rPr>
              <a:t>           </a:t>
            </a: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ro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72040" y="292896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49" name="pole tekstowe 9"/>
          <p:cNvSpPr/>
          <p:nvPr/>
        </p:nvSpPr>
        <p:spPr>
          <a:xfrm>
            <a:off x="1928880" y="39290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adosław Marzę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4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9"/>
          <p:cNvSpPr/>
          <p:nvPr/>
        </p:nvSpPr>
        <p:spPr>
          <a:xfrm>
            <a:off x="571680" y="785880"/>
            <a:ext cx="76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e1c11"/>
                </a:solidFill>
                <a:latin typeface="Tahoma"/>
                <a:ea typeface="Tahoma"/>
              </a:rPr>
              <a:t>„</a:t>
            </a:r>
            <a:r>
              <a:rPr b="1" lang="pl-PL" sz="2400" spc="-1" strike="noStrike">
                <a:solidFill>
                  <a:srgbClr val="1e1c11"/>
                </a:solidFill>
                <a:latin typeface="Tahoma"/>
                <a:ea typeface="Tahoma"/>
              </a:rPr>
              <a:t>4 czerwca skończył się w Polsce komunizm…” – wyniki wyb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rostokąt 15"/>
          <p:cNvSpPr/>
          <p:nvPr/>
        </p:nvSpPr>
        <p:spPr>
          <a:xfrm>
            <a:off x="7826040" y="5500800"/>
            <a:ext cx="11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biblioteka.teatrn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Wykres 14" descr=""/>
          <p:cNvPicPr/>
          <p:nvPr/>
        </p:nvPicPr>
        <p:blipFill>
          <a:blip r:embed="rId4"/>
          <a:stretch/>
        </p:blipFill>
        <p:spPr>
          <a:xfrm>
            <a:off x="592200" y="1592280"/>
            <a:ext cx="4887720" cy="306216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16"/>
          <p:cNvSpPr/>
          <p:nvPr/>
        </p:nvSpPr>
        <p:spPr>
          <a:xfrm>
            <a:off x="232920" y="221472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mitet Obywatelsk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lidarność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7"/>
          <p:cNvSpPr/>
          <p:nvPr/>
        </p:nvSpPr>
        <p:spPr>
          <a:xfrm>
            <a:off x="2333160" y="428616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ZPR i sojuszni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Wykres 18" descr=""/>
          <p:cNvPicPr/>
          <p:nvPr/>
        </p:nvPicPr>
        <p:blipFill>
          <a:blip r:embed="rId5"/>
          <a:stretch/>
        </p:blipFill>
        <p:spPr>
          <a:xfrm>
            <a:off x="4307040" y="1663560"/>
            <a:ext cx="4887720" cy="306252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13"/>
          <p:cNvSpPr/>
          <p:nvPr/>
        </p:nvSpPr>
        <p:spPr>
          <a:xfrm>
            <a:off x="5590440" y="4786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mitet Obywatelsk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lidarność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19"/>
          <p:cNvSpPr/>
          <p:nvPr/>
        </p:nvSpPr>
        <p:spPr>
          <a:xfrm>
            <a:off x="7252200" y="2214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enryk Stokło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21"/>
          <p:cNvSpPr/>
          <p:nvPr/>
        </p:nvSpPr>
        <p:spPr>
          <a:xfrm>
            <a:off x="357120" y="500076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Frekwencja w I turze: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Frekwencja w II turze: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25%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6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7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W „Sejmie kontraktowym”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4"/>
          <a:stretch/>
        </p:blipFill>
        <p:spPr>
          <a:xfrm>
            <a:off x="4645080" y="2255760"/>
            <a:ext cx="4711680" cy="329112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9"/>
          <p:cNvSpPr/>
          <p:nvPr/>
        </p:nvSpPr>
        <p:spPr>
          <a:xfrm>
            <a:off x="285840" y="2643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alicja rządzą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10"/>
          <p:cNvSpPr/>
          <p:nvPr/>
        </p:nvSpPr>
        <p:spPr>
          <a:xfrm>
            <a:off x="3429000" y="26431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pozy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ole tekstowe 11"/>
          <p:cNvSpPr/>
          <p:nvPr/>
        </p:nvSpPr>
        <p:spPr>
          <a:xfrm>
            <a:off x="243360" y="3143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ZP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12"/>
          <p:cNvSpPr/>
          <p:nvPr/>
        </p:nvSpPr>
        <p:spPr>
          <a:xfrm>
            <a:off x="1038240" y="31431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SL, S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14"/>
          <p:cNvSpPr/>
          <p:nvPr/>
        </p:nvSpPr>
        <p:spPr>
          <a:xfrm>
            <a:off x="4437360" y="314316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K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15"/>
          <p:cNvSpPr/>
          <p:nvPr/>
        </p:nvSpPr>
        <p:spPr>
          <a:xfrm>
            <a:off x="4178160" y="3143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6"/>
          <p:cNvSpPr/>
          <p:nvPr/>
        </p:nvSpPr>
        <p:spPr>
          <a:xfrm>
            <a:off x="357120" y="1785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19 lipca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gen. Jaruzelski wybrany prezydentem przez Zgromadzenie Narod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17"/>
          <p:cNvSpPr/>
          <p:nvPr/>
        </p:nvSpPr>
        <p:spPr>
          <a:xfrm>
            <a:off x="500040" y="435780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adeusz Mazowiecki nowym kandydatem na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emi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ole tekstowe 19"/>
          <p:cNvSpPr/>
          <p:nvPr/>
        </p:nvSpPr>
        <p:spPr>
          <a:xfrm>
            <a:off x="286200" y="35002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X, UChS, PZK-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7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ole tekstowe 7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Nowy rzą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16"/>
          <p:cNvSpPr/>
          <p:nvPr/>
        </p:nvSpPr>
        <p:spPr>
          <a:xfrm>
            <a:off x="3500280" y="1785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24 sierpnia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Sejm powołuje Mazowieckiego na urząd premi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://www.poland.gov.pl/generuj/800/600/gallery/kalendarium/72c28_Mazowiecki.jpg"/>
          <p:cNvPicPr/>
          <p:nvPr/>
        </p:nvPicPr>
        <p:blipFill>
          <a:blip r:embed="rId4"/>
          <a:stretch/>
        </p:blipFill>
        <p:spPr>
          <a:xfrm>
            <a:off x="66600" y="1889280"/>
            <a:ext cx="3267000" cy="462096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19"/>
          <p:cNvSpPr/>
          <p:nvPr/>
        </p:nvSpPr>
        <p:spPr>
          <a:xfrm>
            <a:off x="3500280" y="264312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kład nowego rząd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OKP, ZSL, SD + pięciu ministrów z PZP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ole tekstowe 21"/>
          <p:cNvSpPr/>
          <p:nvPr/>
        </p:nvSpPr>
        <p:spPr>
          <a:xfrm>
            <a:off x="3500280" y="3500280"/>
            <a:ext cx="56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szłość oddzielamy grubą linią. Odpowiadać będziemy jedynie za to, co uczyniliśmy, by wydobyć Polskę z obecnego stanu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. Mazowie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ole tekstowe 12"/>
          <p:cNvSpPr/>
          <p:nvPr/>
        </p:nvSpPr>
        <p:spPr>
          <a:xfrm>
            <a:off x="78480" y="5286240"/>
            <a:ext cx="28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  <a:ea typeface="Tahoma"/>
              </a:rPr>
              <a:t>Fot. Chris Niedenthal/FORUM, http://www.poland.gov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9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ole tekstowe 7"/>
          <p:cNvSpPr/>
          <p:nvPr/>
        </p:nvSpPr>
        <p:spPr>
          <a:xfrm>
            <a:off x="2571840" y="78588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rzemiany ustrojow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ole tekstowe 16"/>
          <p:cNvSpPr/>
          <p:nvPr/>
        </p:nvSpPr>
        <p:spPr>
          <a:xfrm>
            <a:off x="2571840" y="157176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stotą ustroju jest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NSTYTUCJA – „nowela grudniow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http://tamteczasy.pl/photo_db/3/4/2/img_da7408e6-0e0e-4fd6-a3ef-4670bbc4c101_orig.jpg"/>
          <p:cNvPicPr/>
          <p:nvPr/>
        </p:nvPicPr>
        <p:blipFill>
          <a:blip r:embed="rId4"/>
          <a:stretch/>
        </p:blipFill>
        <p:spPr>
          <a:xfrm>
            <a:off x="214200" y="500040"/>
            <a:ext cx="18766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195" name=""/>
          <p:cNvGraphicFramePr/>
          <p:nvPr/>
        </p:nvGraphicFramePr>
        <p:xfrm>
          <a:off x="2428920" y="2500200"/>
          <a:ext cx="6500880" cy="2675160"/>
        </p:xfrm>
        <a:graphic>
          <a:graphicData uri="http://schemas.openxmlformats.org/drawingml/2006/table">
            <a:tbl>
              <a:tblPr/>
              <a:tblGrid>
                <a:gridCol w="3251160"/>
                <a:gridCol w="3249720"/>
              </a:tblGrid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Zmi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owe zas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zwa państwa: „Rzeczpospolita Pol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sada demokratycznego państwa prawn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unięto zapis o „kierowniczej roli partii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sada „sprawiedliwości społecznej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unięto zapis o przyjaźni z ZS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luralizm politycz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iana godła Polski – przywrócenie korony na głowie orł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woboda działalności gospodarcz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chrona własnoś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4" descr="http://www.jakiznaktwoj.pl/_/rsrc/1307522305116/home/minister/mr-pole/godlo.png"/>
          <p:cNvPicPr/>
          <p:nvPr/>
        </p:nvPicPr>
        <p:blipFill>
          <a:blip r:embed="rId5"/>
          <a:stretch/>
        </p:blipFill>
        <p:spPr>
          <a:xfrm>
            <a:off x="428760" y="3714840"/>
            <a:ext cx="1428480" cy="1693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0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ole tekstowe 7"/>
          <p:cNvSpPr/>
          <p:nvPr/>
        </p:nvSpPr>
        <p:spPr>
          <a:xfrm>
            <a:off x="1500120" y="7858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Nowa polityka zagranicz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16"/>
          <p:cNvSpPr/>
          <p:nvPr/>
        </p:nvSpPr>
        <p:spPr>
          <a:xfrm>
            <a:off x="142920" y="1571760"/>
            <a:ext cx="47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Ułożenie dobrych stosunków z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iemc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SRR, potem Rosj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ajami Europy Środkowo-Wschodn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aństwami zachodnimi (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ttp://www.oppeln.diplo.de/contentblob/2364198/Galeriebild_gross/412929/19891112_Kohl_Mazowiecki_Kreisau.jpg"/>
          <p:cNvPicPr/>
          <p:nvPr/>
        </p:nvPicPr>
        <p:blipFill>
          <a:blip r:embed="rId4"/>
          <a:stretch/>
        </p:blipFill>
        <p:spPr>
          <a:xfrm>
            <a:off x="5214960" y="1500120"/>
            <a:ext cx="4429080" cy="28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6" name="Prostokąt 13"/>
          <p:cNvSpPr/>
          <p:nvPr/>
        </p:nvSpPr>
        <p:spPr>
          <a:xfrm>
            <a:off x="285840" y="492912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kcesja do NATO oraz Europejskiej Wspólnoty Gospodarczej (Unii Europejskie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rostokąt 14"/>
          <p:cNvSpPr/>
          <p:nvPr/>
        </p:nvSpPr>
        <p:spPr>
          <a:xfrm>
            <a:off x="6545520" y="4572000"/>
            <a:ext cx="250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picture-alliance/dpa, http://www.oppeln.diplo.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1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ole tekstowe 16"/>
          <p:cNvSpPr/>
          <p:nvPr/>
        </p:nvSpPr>
        <p:spPr>
          <a:xfrm>
            <a:off x="142920" y="1571760"/>
            <a:ext cx="8501040" cy="39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89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http://www.tvp.pl/historia/rocznice-i-wydarzenia/89tvppl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Codogni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bory czerwcowe 1989 roku. U progu przemiany ustrojowej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Instytut Pamięci Narodowej, Warszawa 20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Friszke A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Rok 1989. Polska droga do wolnośc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Sejmowe, Warszawa 2009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Huntington S., Trzecia fala demokratyzacji, PWN, Warszawa 1995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Kołodziejczyk M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A to niespodzianka!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8,1,a-to-niespodzianka.rea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sęka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głosowana niepodległość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7,1,wyglosowana-niepodleglosc.read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sęka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głosowana niepodległość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7,1,wyglosowana-niepodleglosc.read, 9.03.2013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. Codogni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Okrągły Stół czyli Polski Rubikon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Prószyński i S-ka, Warszawa 2009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Reykowski J. (red.)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Okrągły Stół: droga do demokratycznej Polsk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Adam Marszałek, Toruń 20010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Roszkowski W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Najnowsza historia Polski: 1980-2006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Świat Książki, Warszawa 2007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aczęło się w Polsce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rok1989.pl/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ole tekstowe 12"/>
          <p:cNvSpPr/>
          <p:nvPr/>
        </p:nvSpPr>
        <p:spPr>
          <a:xfrm>
            <a:off x="1785960" y="7858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2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ole tekstowe 12"/>
          <p:cNvSpPr/>
          <p:nvPr/>
        </p:nvSpPr>
        <p:spPr>
          <a:xfrm>
            <a:off x="1785960" y="2928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5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10"/>
          <p:cNvSpPr/>
          <p:nvPr/>
        </p:nvSpPr>
        <p:spPr>
          <a:xfrm>
            <a:off x="500040" y="1928880"/>
            <a:ext cx="8143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jęcie transform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yczyny transform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ansformacja polityczna – obrady Okrągłego Sto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stanowienia Okrągłego Sto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ybory z 4 czerwca 1989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nsekwencje wybor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miany ustroj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lityka zagranicz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ezentacja poświęcona jest przemianom politycznym zapoczątkowanym obradami Okrągłego Stołu. W trakcie lekcji omawiane są przyczyny transformacji ustrojowej, przebieg i skutki porozumienia pomiędzy obozem komunistycznym i solidarnościowym, znaczenie wyborów z 4 czerwca 1989 rok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6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Transformac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ole tekstowe 10"/>
          <p:cNvSpPr/>
          <p:nvPr/>
        </p:nvSpPr>
        <p:spPr>
          <a:xfrm>
            <a:off x="0" y="164304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Tahoma"/>
                <a:ea typeface="Tahoma"/>
              </a:rPr>
              <a:t>Polska Rzeczpospolita Lud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ole tekstowe 12"/>
          <p:cNvSpPr/>
          <p:nvPr/>
        </p:nvSpPr>
        <p:spPr>
          <a:xfrm>
            <a:off x="5572080" y="178596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Rzeczpospolita Pol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rążkowana strzałka w prawo 13"/>
          <p:cNvSpPr/>
          <p:nvPr/>
        </p:nvSpPr>
        <p:spPr>
          <a:xfrm>
            <a:off x="3143160" y="1714680"/>
            <a:ext cx="2643120" cy="928440"/>
          </a:xfrm>
          <a:prstGeom prst="pi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TRANSFORM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357200" y="3286080"/>
          <a:ext cx="6500880" cy="2011320"/>
        </p:xfrm>
        <a:graphic>
          <a:graphicData uri="http://schemas.openxmlformats.org/drawingml/2006/table">
            <a:tbl>
              <a:tblPr/>
              <a:tblGrid>
                <a:gridCol w="3251160"/>
                <a:gridCol w="324972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bsz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ityka (instytucj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mokratyz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spod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olny ryn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ołeczeńs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ołeczeństwo obywatels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7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rzyczy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ole tekstowe 14"/>
          <p:cNvSpPr/>
          <p:nvPr/>
        </p:nvSpPr>
        <p:spPr>
          <a:xfrm>
            <a:off x="357120" y="157176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yzys uprawomocnienia władzy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kompromitowana władza utraciła możliwość „samoodnowy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rostokąt 16"/>
          <p:cNvSpPr/>
          <p:nvPr/>
        </p:nvSpPr>
        <p:spPr>
          <a:xfrm>
            <a:off x="5000760" y="2071800"/>
            <a:ext cx="4143240" cy="1500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Systemy demokratyczne odnawiają się poprzez </a:t>
            </a:r>
            <a:r>
              <a:rPr b="1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wybory</a:t>
            </a:r>
            <a:r>
              <a:rPr b="0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, które umożliwiają dojście do władzy nowej koalicji, z nową polityką i nowymi obietnicami na przyszł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Samuel Huntington, „Trzecia fala demokratyzacji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17"/>
          <p:cNvSpPr/>
          <p:nvPr/>
        </p:nvSpPr>
        <p:spPr>
          <a:xfrm>
            <a:off x="357120" y="23572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pływ polityki kierownictwa ZSRR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olityka reform („pierestrojka”) zapoczątkowana w 1985 roku przez Michaiła Gorbacz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18"/>
          <p:cNvSpPr/>
          <p:nvPr/>
        </p:nvSpPr>
        <p:spPr>
          <a:xfrm>
            <a:off x="357120" y="314316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yzys gospodarki socjalistycznej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19"/>
          <p:cNvSpPr/>
          <p:nvPr/>
        </p:nvSpPr>
        <p:spPr>
          <a:xfrm>
            <a:off x="357120" y="371484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odziały wewnątrz elity komunistycznej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artyjni reformatorzy 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vs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rtyjny be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le tekstowe 21"/>
          <p:cNvSpPr/>
          <p:nvPr/>
        </p:nvSpPr>
        <p:spPr>
          <a:xfrm>
            <a:off x="357120" y="457200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ola niekonfrontacyjnych sił opozycjinych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zczególnie lide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lity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1500120"/>
          <a:ext cx="8358120" cy="1235160"/>
        </p:xfrm>
        <a:graphic>
          <a:graphicData uri="http://schemas.openxmlformats.org/drawingml/2006/table">
            <a:tbl>
              <a:tblPr/>
              <a:tblGrid>
                <a:gridCol w="3071880"/>
                <a:gridCol w="5286240"/>
              </a:tblGrid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ażne wydarze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krągły Stó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ied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 lutego 1989 – 5 kwietnia 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Gdzi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ałac Namiestnikowski (Prezydencki) – Warsza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90" name="Wycinek koła 22"/>
          <p:cNvSpPr/>
          <p:nvPr/>
        </p:nvSpPr>
        <p:spPr>
          <a:xfrm>
            <a:off x="2000160" y="3500280"/>
            <a:ext cx="1500120" cy="1571760"/>
          </a:xfrm>
          <a:custGeom>
            <a:avLst/>
            <a:gdLst>
              <a:gd name="textAreaLeft" fmla="*/ 219600 w 1500120"/>
              <a:gd name="textAreaRight" fmla="*/ 1280520 w 1500120"/>
              <a:gd name="textAreaTop" fmla="*/ 230040 h 1571760"/>
              <a:gd name="textAreaBottom" fmla="*/ 1341720 h 1571760"/>
            </a:gdLst>
            <a:ahLst/>
            <a:rect l="textAreaLeft" t="textAreaTop" r="textAreaRight" b="textAreaBottom"/>
            <a:pathLst>
              <a:path w="1500198" h="1571636">
                <a:moveTo>
                  <a:pt x="764775" y="1571486"/>
                </a:moveTo>
                <a:lnTo>
                  <a:pt x="764775" y="1571486"/>
                </a:lnTo>
                <a:arcTo wR="750099" hR="785818" stAng="5335792" swAng="10864213"/>
                <a:lnTo>
                  <a:pt x="750099" y="78581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Wycinek koła 23"/>
          <p:cNvSpPr/>
          <p:nvPr/>
        </p:nvSpPr>
        <p:spPr>
          <a:xfrm rot="10800000">
            <a:off x="5571720" y="3500280"/>
            <a:ext cx="1500120" cy="1571760"/>
          </a:xfrm>
          <a:custGeom>
            <a:avLst/>
            <a:gdLst>
              <a:gd name="textAreaLeft" fmla="*/ 219600 w 1500120"/>
              <a:gd name="textAreaRight" fmla="*/ 1280520 w 1500120"/>
              <a:gd name="textAreaTop" fmla="*/ 230040 h 1571760"/>
              <a:gd name="textAreaBottom" fmla="*/ 1341720 h 1571760"/>
            </a:gdLst>
            <a:ahLst/>
            <a:rect l="textAreaLeft" t="textAreaTop" r="textAreaRight" b="textAreaBottom"/>
            <a:pathLst>
              <a:path w="1500198" h="1571636">
                <a:moveTo>
                  <a:pt x="764775" y="1571486"/>
                </a:moveTo>
                <a:lnTo>
                  <a:pt x="764775" y="1571486"/>
                </a:lnTo>
                <a:arcTo wR="750099" hR="785818" stAng="5335792" swAng="10864213"/>
                <a:lnTo>
                  <a:pt x="750099" y="785818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ole tekstowe 24"/>
          <p:cNvSpPr/>
          <p:nvPr/>
        </p:nvSpPr>
        <p:spPr>
          <a:xfrm>
            <a:off x="714240" y="3071880"/>
            <a:ext cx="30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ona rządowa – władze P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25"/>
          <p:cNvSpPr/>
          <p:nvPr/>
        </p:nvSpPr>
        <p:spPr>
          <a:xfrm>
            <a:off x="5786280" y="3071880"/>
            <a:ext cx="30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ona społeczna – władze P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27"/>
          <p:cNvSpPr/>
          <p:nvPr/>
        </p:nvSpPr>
        <p:spPr>
          <a:xfrm>
            <a:off x="3000240" y="5357880"/>
            <a:ext cx="30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bserwatorzy kościel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28"/>
          <p:cNvSpPr/>
          <p:nvPr/>
        </p:nvSpPr>
        <p:spPr>
          <a:xfrm>
            <a:off x="2781360" y="3571920"/>
            <a:ext cx="348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zespoł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gospodarki i polityki społecz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reform politycz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pluralizmu związkow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0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i.wp.pl/a/f/jpeg/21640/02293432.jpeg"/>
          <p:cNvPicPr/>
          <p:nvPr/>
        </p:nvPicPr>
        <p:blipFill>
          <a:blip r:embed="rId4"/>
          <a:stretch/>
        </p:blipFill>
        <p:spPr>
          <a:xfrm>
            <a:off x="1714680" y="928800"/>
            <a:ext cx="609264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pole tekstowe 17"/>
          <p:cNvSpPr/>
          <p:nvPr/>
        </p:nvSpPr>
        <p:spPr>
          <a:xfrm>
            <a:off x="5592600" y="5357880"/>
            <a:ext cx="264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Fot. Damazy Kwiatkowski, http://wiadomosci.wp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0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stanowi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14"/>
          <p:cNvSpPr/>
          <p:nvPr/>
        </p:nvSpPr>
        <p:spPr>
          <a:xfrm>
            <a:off x="357120" y="157176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stotą Okrągłego Stołu okazało si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16"/>
          <p:cNvSpPr/>
          <p:nvPr/>
        </p:nvSpPr>
        <p:spPr>
          <a:xfrm>
            <a:off x="4471560" y="157176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Tahoma"/>
                <a:ea typeface="Tahoma"/>
              </a:rPr>
              <a:t>POROZUMIE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17"/>
          <p:cNvSpPr/>
          <p:nvPr/>
        </p:nvSpPr>
        <p:spPr>
          <a:xfrm>
            <a:off x="357120" y="21430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miana prawa o stowarzyszeniach i legalizacja „Solidarności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18"/>
          <p:cNvSpPr/>
          <p:nvPr/>
        </p:nvSpPr>
        <p:spPr>
          <a:xfrm>
            <a:off x="357120" y="2643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„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ntrakt przedwyborczy” – częściowo wolne wyb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Wykres 19" descr=""/>
          <p:cNvPicPr/>
          <p:nvPr/>
        </p:nvPicPr>
        <p:blipFill>
          <a:blip r:embed="rId4"/>
          <a:stretch/>
        </p:blipFill>
        <p:spPr>
          <a:xfrm>
            <a:off x="4307040" y="2878200"/>
            <a:ext cx="4887720" cy="306216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21"/>
          <p:cNvSpPr/>
          <p:nvPr/>
        </p:nvSpPr>
        <p:spPr>
          <a:xfrm>
            <a:off x="2643120" y="3571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Mandaty do podziału w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olnych wybora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22"/>
          <p:cNvSpPr/>
          <p:nvPr/>
        </p:nvSpPr>
        <p:spPr>
          <a:xfrm>
            <a:off x="7143840" y="535788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ZPR i koalicjan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23"/>
          <p:cNvSpPr/>
          <p:nvPr/>
        </p:nvSpPr>
        <p:spPr>
          <a:xfrm>
            <a:off x="357120" y="500076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o Senatu – wolne wyb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stanowi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8"/>
          <p:cNvSpPr/>
          <p:nvPr/>
        </p:nvSpPr>
        <p:spPr>
          <a:xfrm>
            <a:off x="357120" y="171468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tworzenie urzędu Prezydenta PRL – wybierany przez Zgromadzenie Narodowe na 6 l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24"/>
          <p:cNvSpPr/>
          <p:nvPr/>
        </p:nvSpPr>
        <p:spPr>
          <a:xfrm>
            <a:off x="357120" y="2428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ostęp opozycji do mediów („Gazeta Wyborcza”, „Tygodnik Solidarność”, własny 1-godzinny program w telewizj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5"/>
          <p:cNvSpPr/>
          <p:nvPr/>
        </p:nvSpPr>
        <p:spPr>
          <a:xfrm>
            <a:off x="357120" y="31431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stalenie terminu wyborów na początek czerwca 1989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rostokąt 26"/>
          <p:cNvSpPr/>
          <p:nvPr/>
        </p:nvSpPr>
        <p:spPr>
          <a:xfrm>
            <a:off x="1000080" y="39290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leży wreszcie wyjaśnić sprawę Katynia, Ostaszkowa i Starobielska (...) Podkreślam - to jest sprawa naszego honoru narodow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ładysław Siła-Nowi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9"/>
          <p:cNvSpPr/>
          <p:nvPr/>
        </p:nvSpPr>
        <p:spPr>
          <a:xfrm>
            <a:off x="857160" y="7858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„</a:t>
            </a: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Wybory czerwcowe” – 4 czerwca 198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biblioteka.teatrnn.pl/dlibra/Content/7985/029.jpg?handler=mono-jpg_js"/>
          <p:cNvPicPr/>
          <p:nvPr/>
        </p:nvPicPr>
        <p:blipFill>
          <a:blip r:embed="rId4"/>
          <a:stretch/>
        </p:blipFill>
        <p:spPr>
          <a:xfrm>
            <a:off x="6572160" y="1500120"/>
            <a:ext cx="223848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rostokąt 15"/>
          <p:cNvSpPr/>
          <p:nvPr/>
        </p:nvSpPr>
        <p:spPr>
          <a:xfrm>
            <a:off x="7826040" y="5500800"/>
            <a:ext cx="11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biblioteka.teatrn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http://biblioteka.teatrnn.pl/dlibra/Content/7945/007.jpg?handler=mono-jpg_js"/>
          <p:cNvPicPr/>
          <p:nvPr/>
        </p:nvPicPr>
        <p:blipFill>
          <a:blip r:embed="rId5"/>
          <a:stretch/>
        </p:blipFill>
        <p:spPr>
          <a:xfrm>
            <a:off x="3857760" y="2071800"/>
            <a:ext cx="2357280" cy="157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6" descr="http://biblioteka.teatrnn.pl/dlibra/Content/7982/plakat_1989.jpg?handler=mono-jpg_js"/>
          <p:cNvPicPr/>
          <p:nvPr/>
        </p:nvPicPr>
        <p:blipFill>
          <a:blip r:embed="rId6"/>
          <a:stretch/>
        </p:blipFill>
        <p:spPr>
          <a:xfrm>
            <a:off x="142920" y="1714680"/>
            <a:ext cx="337032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Picture 8" descr="http://biblioteka.teatrnn.pl/dlibra/Content/7935/002.jpg?handler=mono-jpg_js"/>
          <p:cNvPicPr/>
          <p:nvPr/>
        </p:nvPicPr>
        <p:blipFill>
          <a:blip r:embed="rId7"/>
          <a:stretch/>
        </p:blipFill>
        <p:spPr>
          <a:xfrm>
            <a:off x="3786120" y="4429080"/>
            <a:ext cx="2428920" cy="114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27T18:20:58Z</dcterms:modified>
  <cp:revision>32</cp:revision>
  <dc:subject/>
  <dc:title>Slajd 1</dc:title>
</cp:coreProperties>
</file>