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7A5-4101-4361-971D-434DB82BF50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2DFB-D636-42F2-AB63-9856767615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CE4A-F64C-4E79-9174-7576500283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22B-547A-44D7-9947-44ECF91E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352-65C8-41CD-B1E3-2126BB82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296-3B82-4559-A240-19DD2A89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63D-4276-4B5D-B276-E4843F41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6F9E-B63B-4A49-9660-B73C70EE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9C8B-2918-48CB-9C9B-A223D95E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ED94-731D-4414-A906-15DF6892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BD43-FD1C-4AAB-8909-1DF48D10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9FE7-F011-4D40-A218-12A7D6AD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6342-C6EA-4A1D-8252-67FC1B2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A5CB-DA9A-400C-90D7-AF73BD0E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584-93DA-404F-B8F6-1D90727C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C487-3920-4C81-9C14-2BEA87D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C3F7-32AE-4771-B223-C22E06B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3B38-9CCF-4EE0-B681-4A98FC60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172C-686A-4776-970E-DB4C58BE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3DA5-27D0-4264-9416-7DABA4D6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CC3-A9F0-4624-9B83-269E3CA2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C94-EA8F-4E69-8485-A467D48A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C7E-BD4C-44AD-9E23-9988594A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D8B-6122-4893-A792-B070659B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EEE-9CF3-4017-AEBD-45EE7A4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D1F-AE97-41F5-BD72-C0CD4C2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33C-322D-435E-9C1E-0E381016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B37E-1C92-41E8-8BDD-10A5F945D7F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0DD9-EA97-41E4-B33B-692F1544084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Pi&#322;sudski_16.JPG" TargetMode="External"/><Relationship Id="rId2" Type="http://schemas.openxmlformats.org/officeDocument/2006/relationships/hyperlink" Target="http://pl.wikipedia.org/wiki/Plik:Wladyslaw_Anders.jp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ęść I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rena Sendlerowa (1910-200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00720" y="1299600"/>
            <a:ext cx="431928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czasie II wojny światowej jako pracowniczka ośrodka pomocy społecznej miała przepustkę do warszawskiego getta, skąd wyprowadziła i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uratowała od śmierci ponad 2,5 tysiąca dzieci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Umieszczała je w polskich przybranych rodzinach, domach dziecka i u sióstr zakonnych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 1943 r. Gestapo aresztowało ją za tę działalność,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była torturowana i skazano ją na śmierć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Rada Pomocy Żydom „Żegota” zdołała ją uratować, więc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z ukrycia nadal pracowała nad ratowaniem żydowskich dzieci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Po wojnie doświadczyła niemal tak samo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ciężkich prześladowań ze strony komunistycznego Urzędu Bezpieczeństwa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Irena_Sendlerowa_1942"/>
          <p:cNvPicPr/>
          <p:nvPr/>
        </p:nvPicPr>
        <p:blipFill>
          <a:blip r:embed="rId1"/>
          <a:stretch/>
        </p:blipFill>
        <p:spPr>
          <a:xfrm>
            <a:off x="684360" y="1197000"/>
            <a:ext cx="3605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dawne wzorce przystają do współczesnośc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611280" y="170028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1946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f. Maria Ossowska w artykule „Wzór obywatela w ustroj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mokratycznym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mieniła i opisała następując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noty obywatelsk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ole tekstowe 5" descr=""/>
          <p:cNvPicPr/>
          <p:nvPr/>
        </p:nvPicPr>
        <p:blipFill>
          <a:blip r:embed="rId1"/>
          <a:stretch/>
        </p:blipFill>
        <p:spPr>
          <a:xfrm>
            <a:off x="615960" y="2779560"/>
            <a:ext cx="8217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grody im. Jana Rodowicza „Anody”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Anoda"/>
          <p:cNvPicPr/>
          <p:nvPr/>
        </p:nvPicPr>
        <p:blipFill>
          <a:blip r:embed="rId1"/>
          <a:stretch/>
        </p:blipFill>
        <p:spPr>
          <a:xfrm>
            <a:off x="539640" y="1341360"/>
            <a:ext cx="2592360" cy="3289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3471840" y="1268280"/>
            <a:ext cx="50608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rucznik Jan Rodowicz „Anoda” uczestniczył w akcja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ałego Sabotażu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 p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kcji pod Arsenał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ostał odznaczony Krzyżem Walecznych. Podczas Powstania Warszawskiego walczył na Woli, gdzie został ciężko ranny. W 1945 r. ujawnił się i zaczął studiować architekturę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rzy lata później, w Wigilię, został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resztowany  przez Urząd Bezpieczeństw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Dwa tygodnie później zmarł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męczony w śledztw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Według oficjaln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ersji – popełnił samobójstw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11280" y="4869000"/>
            <a:ext cx="813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agroda im. Jana Rodowicza „Anody” została ustanowiona przez Muzeum Powstania Warszawskiego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ą nią wyróżnian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powstańcy” czasu pokoju – ludzie, którzy nie muszą walczyć o podstawowe wartości z bronią w ręku, ale wcielają je w życ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Laureaci ostatniej edy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4"/>
          <p:cNvSpPr/>
          <p:nvPr/>
        </p:nvSpPr>
        <p:spPr>
          <a:xfrm>
            <a:off x="3059280" y="981000"/>
            <a:ext cx="568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55640" y="1052640"/>
            <a:ext cx="784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o roku członkowie Kapituły Nagrody wyróżniają laureatów w dwóch kategoriach: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 całokształt dokonań i postawę życiową, która stanowi wzór do naśladowania dla młodych ludzi oraz za wyjątkowy czyn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1. kategorii w nagrodzona została Natalia Syniavska-Krzyżanowsk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która urodziła się w Raszkowie – wiosce w Republice Naddniestrzańskiej, części Mołdawii odizolowanej od Europy. Od wielu lat w bardzo trudnych warunkach polityczno-administracyjny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ziała na rzecz ochrony polskości na obczyźn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2. kategorii nagrodzono mieszkańców wsi Chałupki składającej się z 14 domów.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Gdy 3 marca 2012 r. dwa pociągi zderzyły się ze sobą w pobliżu Szczekocin koło Zawiercia (w woj. śląskim) mieszkańcy Chałupek dotarli na miejsce jako pierwsi przed służbami ratunkowymi. Wyciągali ludzi ze zmiażdżonych wagonów, dodawali otuchy, przynosili koce i ciepłą herbatę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pkultura jako nośnik wzorców zachowań obywatelski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4"/>
          <p:cNvSpPr/>
          <p:nvPr/>
        </p:nvSpPr>
        <p:spPr>
          <a:xfrm>
            <a:off x="468360" y="1989000"/>
            <a:ext cx="8136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brym przykładem jest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erial „Czas honoru” nadawany od 2008 r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, który bardzo szybko podbił serca polskich widzów (średnio każdy odcinek oglądało ok. 2,5 miliona osób). Serial opowiada o losach Janka, Bronka, Władka i Michała – jest inspirowany historią polskich dywersantów, którzy podczas II wojny światowej byli szkoleni w Anglii, by wrócić do Polski i w konspiracji walczyć o niepodległość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idza urzekają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nadczasowe wartości, jakimi kierują się bohaterowie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tórym wybuch wojny przekreślił większość życiowych planów i szans na szczęście osobiste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ą oni zaangażowani i oddani sprawie walki o ojczyznę, współpracują ze sobą, mogą na sobie polegać, są szczerzy, niezawodni, zdolni do poświęceń, bezkompromisowi, odważn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4"/>
          <p:cNvSpPr/>
          <p:nvPr/>
        </p:nvSpPr>
        <p:spPr>
          <a:xfrm>
            <a:off x="250920" y="1052640"/>
            <a:ext cx="8713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0920" y="1268280"/>
            <a:ext cx="8569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rberyusz E., Władysław Anders. Życie po Monte Cassino, Agora, Warszawa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amiński A., Kamienie na szaniec, Nasza Księgarni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arski J., Tajne Państwo, Wydawnictwo Rosner i Wspólnicy, Warszawa 20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unicki K., Ławecki T., Ochowiak L., Piłsudski. Burzliwe życie w niespokojnych czasach, Carta Blanc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eszkowska A., Dzieci Ireny Sendlerowej, Wydawnictwo Muza, Warszawa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owak-Jeziorański J., Kurier z Warszawy, Znak, Kraków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ssowska M., Wzór obywatela w ustroju demokratycznym, Zarząd Główny Towarzystwa Uniwersytetu Robotniczego, Warszawa 194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achowicz B., Rudy, Alek, Zośka – Gawęda o Bohaterach „Kamieni na szaniec”, Rytm, Warszawa 20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3"/>
          <p:cNvSpPr/>
          <p:nvPr/>
        </p:nvSpPr>
        <p:spPr>
          <a:xfrm>
            <a:off x="684360" y="1197000"/>
            <a:ext cx="79912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Józef Piłsudski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ommons.wikimedia.org/wiki/File:Pi%C5%82sudski_16.JPG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ładysław Anders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odło: Wikimedia Commons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Wladyslaw_Anders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Pomnik-ławeczka Jana Karskiego w Tel-Awiwie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r Avishai Teicher, źródło: Wikimedia Commons, http://pl.wikipedia.org/wiki/Plik:Jan_Karski_Statue_in_Tel_Aviv_University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Jan Nowak-Jeziorański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Jan_nowak_jezioranski-1936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Tadeusz Zawadzki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Tadeusz_Zawadzki_-_Zo%C5%9Bka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Irena Sendlerowa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Irena_Sendlerowa_1942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Jan Rodowicz „Anoda”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autor zdjęcia: nieznany, źródło: Wikimedia Commons, http://pl.wikipedia.org/wiki/Plik:Anoda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611280" y="1484280"/>
            <a:ext cx="7561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ótkie przypomnienie zagadnień omawianych na poprzedniej lekcj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brane przykłady postaw obywatelskich w okresie II Rzeczpospolitej i II wojny światowej (Józef Piłsudski, Władysław Anders, Jan Karski, Jan Nowak-Jeziorański, Tadeusz Zawadzki „Zośka”, Irena Sendlerow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 dawne wzorce pasują do współczesności?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groda im. Jana Rodowicza „Anody” i jej laureac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pkultura jako nośnik wzorców zachowań obywatelskich (serial „Czas honoru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pomnienie zagadnień omawianych na poprzedniej lek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395280" y="1989000"/>
            <a:ext cx="8353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obywatelska w antyku – Sokrates, Platon, Arystoteles, Cyceron (civis roman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cepcja wzorców antycznych w polskiej myśli politycznej, publicystyce, tradycji literackiej i edukacyjnej późniejszych epok – wybrane przykłady (Jan Długosz, Andrzej Frycz Modrzewski, Jan Kochanowski, Wespazjan Kochowski, Ignacy Krasicki, publicyści oświeceniowi, Juliusz Słowack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ór obywatela w romantyzmie i pozytywizm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„nieznośna w swoim uporze” (Stefan Żeromski, Zbigniew Herber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kłady postaw obywatelskich (1918-194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84464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ózef Piłsud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ysław A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an Kar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an Nowak-Jeziorań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deusz Zawadzki „Zośk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rena Sendler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ózef Piłsudski (1867-193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Piłsudski_16"/>
          <p:cNvPicPr/>
          <p:nvPr/>
        </p:nvPicPr>
        <p:blipFill>
          <a:blip r:embed="rId1"/>
          <a:stretch/>
        </p:blipFill>
        <p:spPr>
          <a:xfrm>
            <a:off x="611280" y="1052640"/>
            <a:ext cx="3647880" cy="5127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767120" y="1152360"/>
            <a:ext cx="39816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mendant Legionów Polskich, pierwszy Marszałek Polski i dwukrotnie premier Polski, uważany za genialnego stratega i męża opatrznościowego narodu.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chowany w duchu tradycyjnych wartości patriotycznych, stał się w dorosłym życiu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skonałym przywódcą i organizatore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Autorytetu dodawała mu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haryzma i wielkie oddanie sprawie polskie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ładysław Anders (1892-197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Wladyslaw_Anders"/>
          <p:cNvPicPr/>
          <p:nvPr/>
        </p:nvPicPr>
        <p:blipFill>
          <a:blip r:embed="rId1"/>
          <a:stretch/>
        </p:blipFill>
        <p:spPr>
          <a:xfrm>
            <a:off x="611280" y="1341360"/>
            <a:ext cx="3389400" cy="439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335480" y="1368360"/>
            <a:ext cx="40528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czelny Wódz Polskich Sił Zbrojnych (w latach 1944-1945) i następca Prezydenta RP (w latach 1950-1954). Zwycięski wódz walk spod Monte Cassino – czerwone maki i biały koń, na którym jeździł generał weszły na zawsze do pamięci zbiorowej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nders słynął nie tylko z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święcenia w imię najwyższych idei, patriotyzmu i odwag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le też z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roski o swoich podwładny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Organizował polskie szkoły i kursy zawodow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Karski (1914-200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00000" y="1197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003640" y="1268280"/>
            <a:ext cx="3456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d 1939 r. był kurierem i emisariuszem władz Polskiego Państwa Podziemnego. Jesienią 1942 r. pojechał do Wielkiej Brytanii z najważniejszą w swoim życiu misją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jako naoczny świadek zdał relację z eksterminacji Żyd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 także przekazał szczegółowe informacje o działaniu Państwa Podziemnego w Pols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1" descr="Plik:Jan Karski Statue in Tel Aviv University.jpg"/>
          <p:cNvPicPr/>
          <p:nvPr/>
        </p:nvPicPr>
        <p:blipFill>
          <a:blip r:embed="rId1"/>
          <a:stretch/>
        </p:blipFill>
        <p:spPr>
          <a:xfrm>
            <a:off x="468360" y="1268280"/>
            <a:ext cx="4416480" cy="3313080"/>
          </a:xfrm>
          <a:prstGeom prst="rect">
            <a:avLst/>
          </a:prstGeom>
          <a:ln w="0">
            <a:noFill/>
          </a:ln>
        </p:spPr>
      </p:pic>
      <p:sp>
        <p:nvSpPr>
          <p:cNvPr id="115" name="pole tekstowe 8"/>
          <p:cNvSpPr/>
          <p:nvPr/>
        </p:nvSpPr>
        <p:spPr>
          <a:xfrm>
            <a:off x="611280" y="486900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 podstawie relacji Karskiego i przywiezionych przez niego mikrofilmów, rząd Sikorskiego przygotował i przedstawił aliantom raport o Holokauśc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2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Nowak-Jeziorański (1914-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Jan_nowak_jezioranski-1936"/>
          <p:cNvPicPr/>
          <p:nvPr/>
        </p:nvPicPr>
        <p:blipFill>
          <a:blip r:embed="rId1"/>
          <a:stretch/>
        </p:blipFill>
        <p:spPr>
          <a:xfrm>
            <a:off x="684360" y="1413000"/>
            <a:ext cx="3195360" cy="4680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284720" y="1268280"/>
            <a:ext cx="424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 udanej misji kurierskiej do Sztokholmu, powierzono mu w 1943 r. bardzo odpowiedzialne zadanie – jak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emisariusz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miał dotrzeć do rządu RP w Londynie. W Anglii spotkał się nie tylko z rządem polskim, ale także z władzami brytyjskimi, w tym z premierem Winstonem Churchille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1944 r., w przeddzień kapitulacji Powstania Warszawskiego, na rozkaz komendanta Armii Krajowej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ywiózł do Londynu setki zdjęć i dokument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Jego misje sprawiły, że zyskał przydomek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Kurier z Warszawy”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333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adeusz Zawadzki „Zośka” (1921-194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4"/>
          <p:cNvSpPr/>
          <p:nvPr/>
        </p:nvSpPr>
        <p:spPr>
          <a:xfrm>
            <a:off x="611280" y="184464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Tadeusz_Zawadzki-Zoska-scan"/>
          <p:cNvPicPr/>
          <p:nvPr/>
        </p:nvPicPr>
        <p:blipFill>
          <a:blip r:embed="rId1"/>
          <a:stretch/>
        </p:blipFill>
        <p:spPr>
          <a:xfrm>
            <a:off x="684360" y="1628640"/>
            <a:ext cx="3398760" cy="4824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4716360" y="1557360"/>
            <a:ext cx="39798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adeusz – harcmistrz i podporucznik Armii Krajowej – był bardz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aangażowany w akcję Małego Sabotażu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 największą liczbę kotwic namalowanych na murach w swojej dzielnicy, otrzymał honorowy pseudonim „Kotwicki”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26 marca 1943 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wodził grupą „Atak” w Akcji pod Arsenał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podczas niej udało się odbić z rąk Gestapo 25 więźniów, w tym jego przyjaciela – Jana Bytnara „Rudego”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iwona</cp:lastModifiedBy>
  <dcterms:modified xsi:type="dcterms:W3CDTF">2013-08-26T18:33:08Z</dcterms:modified>
  <cp:revision>97</cp:revision>
  <dc:subject/>
  <dc:title>Slajd 1</dc:title>
</cp:coreProperties>
</file>