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6BD4-51DE-41ED-9CE1-D051866ABBF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0225-73FD-4355-AD5D-0DF20B9D89B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4BF3-0F25-4A2C-8FA7-118955657BF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F65C-15B9-4DB3-BA2C-352BFD7E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2323-6CC0-4C79-970B-D64531D4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4C4F-D1BB-4A18-BABB-CA81D700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500F-F0B9-497A-9CC0-29A9BC6B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5D04-AE2A-4785-BF28-5E214FA5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A0E9-8277-4E7D-9E0F-1775F336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3207-5D07-460F-B46E-B889E8AB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9601-4CFD-4837-BDFF-2B6743CD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81FD-AA06-4B55-9E4E-B1B25D30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1A67-2F5E-4233-A8B2-A0CA06A8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66E8-F36C-432D-962A-7667155B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1455-285D-476C-9187-38FD9488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89A9-5390-4DD7-A8EF-3AD2972F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606E-F720-449E-B630-A52EDAD5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677C-11EC-4C5A-97FB-9F0A2A7B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BD95-3727-4E0E-835F-7FC16AEF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DCFC-4B11-4678-90BD-B284F51A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C28B-4ED3-4E42-98E3-058F9C47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8FC4-0AB1-48E2-AB30-52D0FB53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C289-0AC5-4384-B83B-558BC3E7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6ACC-7E2C-4AA8-A908-841D309A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74B2-E155-4F76-8054-B6C0A4A0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D430-C514-4358-B1FC-DFD35FB6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F25F-192E-4AF1-AE42-3C085268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B8D9-BDDF-4599-98C3-124E5BB98B19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5887-C949-4AF8-8616-4E2BC6EF113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iercke.de/bilder/omeda/501/100790_036_1.jpg" TargetMode="External"/><Relationship Id="rId2" Type="http://schemas.openxmlformats.org/officeDocument/2006/relationships/hyperlink" Target="http://pl.wikipedia.org/wiki/Plik:Haller_and_blue_army.jpg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Arial"/>
              </a:rPr>
              <a:t>Piłsudski czy Dmowski?- dwie wizje niepodległości</a:t>
            </a:r>
            <a:br>
              <a:rPr sz="49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Lekcja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r Igor Bartos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ole tekstowe 2"/>
          <p:cNvSpPr/>
          <p:nvPr/>
        </p:nvSpPr>
        <p:spPr>
          <a:xfrm>
            <a:off x="0" y="189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Uroczyste ślubowanie generała Józefa Hallera (Armia Błękitn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4"/>
          <p:cNvSpPr/>
          <p:nvPr/>
        </p:nvSpPr>
        <p:spPr>
          <a:xfrm>
            <a:off x="611280" y="1341360"/>
            <a:ext cx="7993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704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ole tekstowe 2"/>
          <p:cNvSpPr/>
          <p:nvPr/>
        </p:nvSpPr>
        <p:spPr>
          <a:xfrm>
            <a:off x="0" y="33336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</a:rPr>
              <a:t>Strategie państw zaborczych wobec sprawy polskiej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4"/>
          <p:cNvSpPr/>
          <p:nvPr/>
        </p:nvSpPr>
        <p:spPr>
          <a:xfrm>
            <a:off x="611280" y="1125360"/>
            <a:ext cx="79930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ustria przedstawiła koncepcję utworzenia w Galicji trzeciego królestw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mcy dopuszczali ewentualne powstanie mocno zależnego militarnie i gospodarczo od Niemiec tworu państwowego na części terenów Królestwa Polskieg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sja składała bardzo niejasne deklaracje - kusiła perspektywą zjednoczenia wszystkich dawnych ziem polskich i powstaniem tworu państwowego o pewnym stopniu autonomii (Patrz: odezwa Księcia Mikołaja Mikołajewicza z sierpnia 1914 roku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ole tekstowe 2"/>
          <p:cNvSpPr/>
          <p:nvPr/>
        </p:nvSpPr>
        <p:spPr>
          <a:xfrm>
            <a:off x="0" y="189000"/>
            <a:ext cx="9144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</a:rPr>
              <a:t>Ewolucja planów niemiecko-austriackich </a:t>
            </a:r>
            <a:br>
              <a:rPr sz="2700"/>
            </a:br>
            <a:r>
              <a:rPr b="1" lang="pl-PL" sz="2700" spc="-1" strike="noStrike">
                <a:solidFill>
                  <a:srgbClr val="000000"/>
                </a:solidFill>
                <a:latin typeface="Arial"/>
              </a:rPr>
              <a:t>oraz rosyjskich w związku z sytuacją militarną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</a:rPr>
              <a:t>w latach 1916-191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4"/>
          <p:cNvSpPr/>
          <p:nvPr/>
        </p:nvSpPr>
        <p:spPr>
          <a:xfrm>
            <a:off x="358920" y="1552680"/>
            <a:ext cx="860580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Akt „Dwóch Cesarzy” z 5 listopada 1916 r. zachęcał Polaków do walki u boku Niemiec i Austrii w ramach Polskiej Siły Zbrojnej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Efektem miało być utworzenie monarchii konstytucyjnej (zależnej od wspomnianych państw). Utworzono pierwszą namiastkę władz w postaci Tymczasowej Rady Stanu.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Polskie środowiska na Zachodzie rozpoczynają działania polityczne na rzecz powstania państwa polskiego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Rosja w grudniu 1916 r. deklaruje utworzenie wolnego państwa polskiego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(z własnym parlamentem i wojskiem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Na początku 1917 r. polskie aspiracji popiera USA i Francj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4"/>
          <p:cNvSpPr/>
          <p:nvPr/>
        </p:nvSpPr>
        <p:spPr>
          <a:xfrm>
            <a:off x="684360" y="1052640"/>
            <a:ext cx="78483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vies N., Boże Igrzysko: Historia Polski, Znak, Kraków 1989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opczyński W., Historia polityczna Polski: 1914-1939, Warszawa 1995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hojnowski A., Koncepcje polityki narodowościowej rządów polskich w latach 1921-1931, Zakład Narodowy im. Ossolińskich, Wrocław 1979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zoza Cz., Polska w czasach niepodległości i II wojny światowej (1918- 1945), Świat Książki, Warszawa 2001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uszko J., Historia Polski 1864-1948, Państwowe Wydawnictwa Naukowe, Warszawa 198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ole tekstowe 2"/>
          <p:cNvSpPr/>
          <p:nvPr/>
        </p:nvSpPr>
        <p:spPr>
          <a:xfrm>
            <a:off x="0" y="378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ykorzystane zdjęcia i grafi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3"/>
          <p:cNvSpPr/>
          <p:nvPr/>
        </p:nvSpPr>
        <p:spPr>
          <a:xfrm>
            <a:off x="684360" y="119700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apa Europy sprzed wybuchu I wojny światowej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diercke.de/bilder/omeda/501/100790_036_1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. Ślubowanie gen. Haller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żródło: Wikimedia Commons,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pl.wikipedia.org/wiki/Plik:Haller_and_blue_army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Arial"/>
                <a:ea typeface="Arial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lan prezentac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468360" y="112536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uropa przed wybuchem I wojny światow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tuacja Polaków w zaborze rosyjski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tuacja Polaków w zaborze pruski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tuacja Polaków w zaborze austriacki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ncepcje odbudowy państwowoś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lskie oddziały wojskowe na frontach I wojny światow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rategie państw zaborczych wobec sprawy polski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Europa przed wybuchem I wojny światowej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ole tekstowe 4"/>
          <p:cNvSpPr/>
          <p:nvPr/>
        </p:nvSpPr>
        <p:spPr>
          <a:xfrm>
            <a:off x="611280" y="1341360"/>
            <a:ext cx="7993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7610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ole tekstowe 2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Sytuacja Polaków w zaborze rosyjsk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4"/>
          <p:cNvSpPr/>
          <p:nvPr/>
        </p:nvSpPr>
        <p:spPr>
          <a:xfrm>
            <a:off x="574560" y="1125360"/>
            <a:ext cx="81010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tensywna rusyfikacja (nauka w języku rosyjskim, likwidacja polskich organizacji oświatowych i kulturalnych, ograniczenie liczby polskich mandatów w Dumi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usyfikacja sądownictwa polskieg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zrost liczby ludności Królestwa z 6 do 10 milionów w latach 1870-1914. Liczbę mieszkańców podwoiła Warszawa (osiągając pod koniec wieku ok. 600 tys. mieszkańców), podobnie Łód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uża liczba nowych miejsc pracy w przemyś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ole tekstowe 2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Sytuacja Polaków w zaborze prusk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4"/>
          <p:cNvSpPr/>
          <p:nvPr/>
        </p:nvSpPr>
        <p:spPr>
          <a:xfrm>
            <a:off x="611280" y="981000"/>
            <a:ext cx="80643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wszechna i bardzo intensywna germanizacja – władze niemieckie dążyły do całkowitego wynarodowienia Polaków. Idea pangermanizmu zakładała germanizację ziem polskich, Polaków planowano zniemczyć lub wypędzić, a na ich miejsce sprowadzić osadników niemieckich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osowano także wiele ograniczeń i restrykcji budowlanych – zakazano polskim chłopom stawiania budynków na zakupionej ziemi (→ sprawa Michała Drzymały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ała się symbolem walki z germanizacją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rzeciwieństwie do zaboru rosyjskiego, Polacy mogli odwoływać się do regulacji prawnych, gospodarczych oraz politycznych, i próbować bronić się przed wrogimi działaniami Niemców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udność polska zmuszona do walki o swoje istnienie, tworzyła liczne organizacje krzewiące polskość oraz rozwój ekonomiczny Polaków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ole tekstowe 2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Sytuacja Polaków w zaborze austriack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ole tekstowe 4"/>
          <p:cNvSpPr/>
          <p:nvPr/>
        </p:nvSpPr>
        <p:spPr>
          <a:xfrm>
            <a:off x="576360" y="836640"/>
            <a:ext cx="7991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orównaniu do pozostałych zaborów, tu sytuacja Polaków była stosunkowo najlepsz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Galicja posiadała własny sejm i rząd krajowy we Lwowie, a język polski był językiem urzędowym. Sprawy dotyczące gospodarki krajowej, komunikacji, szkolnictwa i zdrowia leżały w kompetencjach sejmu. Z tego powodu Galicja była miejscem, gdzie powstało najwięcej polskich organizacji politycznych i kulturalnych, jak również paramilitarnych i konspiracyjnych. Była też schronieniem dla Polaków, którzy uciekali z zaboru rosyjskieg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Krakowie i Lwowie ukazywała się polska prasa. Kwitło życie kultural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naukowe, a organizowane tu uroczystości patriotyczne (1910 r. ufundowanie przez Ignacego Paderewskiego Pomnika Grunwaldzkiego w Krakowie) miały wielki wpływ na postawy Polaków żyjących pod zaborem rosyjskim i pruski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ole tekstowe 2"/>
          <p:cNvSpPr/>
          <p:nvPr/>
        </p:nvSpPr>
        <p:spPr>
          <a:xfrm>
            <a:off x="0" y="44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oncepcje odbudowy państwowoś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ole tekstowe 4"/>
          <p:cNvSpPr/>
          <p:nvPr/>
        </p:nvSpPr>
        <p:spPr>
          <a:xfrm>
            <a:off x="611280" y="134136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Diagram 3" descr=""/>
          <p:cNvPicPr/>
          <p:nvPr/>
        </p:nvPicPr>
        <p:blipFill>
          <a:blip r:embed="rId1"/>
          <a:stretch/>
        </p:blipFill>
        <p:spPr>
          <a:xfrm>
            <a:off x="360360" y="841320"/>
            <a:ext cx="853452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ole tekstowe 2"/>
          <p:cNvSpPr/>
          <p:nvPr/>
        </p:nvSpPr>
        <p:spPr>
          <a:xfrm>
            <a:off x="179280" y="18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</a:rPr>
              <a:t>Odezwa Józefa Piłsudskiego do legionistów wydana </a:t>
            </a:r>
            <a:br>
              <a:rPr sz="2700"/>
            </a:br>
            <a:r>
              <a:rPr b="1" lang="pl-PL" sz="2700" spc="-1" strike="noStrike">
                <a:solidFill>
                  <a:srgbClr val="000000"/>
                </a:solidFill>
                <a:latin typeface="Arial"/>
              </a:rPr>
              <a:t>w pierwszą rocznicę wybuchu I wojny światowej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Obraz 1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422892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ole tekstowe 2"/>
          <p:cNvSpPr/>
          <p:nvPr/>
        </p:nvSpPr>
        <p:spPr>
          <a:xfrm>
            <a:off x="0" y="333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lskie oddziały wojskowe na frontach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 wojny światow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4"/>
          <p:cNvSpPr/>
          <p:nvPr/>
        </p:nvSpPr>
        <p:spPr>
          <a:xfrm>
            <a:off x="611280" y="1413000"/>
            <a:ext cx="7993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6600"/>
                </a:solidFill>
                <a:latin typeface="Arial"/>
              </a:rPr>
              <a:t>Legiony Polski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utworzone w sierpniu 1914 r. roku przez Naczelny Komitet Narodowy. Składały się z 3 Brygad. Dowodzili nimi m.in. Józef Piłsudski, Józef Haller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Stanisław Szeptyck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tworzone na terenie zaboru austriackiego operowały na terenie Królestwa Polskiego. Na bazie legionów powołano: </a:t>
            </a:r>
            <a:r>
              <a:rPr b="1" lang="pl-PL" sz="1600" spc="-1" strike="noStrike">
                <a:solidFill>
                  <a:srgbClr val="ff6600"/>
                </a:solidFill>
                <a:latin typeface="Arial"/>
              </a:rPr>
              <a:t>Polski Korpus Posiłkow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 wrzesień 1916 r. – luty 1918 r.) oraz </a:t>
            </a:r>
            <a:r>
              <a:rPr b="1" lang="pl-PL" sz="1600" spc="-1" strike="noStrike">
                <a:solidFill>
                  <a:srgbClr val="ff6600"/>
                </a:solidFill>
                <a:latin typeface="Arial"/>
              </a:rPr>
              <a:t>Polską Siłę Zbrojn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kwiecień 1917 r.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84360" y="3933720"/>
            <a:ext cx="7991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6600"/>
                </a:solidFill>
                <a:latin typeface="Arial"/>
              </a:rPr>
              <a:t>Legion Puławsk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utworzony jesienią 1914 r. w zaborze rosyjskim z inicjatywy Komitetu Narodowego Polski. Pozostałe oddziały wojskowe działające od 1917 r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 boku Rosji to </a:t>
            </a:r>
            <a:r>
              <a:rPr b="1" lang="pl-PL" sz="1600" spc="-1" strike="noStrike">
                <a:solidFill>
                  <a:srgbClr val="ff6600"/>
                </a:solidFill>
                <a:latin typeface="Arial"/>
              </a:rPr>
              <a:t>I, II , III Korpus Polski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826920" y="55450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55640" y="5300640"/>
            <a:ext cx="770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6600"/>
                </a:solidFill>
                <a:latin typeface="Arial"/>
              </a:rPr>
              <a:t>Armia Błękitn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Utworzona we Francji w 1917 r. z inicjatywy Romana Dmowskiego</a:t>
            </a: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rena</cp:lastModifiedBy>
  <dcterms:modified xsi:type="dcterms:W3CDTF">2013-04-23T20:01:51Z</dcterms:modified>
  <cp:revision>89</cp:revision>
  <dc:subject/>
  <dc:title>Slajd 1</dc:title>
</cp:coreProperties>
</file>