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3C2D-4503-42F1-975F-A3585473690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2B26-4569-438B-9DF4-BED701CCA67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73B0-4C1B-4588-8EFF-B2087911B70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83CD-134C-404A-A51E-96D72029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A9AD-D3F4-49A9-A728-5E6B07D7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C77-5A89-4639-9B8B-F008F692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9CF-085E-4156-9762-923735F5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8462-43FA-4777-935D-7CF987A9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164B-6154-4F88-A209-14A84038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60E4-3D60-418E-80BD-B4369EF4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CE34-4318-4DE5-BB58-036F2941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99AC-51A4-4BD4-A71F-C4330669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F484-99BC-410E-A793-38B2FC9D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923F-5967-4797-B2CE-9C186A8B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A55F-4FCF-4ABF-90B8-61F341F8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8E54-5883-4E29-B4C3-359142FA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242B-CF94-45B0-91AB-F3AC5086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7B15-8435-4503-90D6-A276AE31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E30C-B3F9-4645-947D-4096EB3F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FAA0-F6C4-4EB5-AEBB-65A2D7AF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8A2-B372-48E0-B057-1638A8AA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752-6757-405F-86B7-5F22A695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7C3D-13F6-4028-880C-19AC7F11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88E-5DFC-47FD-93A4-CA72BE96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8BAD-9DE4-4C3B-BDAC-FB1F4DAD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D91-32E9-45DB-8D05-2C6A0269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2270-2296-4306-B3A1-0A9D4A3A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C4A5-F6D3-44CE-AD74-CA9670ED3D9E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5086-E443-4B61-9900-6F12CEB47E9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Arial"/>
              </a:rPr>
              <a:t>Piłsudski czy Dmowski?- dwie wizje niepodległości</a:t>
            </a:r>
            <a:br>
              <a:rPr sz="49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lekcja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r 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ole tekstowe 2"/>
          <p:cNvSpPr/>
          <p:nvPr/>
        </p:nvSpPr>
        <p:spPr>
          <a:xfrm>
            <a:off x="0" y="18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Różnice w koncepcjach politycznych dotyczących kształtu państwa polskieg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4"/>
          <p:cNvSpPr/>
          <p:nvPr/>
        </p:nvSpPr>
        <p:spPr>
          <a:xfrm>
            <a:off x="611280" y="1341360"/>
            <a:ext cx="799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1112760"/>
          <a:ext cx="8642160" cy="5313600"/>
        </p:xfrm>
        <a:graphic>
          <a:graphicData uri="http://schemas.openxmlformats.org/drawingml/2006/table">
            <a:tbl>
              <a:tblPr/>
              <a:tblGrid>
                <a:gridCol w="4035240"/>
                <a:gridCol w="325440"/>
                <a:gridCol w="428148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ŁSUDS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OWS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764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rót do granic przedrozbiorowych na wschodzi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stanie państw stanowiących pas buforowy pomiędzy Rosją a Polsk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rót na wschodzie do granic poprzedzających III rozbiór oraz maksymalne poszerzenie granic na zachodzi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ciwnik wyprawy kijowskiej Piłsudskieg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ństw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968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cepcja federalistyczna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rzymanie bliskiej współpracy z mającymi powstać na wschodzie państwami: Białorusią, Ukrainą, Litwą i wytworzenie w ten sposób poziomu równowagi wobec ZSRR i Niemiec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cepcja inkorporacyjna. Wchłonięcie terenów o przeważającej liczbie polskich mieszkańców i poprzez wzmocnienie pozycji narodu i państwa spolonizowanie i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8448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ó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ństwo wielonarodowe, ukierunkowane na stopniową asymilację narodów zamieszkujących tereny państwa Polskiego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budowanie narodu opartego o polityczne wzorce zachodnie, silnego liczebnie (koło 60 milionów obywateli) jednolitego pod względem kultury, religii, tradycj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ole tekstowe 2"/>
          <p:cNvSpPr/>
          <p:nvPr/>
        </p:nvSpPr>
        <p:spPr>
          <a:xfrm>
            <a:off x="0" y="18900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ielonarodowy charakter II Rzeczpospolit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4"/>
          <p:cNvSpPr/>
          <p:nvPr/>
        </p:nvSpPr>
        <p:spPr>
          <a:xfrm>
            <a:off x="395280" y="112536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 pierwszego po odzyskaniu niepodległości spisu powszechnego przeprowadzonego w 1921 r. wynika, że w Polsce mieszkało wówczas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7,2 mln osób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kład narodowościowy był następując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Polacy – 69,2 pro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Ukraińcy – 14 pro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Żydzi – 7,8 pro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Białorusini – 3,9 pro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Niemcy – 3,8 pro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obywatele pozostałych narodowości – 1,3 pro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niektórych regionach (np. na Polesiu, Wołyniu i w Galicji Wschodniej) to Polacy stanowili mniejszoś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ole tekstowe 2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pięcia i konflik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4"/>
          <p:cNvSpPr/>
          <p:nvPr/>
        </p:nvSpPr>
        <p:spPr>
          <a:xfrm>
            <a:off x="395280" y="907920"/>
            <a:ext cx="8424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drodzona Polska gwarantowała równe prawa bez względu na narodowość i wyznanie, a mniejszości narodowe miały pełne prawa polityczn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pinii mniejszości, Polska troszczyła się jednak tylko o Polaków. Stąd m.in. działania konspiracyjne mniejszości ukraińskiej. Powstała w 1920 r. Ukraińska Organizacja Wojskowa stawiała sobie za cel walkę o niepodległą Ukrainę. Z czasem przekształciła się w Organizację Ukraińskich Nacjonalistów, a jej członkowie dokonywali zamachy zbrojne wymierzone w państwo polskie (m.in. w 1934r. z ich rąk zginął Bronisław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Pierack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minister spraw wewnętrznych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 odzyskaniu niepodległości nie zniknęła także niechęć do Żydów, jednak nie miały miejsca takie intensywne prześladowania jak w latach 30. w Niemczech. Polskie władze wspierały ruch syjonistyczny zmierzający do stworzenia państwa żydowskiego na terytorium Palestyn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4"/>
          <p:cNvSpPr/>
          <p:nvPr/>
        </p:nvSpPr>
        <p:spPr>
          <a:xfrm>
            <a:off x="684360" y="1052640"/>
            <a:ext cx="78483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vies N., Boże Igrzysko: Historia Polski, Znak, Kraków 1989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opczyński W., Historia polityczna Polski: 1914-1939, Warszawa 1995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ojnowski A., Koncepcje polityki narodowościowej rządów polskich w latach 1921-1931, Zakład Narodowy im. Ossolińskich, Wrocław 1979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zoza Cz., Polska w czasach niepodległości i II wojny światowej (1918- 1945), Świat Książki, Warszawa 2001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uszko J., Historia Polski 1864-1948, Państwowe Wydawnictwa Naukowe, Warszawa 198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ole tekstowe 2"/>
          <p:cNvSpPr/>
          <p:nvPr/>
        </p:nvSpPr>
        <p:spPr>
          <a:xfrm>
            <a:off x="0" y="378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ykorzystane zdjęcia i grafi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3"/>
          <p:cNvSpPr/>
          <p:nvPr/>
        </p:nvSpPr>
        <p:spPr>
          <a:xfrm>
            <a:off x="684360" y="1197000"/>
            <a:ext cx="78483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. Józef Piłsuds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źródło: Wikimedia Commons, http://pl.wikipedia.org/wiki/Plik:Pilsudski_1910_1920_LOC_hec_14263_restored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. Roman Dmows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żródło: Wikimedia Commons, http://pl.wikipedia.org/wiki/Plik:Roman_Dmowski_LOC_3c35372u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. Ignacy Paderewski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źródło: Wikimedia Commons, http://pl.wikipedia.org/wiki/Plik:Ignacy_Jan_Paderewski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Arial"/>
                <a:ea typeface="Arial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lan prezent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576360" y="112536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lność polityczna Józefa Piłsud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lność polityczna Romana Dmow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rategie polityczne Dmowskiego i Piłsudskiego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trakcie I wojny światow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lność polityczna Ignacego Paderew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elonarodowy charakter II Rzeczpospolit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ózef Piłsuds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611280" y="1197000"/>
            <a:ext cx="799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7" descr="Pilsudski_1910_1920_LOC_hec_14263_restored"/>
          <p:cNvPicPr/>
          <p:nvPr/>
        </p:nvPicPr>
        <p:blipFill>
          <a:blip r:embed="rId1"/>
          <a:stretch/>
        </p:blipFill>
        <p:spPr>
          <a:xfrm>
            <a:off x="755640" y="1628640"/>
            <a:ext cx="3529080" cy="3903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4859280" y="1341360"/>
            <a:ext cx="33847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Działacz socjalistyczny 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i niepodległościowy; 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Naczelnik Państwa w latach 1918-1922, naczelny wódz Armii Polskiej (od 11 listopada 1918 r.), pierwszy marszałek Polski (od 19 marca1920 r.), dwukrotny premier Polski (1926-1928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i 1930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Jego zwolennicy nazywali go przydomkami: Komendant, Dziadek i Marszałek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le tekstowe 2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ziałalność Józefa Piłsudski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4"/>
          <p:cNvSpPr/>
          <p:nvPr/>
        </p:nvSpPr>
        <p:spPr>
          <a:xfrm>
            <a:off x="395280" y="852480"/>
            <a:ext cx="835344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olskiej Partii Socjalistycznej reprezentował kierunek niepodległościowy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 widział możliwości współpracy z rewolucjonistami rosyjskim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1908 r. utworzył Związek Walki Czynnej, a w 1910 powołał na bazie Związku organizacje o charakterze paramilitarnym: Związek Strzelecki we Lwowi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Towarzystwo Strzeleckie w Krakow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ważał, że odzyskanie niepodległości jest możliwe tylko w opozycji do Rosji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Jego celem minimum było powiększenie autonomicznej Galicji o Królestwo Polskie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 następnie wydobycie tych ziem spod panowania Austri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wodził Legionami Polskimi, utworzonymi z organizacji strzeleckich. W listopadzie 1916 r. mianowany został szefem departamentu wojskowego przy Tymczasowej Radzie Stanu. W wyniku kryzysu przysięgowego został w lipcu 1917 r. aresztowany przez Niemców i trafił do więzien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nad rok później wrócił do Warszawy i został uznany przez ogół za „męża opatrznościowego”. Rozpoczął tworzenie struktur niepodległego państwa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n. 22 listopada 1918 r. rząd powołał go na Tymczasowego Naczelnika Państw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man Dmows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4"/>
          <p:cNvSpPr/>
          <p:nvPr/>
        </p:nvSpPr>
        <p:spPr>
          <a:xfrm>
            <a:off x="611280" y="1341360"/>
            <a:ext cx="799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Roman_Dmowski_LOC_3c35372u"/>
          <p:cNvPicPr/>
          <p:nvPr/>
        </p:nvPicPr>
        <p:blipFill>
          <a:blip r:embed="rId1"/>
          <a:stretch/>
        </p:blipFill>
        <p:spPr>
          <a:xfrm>
            <a:off x="684360" y="1484280"/>
            <a:ext cx="316692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4643280" y="1628640"/>
            <a:ext cx="3313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lityk  i publicysta;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inister Spraw Zagranicznych oraz poseł na Sejm Ustawodawczy RP; współzałożyciel Narodowej Demokracji, główny ideolog polskiego nacjonalizmu, zagorzały przeciwnik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ózefa Piłsudskiego.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ole tekstowe 2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ziałalność Romana Dmowski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4"/>
          <p:cNvSpPr/>
          <p:nvPr/>
        </p:nvSpPr>
        <p:spPr>
          <a:xfrm>
            <a:off x="324000" y="981000"/>
            <a:ext cx="849600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1905 r. przedstawił projekt kompromisu polsko-rosyjskiego, był bowiem przeciwnikiem przedwczesnych i nierealnych programów powstańczych. Zaczął wówczas głosić hasła antyniemieckie, uważał bowiem, że germanizacja czyni stałe szkody z uwagi n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ższość cywilizacyjną Niemców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d jego wpływem endecja tymczasowo wycofała się z haseł niepodległościow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antyrosyjskich uznając, że ewentualna współpraca z Rosją jest krokiem na drodze do autonomii dla Królestwa Polskieg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powiadał się także za nacjonalizmem i solidaryzmem narodowym, na co składały się: oparcie o religię katolicką, antysemityzm (oparty na podłożu ekonomicznym, a nie rasistowskim) oraz pełen liberalizm narodow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d wpływem zmieniającego się układu polityczno-militarnego, ukazującego słabość Rosji, w 1916 r. zaczął głosić hasła niepodległościow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wiązany z jego inicjatywy w Lozannie Komitet Narodowy Polski miał do czasu porozumienia się Piłsudskiego z endecją (styczeń, 1919 r.) monopol na stosunki Polsk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Entent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0" y="18900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ziałania Dmowskiego i Piłsudskiego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 przełomowych momentach I wojny świat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468360" y="177336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Dmowski: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W związku z klęskami Rosji postawił na wzmocnienie polityczne sprawy polskiej na Zachodzie. Utworzył w Lozannie Polski Komitet Narodowy, przyczynił się do powstania 100-tysięcznej armii we Francji (Błękitna Armia)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ył politycznym przedstawicielem interesów Polski w kontaktach z Ententą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Piłsudski: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Chwilowe sukcesy państw centralnych doprowadziły do usztywnienia kursu wobec Polaków i tzw. „kryzysu przysięgowego”. Zmiana nastawienia politycznego państw Centralnych zdopingowała Piłsudski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i legionistów) do odmowy współpracy z Tymczasową Radą Stanu, która wkrótce zakończyła działanie </a:t>
            </a:r>
            <a:r>
              <a:rPr b="0" lang="pl-P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 jej miejsce utworzono Radę Regencyjn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ole tekstowe 2"/>
          <p:cNvSpPr/>
          <p:nvPr/>
        </p:nvSpPr>
        <p:spPr>
          <a:xfrm>
            <a:off x="0" y="18900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gnacy Paderewski, dyplomata i polity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4"/>
          <p:cNvSpPr/>
          <p:nvPr/>
        </p:nvSpPr>
        <p:spPr>
          <a:xfrm>
            <a:off x="611280" y="1341360"/>
            <a:ext cx="799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4564080" y="1244520"/>
            <a:ext cx="3672000" cy="48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gnacy Paderewski - kompozytor, pianista, ale także działacz polityczny.</a:t>
            </a:r>
            <a:br>
              <a:rPr sz="1600"/>
            </a:b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o na jego zlecenie rzeźbiarz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ntoni Wiwuski wykonał pomnik upamiętniający zwycięstwo Polaków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bitwie pod Grunwaldem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mnik został odsłonięty w 1910 r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Krakowie, Paderewski wygłosił tam niepodległościowe przemówienie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 całe wydarzenie obserwowało  ponad 150 tys. osób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7" descr="Ignacy_Jan_Paderewski"/>
          <p:cNvPicPr/>
          <p:nvPr/>
        </p:nvPicPr>
        <p:blipFill>
          <a:blip r:embed="rId1"/>
          <a:stretch/>
        </p:blipFill>
        <p:spPr>
          <a:xfrm>
            <a:off x="684360" y="1413000"/>
            <a:ext cx="33829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le tekstowe 2"/>
          <p:cNvSpPr/>
          <p:nvPr/>
        </p:nvSpPr>
        <p:spPr>
          <a:xfrm>
            <a:off x="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ziałalność polityczna Paderewskiego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dczas I wojny świat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4"/>
          <p:cNvSpPr/>
          <p:nvPr/>
        </p:nvSpPr>
        <p:spPr>
          <a:xfrm>
            <a:off x="395280" y="1557360"/>
            <a:ext cx="842472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ił szeroko zakrojoną działalność dyplomatyczną na rzecz Polski. m.in. zbierał fundusze dla ofiar wojny i był jednym ze współzałożycieli komitetów pomocy Polakom w Londynie i Paryż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1915 r. Paderewski wyjechał do Stanów Zjednoczonych. Przed każdym swoim występem opowiadał o wymarzonej przez niego niepodległości Polsk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styczniu 1917 r. spotkał się z prezydentem USA, Thomasem Woodrowem Wilsonem, któremu przekazał memoriał na temat Polski. Prawdopodobnie przyczyniło się to do tego, że sprawa niepodległości Polski znalazła się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słynnych 14 punktach Wilso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9-08T20:40:58Z</dcterms:modified>
  <cp:revision>89</cp:revision>
  <dc:subject/>
  <dc:title>Slajd 1</dc:title>
</cp:coreProperties>
</file>