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BE9E-170B-4D87-8628-27BFA39F760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6706-2661-438F-BFA0-C3B5C0FC410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9D12-CDEE-475F-A786-D95C8D5351D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2753-8A7D-4877-891F-07C344D4BF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F9F2-EB38-4F05-B969-6215CEC3A6A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92F5-E2BB-44A8-A94C-284EFF49101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7412-5ACD-46AB-AD1D-B7842DAB66C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CBFE-8ED3-43F3-91F8-35E721D1DF0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AAF9-0EE9-43E2-9B32-42791F1371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19C1-4C65-4515-9DCA-811F2614CF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19FA-C590-466F-9966-ACC8BE1AFB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E5B0-AFFE-4421-AE15-F91BE8A2F6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400E-A84D-46D8-80BF-0122E08F8F1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F9A0-F20A-4B40-90E2-9E6AD1CAC0A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239-C68A-4437-86B4-10E190F3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FDA-0FF4-4993-BDB9-B368592C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0AC-B08B-4761-B49C-28A81510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F71-8CC7-4AC8-8BAC-0C1D756E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808A-12C4-42B7-A355-51B5E8FC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3E28-C533-4B3A-A233-F402B7F7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115F-8355-427F-BDAB-19CC8F20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92AE-50C4-4575-9C35-227E9CCC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EC64-5798-4ECF-A28E-730E97D1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427F-3DBF-44FF-9056-BE1B0AEB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EB92-892B-4C3F-B665-AED20159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E77-4763-411E-91FE-513E7EA6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CD2C-CE86-4472-822C-1837F518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07A4-316E-4C2B-9FE8-66583B2B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8595-493F-4DA5-95EE-F70BDE76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ACA9-9EC5-41C1-8687-AA398594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D8D9-ECEA-4874-A801-9EB4C4A0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9D1-F8EA-4379-97B3-D6C6F857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D45-B5CE-4C87-9021-12785A29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7BC-7E5C-4E10-B9EA-9D66509A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E48-64C9-415D-AB83-8190922E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A69-6C9F-4DE5-8CF8-96D3F4A5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0BB-760C-43C3-B8B5-A46A969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73C-4EA9-47AA-855D-69899853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61F1-CB5F-4B19-85C1-8A4C7D7E38B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02C9-9384-4D54-B669-B3A546A51DC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QL0bXxjqEQ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Antyczni herosi 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692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http://www.livius.org/a/greece/sparta/sparta_athena_chalkioiokos_leonidas_mus_sparta_jvv5.JPG"/>
          <p:cNvPicPr/>
          <p:nvPr/>
        </p:nvPicPr>
        <p:blipFill>
          <a:blip r:embed="rId1"/>
          <a:stretch/>
        </p:blipFill>
        <p:spPr>
          <a:xfrm>
            <a:off x="2843280" y="1484280"/>
            <a:ext cx="2846160" cy="4465800"/>
          </a:xfrm>
          <a:prstGeom prst="rect">
            <a:avLst/>
          </a:prstGeom>
          <a:ln w="0">
            <a:noFill/>
          </a:ln>
        </p:spPr>
      </p:pic>
      <p:sp>
        <p:nvSpPr>
          <p:cNvPr id="121" name="Prostokąt 1"/>
          <p:cNvSpPr/>
          <p:nvPr/>
        </p:nvSpPr>
        <p:spPr>
          <a:xfrm>
            <a:off x="1763640" y="476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eoni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molon-labe"/>
          <p:cNvPicPr/>
          <p:nvPr/>
        </p:nvPicPr>
        <p:blipFill>
          <a:blip r:embed="rId1"/>
          <a:stretch/>
        </p:blipFill>
        <p:spPr>
          <a:xfrm>
            <a:off x="395280" y="2276640"/>
            <a:ext cx="8388360" cy="3001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hodź i weź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0" y="1484280"/>
            <a:ext cx="591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Arial"/>
              </a:rPr>
              <a:t>Nazywany „Polskim Leonidasem” kpt. Władysław Raginis bronił odcinka umocnionego „Wizna”z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360 (wg innych źródeł 720) żołnierzami i 9 bunkrami (niedokończonymi) zatrzymał przez trzy dni XIX Korpus Pancerny gen. Heinza Guderiana – razem 42 200 żołnierzy niemieckich, 350 czołgów, 457 dział, wspieranych przez 600 samolotów Luftwaffe. Poległ na posterun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Wladyslaw_Raginis"/>
          <p:cNvPicPr/>
          <p:nvPr/>
        </p:nvPicPr>
        <p:blipFill>
          <a:blip r:embed="rId1"/>
          <a:stretch/>
        </p:blipFill>
        <p:spPr>
          <a:xfrm>
            <a:off x="6300720" y="2060640"/>
            <a:ext cx="2266920" cy="3085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pt. Władysław Ragin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pt. Raginis na nowo odkry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95280" y="2060640"/>
            <a:ext cx="8229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Mocno zapomnianą postać kapitana „odkryli na nowo” szwedzcy muzycy z zespołu Sabat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1QL0bXxjqEQ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(dostęp 15.03.20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The_Brazen_Serpent"/>
          <p:cNvPicPr/>
          <p:nvPr/>
        </p:nvPicPr>
        <p:blipFill>
          <a:blip r:embed="rId1"/>
          <a:stretch/>
        </p:blipFill>
        <p:spPr>
          <a:xfrm>
            <a:off x="2843280" y="1773360"/>
            <a:ext cx="3244680" cy="4176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11280" y="2133720"/>
            <a:ext cx="194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obrażenie Mojżesza, wyprowadzającego lud z Egiptu, odbierającego przykazania czy chroniącego lud od węży jest bardzo popular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227640" y="2205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ojżesz podnosi miedzianego węża (obraz Benjamina Westa)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ytuł 1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jże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Plik:Polish II Corps (37) - 1946-06-02 - Casarano.jpg"/>
          <p:cNvPicPr/>
          <p:nvPr/>
        </p:nvPicPr>
        <p:blipFill>
          <a:blip r:embed="rId1"/>
          <a:stretch/>
        </p:blipFill>
        <p:spPr>
          <a:xfrm>
            <a:off x="1835280" y="1557360"/>
            <a:ext cx="4895640" cy="3403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457200" y="501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98989"/>
                </a:solidFill>
                <a:latin typeface="Calibri"/>
              </a:rPr>
              <a:t>Gen. Władysław Anders podczas inspekcji polskiego liceum w Casarano. Autor zdjęcia: Benedykt Tuszyń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en. Władysław A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udy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aravaggio_judyta_i_holofernes"/>
          <p:cNvPicPr/>
          <p:nvPr/>
        </p:nvPicPr>
        <p:blipFill>
          <a:blip r:embed="rId1"/>
          <a:stretch/>
        </p:blipFill>
        <p:spPr>
          <a:xfrm>
            <a:off x="1619280" y="1197000"/>
            <a:ext cx="5040360" cy="40226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5157720"/>
            <a:ext cx="8229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Caravaggio, Judyta i Holofernes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File:Muzeum Diecezjalne w Sandomierzu Obrona Trembowli - Anna Dorota Chrzanowska 30.12.2010 p.jpg"/>
          <p:cNvPicPr/>
          <p:nvPr/>
        </p:nvPicPr>
        <p:blipFill>
          <a:blip r:embed="rId1"/>
          <a:stretch/>
        </p:blipFill>
        <p:spPr>
          <a:xfrm>
            <a:off x="395280" y="1052640"/>
            <a:ext cx="2754360" cy="4465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3276720" y="3284640"/>
            <a:ext cx="34671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Anna Dorota Chrzanowska podczas obrony Trembowli (1675)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276720" y="1413000"/>
            <a:ext cx="548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Anna Dorota Chrzanowska – polska Judy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Emilia%20Plater%20Amelka%2029"/>
          <p:cNvPicPr/>
          <p:nvPr/>
        </p:nvPicPr>
        <p:blipFill>
          <a:blip r:embed="rId1"/>
          <a:stretch/>
        </p:blipFill>
        <p:spPr>
          <a:xfrm>
            <a:off x="2124000" y="1341360"/>
            <a:ext cx="4602240" cy="4538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250920" y="404640"/>
            <a:ext cx="6418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Emilia Plater  - obraz Jana Rosena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Anna_Pustowojt%C3%B3wna"/>
          <p:cNvPicPr/>
          <p:nvPr/>
        </p:nvPicPr>
        <p:blipFill>
          <a:blip r:embed="rId1"/>
          <a:stretch/>
        </p:blipFill>
        <p:spPr>
          <a:xfrm>
            <a:off x="3059280" y="1773360"/>
            <a:ext cx="2592360" cy="417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258920" y="260280"/>
            <a:ext cx="54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nna Pustowójtówna, bohaterska bojowniczka powstania styczni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samson-illustration-pulling-down-pillars"/>
          <p:cNvPicPr/>
          <p:nvPr/>
        </p:nvPicPr>
        <p:blipFill>
          <a:blip r:embed="rId1"/>
          <a:stretch/>
        </p:blipFill>
        <p:spPr>
          <a:xfrm>
            <a:off x="3348000" y="1844640"/>
            <a:ext cx="5315040" cy="3800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98989"/>
                </a:solidFill>
                <a:latin typeface="Calibri"/>
              </a:rPr>
              <a:t>Biblijny sędzia Samson doprowadzony do rozpaczy zdobył się na poświęcenie, niszcząc pałac Filistynów i ponosząc śmierć pod jego gruzami. Stał się biblijnym wzorem poświęcenia dla kraj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am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uliusz Konstanty Ord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Plik:Julian Ordon1.JPG"/>
          <p:cNvPicPr/>
          <p:nvPr/>
        </p:nvPicPr>
        <p:blipFill>
          <a:blip r:embed="rId1"/>
          <a:stretch/>
        </p:blipFill>
        <p:spPr>
          <a:xfrm>
            <a:off x="5754600" y="1557360"/>
            <a:ext cx="2479680" cy="3384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55640" y="1484280"/>
            <a:ext cx="482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ważany za polski synonim Samsona i Hektora, oficer który wysadził w 1831 redutę nr 54, wraz z wkraczającymi do niej żołnierzami rosyjskimi. Adam Mickiewicz poświęcił mu wiersz, w którym Ordon miał polec. Okazało się jednak, że zdołał, mimo obrażeń, przeży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26T13:14:16Z</dcterms:modified>
  <cp:revision>13</cp:revision>
  <dc:subject/>
  <dc:title>Slajd 1</dc:title>
</cp:coreProperties>
</file>