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8A41D-711E-41B6-8966-125706ADB5A9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13F0B-14AA-4FDA-80E9-C4FAC365F8D0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1B2DA-6859-4CA7-A411-F5AC4B5D64FA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9DCDA-4456-464A-95A9-5E44D0A70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BA8C4-EC22-4495-B85B-6BD0DCF7D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27E53-DC66-434B-88EC-77DFFA4CE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463DF-9734-400F-A9E6-49BB5E6CD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D739D-3A16-4EAB-84E2-87788E07B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B5F3E-107A-4416-8D04-E973A46E5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7994E-B10D-4199-8B32-F21D742B0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B6BEA-1F32-47AF-A7A4-C10E06462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FCBEF-056E-4D92-B360-E046EAA8C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7CAFB-8B8B-4216-ADCA-9800668BF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C467D-60AB-4AE3-AAAB-C5BBD8537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CD9B1-BB6F-4106-8EA3-8D0AC2332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64743-54F6-4B57-B2A7-FEE02569D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6AC68-0BF4-4456-BD7C-00933426A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01352-4E89-4F24-8052-B364EB221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EC441-B80F-480E-B789-05A99B6EC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1BFCC-E934-47C3-984B-143B5376D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20375-99F1-45D4-B25B-4B9BB8A91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49261-DE26-49B8-A2AE-EA7D3F53F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69095-714F-489B-ACFE-3D86CFE39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2995E-4253-4BEB-852E-A7F560E17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B26FE-16FB-40A1-ABA9-7EF55A51F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201DB-ECC6-4720-9093-4248ED1B1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CEC20-6CBA-40DC-9C7F-097AFC39B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"/>
          <p:cNvPicPr/>
          <p:nvPr/>
        </p:nvPicPr>
        <p:blipFill>
          <a:blip r:embed="rId2"/>
          <a:stretch/>
        </p:blipFill>
        <p:spPr>
          <a:xfrm>
            <a:off x="0" y="5979960"/>
            <a:ext cx="9144000" cy="9050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112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EB463-734F-495C-A85F-B57DAEA32043}" type="slidenum"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2"/>
          <a:stretch/>
        </p:blipFill>
        <p:spPr>
          <a:xfrm>
            <a:off x="0" y="5979960"/>
            <a:ext cx="9144000" cy="9050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1123920"/>
          </a:xfrm>
          <a:prstGeom prst="rect">
            <a:avLst/>
          </a:prstGeom>
          <a:ln w="0">
            <a:noFill/>
          </a:ln>
        </p:spPr>
      </p:pic>
      <p:pic>
        <p:nvPicPr>
          <p:cNvPr id="45" name="Obraz 2" descr="stopka_poz.gif"/>
          <p:cNvPicPr/>
          <p:nvPr/>
        </p:nvPicPr>
        <p:blipFill>
          <a:blip r:embed="rId4"/>
          <a:stretch/>
        </p:blipFill>
        <p:spPr>
          <a:xfrm>
            <a:off x="0" y="5951520"/>
            <a:ext cx="9144000" cy="906480"/>
          </a:xfrm>
          <a:prstGeom prst="rect">
            <a:avLst/>
          </a:prstGeom>
          <a:ln w="0">
            <a:noFill/>
          </a:ln>
        </p:spPr>
      </p:pic>
      <p:pic>
        <p:nvPicPr>
          <p:cNvPr id="46" name="Obraz 9" descr="nagłówek_poz.gif"/>
          <p:cNvPicPr/>
          <p:nvPr/>
        </p:nvPicPr>
        <p:blipFill>
          <a:blip r:embed="rId5"/>
          <a:stretch/>
        </p:blipFill>
        <p:spPr>
          <a:xfrm>
            <a:off x="0" y="0"/>
            <a:ext cx="9144000" cy="112536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35EFF-6EA3-45EA-8308-5E4F786135CB}" type="slidenum"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diercke.de/bilder/omeda/501/100790_036_1.jpg" TargetMode="External"/><Relationship Id="rId2" Type="http://schemas.openxmlformats.org/officeDocument/2006/relationships/hyperlink" Target="http://pl.wikipedia.org/wiki/Plik:Haller_and_blue_army.jpg" TargetMode="External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6000" y="1591920"/>
            <a:ext cx="795636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900" spc="-1" strike="noStrike">
                <a:solidFill>
                  <a:srgbClr val="000000"/>
                </a:solidFill>
                <a:latin typeface="Arial"/>
              </a:rPr>
              <a:t>Piłsudski czy Dmowski?- dwie wizje niepodległości</a:t>
            </a:r>
            <a:br>
              <a:rPr sz="4900"/>
            </a:b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Lekcja 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odtytuł 2"/>
          <p:cNvSpPr/>
          <p:nvPr/>
        </p:nvSpPr>
        <p:spPr>
          <a:xfrm>
            <a:off x="1116000" y="378936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dr Igor Bartosi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ole tekstowe 2"/>
          <p:cNvSpPr/>
          <p:nvPr/>
        </p:nvSpPr>
        <p:spPr>
          <a:xfrm>
            <a:off x="0" y="18900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Uroczyste ślubowanie generała Józefa Hallera (Armia Błękitna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ole tekstowe 4"/>
          <p:cNvSpPr/>
          <p:nvPr/>
        </p:nvSpPr>
        <p:spPr>
          <a:xfrm>
            <a:off x="611280" y="1341360"/>
            <a:ext cx="79930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3" descr=""/>
          <p:cNvPicPr/>
          <p:nvPr/>
        </p:nvPicPr>
        <p:blipFill>
          <a:blip r:embed="rId1"/>
          <a:stretch/>
        </p:blipFill>
        <p:spPr>
          <a:xfrm>
            <a:off x="755640" y="1557360"/>
            <a:ext cx="77040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1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ole tekstowe 2"/>
          <p:cNvSpPr/>
          <p:nvPr/>
        </p:nvSpPr>
        <p:spPr>
          <a:xfrm>
            <a:off x="0" y="333360"/>
            <a:ext cx="91440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700" spc="-1" strike="noStrike">
                <a:solidFill>
                  <a:srgbClr val="000000"/>
                </a:solidFill>
                <a:latin typeface="Arial"/>
              </a:rPr>
              <a:t>Strategie państw zaborczych wobec sprawy polskiej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ole tekstowe 4"/>
          <p:cNvSpPr/>
          <p:nvPr/>
        </p:nvSpPr>
        <p:spPr>
          <a:xfrm>
            <a:off x="611280" y="1125360"/>
            <a:ext cx="799308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Austria przedstawiła koncepcję utworzenia w Galicji trzeciego królestwa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Niemcy dopuszczali ewentualne powstanie mocno zależnego militarnie i gospodarczo od Niemiec tworu państwowego na części terenów Królestwa Polskiego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Rosja składała bardzo niejasne deklaracje - kusiła perspektywą zjednoczenia wszystkich dawnych ziem polskich i powstaniem tworu państwowego o pewnym stopniu autonomii (Patrz: odezwa Księcia Mikołaja Mikołajewicza z sierpnia 1914 roku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ole tekstowe 2"/>
          <p:cNvSpPr/>
          <p:nvPr/>
        </p:nvSpPr>
        <p:spPr>
          <a:xfrm>
            <a:off x="0" y="189000"/>
            <a:ext cx="914400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700" spc="-1" strike="noStrike">
                <a:solidFill>
                  <a:srgbClr val="000000"/>
                </a:solidFill>
                <a:latin typeface="Arial"/>
              </a:rPr>
              <a:t>Ewolucja planów niemiecko-austriackich </a:t>
            </a:r>
            <a:br>
              <a:rPr sz="2700"/>
            </a:br>
            <a:r>
              <a:rPr b="1" lang="pl-PL" sz="2700" spc="-1" strike="noStrike">
                <a:solidFill>
                  <a:srgbClr val="000000"/>
                </a:solidFill>
                <a:latin typeface="Arial"/>
              </a:rPr>
              <a:t>oraz rosyjskich w związku z sytuacją militarną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700" spc="-1" strike="noStrike">
                <a:solidFill>
                  <a:srgbClr val="000000"/>
                </a:solidFill>
                <a:latin typeface="Arial"/>
              </a:rPr>
              <a:t>w latach 1916-1917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ole tekstowe 4"/>
          <p:cNvSpPr/>
          <p:nvPr/>
        </p:nvSpPr>
        <p:spPr>
          <a:xfrm>
            <a:off x="358920" y="1552680"/>
            <a:ext cx="8605800" cy="47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Arial"/>
              </a:rPr>
              <a:t>Akt „Dwóch Cesarzy” z 5 listopada 1916 r. zachęcał Polaków do walki u boku Niemiec i Austrii w ramach Polskiej Siły Zbrojnej.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Arial"/>
              </a:rPr>
              <a:t>Efektem miało być utworzenie monarchii konstytucyjnej (zależnej od wspomnianych państw). Utworzono pierwszą namiastkę władz w postaci Tymczasowej Rady Stanu.</a:t>
            </a:r>
            <a:br>
              <a:rPr sz="1700"/>
            </a:b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700" spc="-1" strike="noStrike">
                <a:solidFill>
                  <a:srgbClr val="000000"/>
                </a:solidFill>
                <a:latin typeface="Arial"/>
              </a:rPr>
              <a:t>Polskie środowiska na Zachodzie rozpoczynają działania polityczne na rzecz powstania państwa polskiego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Arial"/>
              </a:rPr>
              <a:t>Rosja w grudniu 1916 r. deklaruje utworzenie wolnego państwa polskiego </a:t>
            </a:r>
            <a:br>
              <a:rPr sz="1700"/>
            </a:br>
            <a:r>
              <a:rPr b="0" lang="pl-PL" sz="1700" spc="-1" strike="noStrike">
                <a:solidFill>
                  <a:srgbClr val="000000"/>
                </a:solidFill>
                <a:latin typeface="Arial"/>
              </a:rPr>
              <a:t>(z własnym parlamentem i wojskiem)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Arial"/>
              </a:rPr>
              <a:t>Na początku 1917 r. polskie aspiracji popiera USA i Francja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ole tekstowe 2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Bibliografi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ole tekstowe 4"/>
          <p:cNvSpPr/>
          <p:nvPr/>
        </p:nvSpPr>
        <p:spPr>
          <a:xfrm>
            <a:off x="684360" y="1052640"/>
            <a:ext cx="7848360" cy="48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lnSpc>
                <a:spcPct val="150000"/>
              </a:lnSpc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Davies N., Boże Igrzysko: Historia Polski, Znak, Kraków 1989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>
              <a:lnSpc>
                <a:spcPct val="150000"/>
              </a:lnSpc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Konopczyński W., Historia polityczna Polski: 1914-1939, Warszawa 1995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>
              <a:lnSpc>
                <a:spcPct val="150000"/>
              </a:lnSpc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Chojnowski A., Koncepcje polityki narodowościowej rządów polskich w latach 1921-1931, Zakład Narodowy im. Ossolińskich, Wrocław 1979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>
              <a:lnSpc>
                <a:spcPct val="150000"/>
              </a:lnSpc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Brzoza Cz., Polska w czasach niepodległości i II wojny światowej (1918- 1945), Świat Książki, Warszawa 2001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>
              <a:lnSpc>
                <a:spcPct val="150000"/>
              </a:lnSpc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Buszko J., Historia Polski 1864-1948, Państwowe Wydawnictwa Naukowe, Warszawa 198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8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ole tekstowe 2"/>
          <p:cNvSpPr/>
          <p:nvPr/>
        </p:nvSpPr>
        <p:spPr>
          <a:xfrm>
            <a:off x="0" y="3780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Wykorzystane zdjęcia i grafik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ole tekstowe 3"/>
          <p:cNvSpPr/>
          <p:nvPr/>
        </p:nvSpPr>
        <p:spPr>
          <a:xfrm>
            <a:off x="684360" y="1197000"/>
            <a:ext cx="7848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Mapa Europy sprzed wybuchu I wojny światowej,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źródło: </a:t>
            </a:r>
            <a:r>
              <a:rPr b="0" lang="pl-PL" sz="18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://www.diercke.de/bilder/omeda/501/100790_036_1.jp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2. Ślubowanie gen. Hallera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, żródło: Wikimedia Commons, </a:t>
            </a:r>
            <a:r>
              <a:rPr b="0" lang="pl-PL" sz="18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://pl.wikipedia.org/wiki/Plik:Haller_and_blue_army.jp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5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1844280"/>
            <a:ext cx="91440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900" spc="-1" strike="noStrike">
                <a:solidFill>
                  <a:srgbClr val="000000"/>
                </a:solidFill>
                <a:latin typeface="Arial"/>
                <a:ea typeface="Arial"/>
              </a:rPr>
              <a:t>Dziękuję za uwagę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2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ole tekstowe 2"/>
          <p:cNvSpPr/>
          <p:nvPr/>
        </p:nvSpPr>
        <p:spPr>
          <a:xfrm>
            <a:off x="0" y="33336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Plan prezentacj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ole tekstowe 4"/>
          <p:cNvSpPr/>
          <p:nvPr/>
        </p:nvSpPr>
        <p:spPr>
          <a:xfrm>
            <a:off x="468360" y="1125360"/>
            <a:ext cx="82803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Europa przed wybuchem I wojny światowej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Sytuacja Polaków w zaborze rosyjski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Sytuacja Polaków w zaborze pruski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Sytuacja Polaków w zaborze austriacki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Koncepcje odbudowy państwowośc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olskie oddziały wojskowe na frontach I wojny światowej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Strategie państw zaborczych wobec sprawy polskiej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ole tekstowe 2"/>
          <p:cNvSpPr/>
          <p:nvPr/>
        </p:nvSpPr>
        <p:spPr>
          <a:xfrm>
            <a:off x="0" y="1890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Europa przed wybuchem I wojny światowej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ole tekstowe 4"/>
          <p:cNvSpPr/>
          <p:nvPr/>
        </p:nvSpPr>
        <p:spPr>
          <a:xfrm>
            <a:off x="611280" y="1341360"/>
            <a:ext cx="79930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2" descr=""/>
          <p:cNvPicPr/>
          <p:nvPr/>
        </p:nvPicPr>
        <p:blipFill>
          <a:blip r:embed="rId1"/>
          <a:stretch/>
        </p:blipFill>
        <p:spPr>
          <a:xfrm>
            <a:off x="1763640" y="1125360"/>
            <a:ext cx="5761080" cy="476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ole tekstowe 2"/>
          <p:cNvSpPr/>
          <p:nvPr/>
        </p:nvSpPr>
        <p:spPr>
          <a:xfrm>
            <a:off x="0" y="33336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Sytuacja Polaków w zaborze rosyjski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ole tekstowe 4"/>
          <p:cNvSpPr/>
          <p:nvPr/>
        </p:nvSpPr>
        <p:spPr>
          <a:xfrm>
            <a:off x="574560" y="1125360"/>
            <a:ext cx="810108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Intensywna rusyfikacja (nauka w języku rosyjskim, likwidacja polskich organizacji oświatowych i kulturalnych, ograniczenie liczby polskich mandatów w Dumie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Rusyfikacja sądownictwa polskiego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zrost liczby ludności Królestwa z 6 do 10 milionów w latach 1870-1914. Liczbę mieszkańców podwoiła Warszawa (osiągając pod koniec wieku ok. 600 tys. mieszkańców), podobnie Łódź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Duża liczba nowych miejsc pracy w przemyśl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ole tekstowe 2"/>
          <p:cNvSpPr/>
          <p:nvPr/>
        </p:nvSpPr>
        <p:spPr>
          <a:xfrm>
            <a:off x="0" y="1890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Sytuacja Polaków w zaborze pruski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ole tekstowe 4"/>
          <p:cNvSpPr/>
          <p:nvPr/>
        </p:nvSpPr>
        <p:spPr>
          <a:xfrm>
            <a:off x="611280" y="981000"/>
            <a:ext cx="80643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Powszechna i bardzo intensywna germanizacja – władze niemieckie dążyły do całkowitego wynarodowienia Polaków. Idea pangermanizmu zakładała germanizację ziem polskich, Polaków planowano zniemczyć lub wypędzić, a na ich miejsce sprowadzić osadników niemieckich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Stosowano także wiele ograniczeń i restrykcji budowlanych – zakazano polskim chłopom stawiania budynków na zakupionej ziemi (→ sprawa Michała Drzymały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stała się symbolem walki z germanizacją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W przeciwieństwie do zaboru rosyjskiego, Polacy mogli odwoływać się do regulacji prawnych, gospodarczych oraz politycznych, i próbować bronić się przed wrogimi działaniami Niemców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Ludność polska zmuszona do walki o swoje istnienie, tworzyła liczne organizacje krzewiące polskość oraz rozwój ekonomiczny Polaków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ole tekstowe 2"/>
          <p:cNvSpPr/>
          <p:nvPr/>
        </p:nvSpPr>
        <p:spPr>
          <a:xfrm>
            <a:off x="0" y="1890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Sytuacja Polaków w zaborze austriacki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ole tekstowe 4"/>
          <p:cNvSpPr/>
          <p:nvPr/>
        </p:nvSpPr>
        <p:spPr>
          <a:xfrm>
            <a:off x="576360" y="836640"/>
            <a:ext cx="7991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W porównaniu do pozostałych zaborów, tu sytuacja Polaków była stosunkowo najlepsza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Galicja posiadała własny sejm i rząd krajowy we Lwowie, a język polski był językiem urzędowym. Sprawy dotyczące gospodarki krajowej, komunikacji, szkolnictwa i zdrowia leżały w kompetencjach sejmu. Z tego powodu Galicja była miejscem, gdzie powstało najwięcej polskich organizacji politycznych i kulturalnych, jak również paramilitarnych i konspiracyjnych. Była też schronieniem dla Polaków, którzy uciekali z zaboru rosyjskiego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W Krakowie i Lwowie ukazywała się polska prasa. Kwitło życie kulturalne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i naukowe, a organizowane tu uroczystości patriotyczne (1910 r. ufundowanie przez Ignacego Paderewskiego Pomnika Grunwaldzkiego w Krakowie) miały wielki wpływ na postawy Polaków żyjących pod zaborem rosyjskim i pruskim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ole tekstowe 2"/>
          <p:cNvSpPr/>
          <p:nvPr/>
        </p:nvSpPr>
        <p:spPr>
          <a:xfrm>
            <a:off x="0" y="4492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Koncepcje odbudowy państwowośc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ole tekstowe 4"/>
          <p:cNvSpPr/>
          <p:nvPr/>
        </p:nvSpPr>
        <p:spPr>
          <a:xfrm>
            <a:off x="611280" y="1341360"/>
            <a:ext cx="7993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Diagram 3" descr=""/>
          <p:cNvPicPr/>
          <p:nvPr/>
        </p:nvPicPr>
        <p:blipFill>
          <a:blip r:embed="rId1"/>
          <a:stretch/>
        </p:blipFill>
        <p:spPr>
          <a:xfrm>
            <a:off x="360360" y="841320"/>
            <a:ext cx="8534520" cy="56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ole tekstowe 2"/>
          <p:cNvSpPr/>
          <p:nvPr/>
        </p:nvSpPr>
        <p:spPr>
          <a:xfrm>
            <a:off x="179280" y="18900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700" spc="-1" strike="noStrike">
                <a:solidFill>
                  <a:srgbClr val="000000"/>
                </a:solidFill>
                <a:latin typeface="Arial"/>
              </a:rPr>
              <a:t>Odezwa Józefa Piłsudskiego do legionistów wydana </a:t>
            </a:r>
            <a:br>
              <a:rPr sz="2700"/>
            </a:br>
            <a:r>
              <a:rPr b="1" lang="pl-PL" sz="2700" spc="-1" strike="noStrike">
                <a:solidFill>
                  <a:srgbClr val="000000"/>
                </a:solidFill>
                <a:latin typeface="Arial"/>
              </a:rPr>
              <a:t>w pierwszą rocznicę wybuchu I wojny światowej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Obraz 1" descr=""/>
          <p:cNvPicPr/>
          <p:nvPr/>
        </p:nvPicPr>
        <p:blipFill>
          <a:blip r:embed="rId1"/>
          <a:stretch/>
        </p:blipFill>
        <p:spPr>
          <a:xfrm>
            <a:off x="2340000" y="1268280"/>
            <a:ext cx="4228920" cy="508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1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ole tekstowe 2"/>
          <p:cNvSpPr/>
          <p:nvPr/>
        </p:nvSpPr>
        <p:spPr>
          <a:xfrm>
            <a:off x="0" y="33336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Polskie oddziały wojskowe na frontach </a:t>
            </a:r>
            <a:br>
              <a:rPr sz="2800"/>
            </a:b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I wojny światowej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ole tekstowe 4"/>
          <p:cNvSpPr/>
          <p:nvPr/>
        </p:nvSpPr>
        <p:spPr>
          <a:xfrm>
            <a:off x="611280" y="1413000"/>
            <a:ext cx="799308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ff6600"/>
                </a:solidFill>
                <a:latin typeface="Arial"/>
              </a:rPr>
              <a:t>Legiony Polskie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– utworzone w sierpniu 1914 r. roku przez Naczelny Komitet Narodowy. Składały się z 3 Brygad. Dowodzili nimi m.in. Józef Piłsudski, Józef Haller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i Stanisław Szeptyck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Utworzone na terenie zaboru austriackiego operowały na terenie Królestwa Polskiego. Na bazie legionów powołano: </a:t>
            </a:r>
            <a:r>
              <a:rPr b="1" lang="pl-PL" sz="1600" spc="-1" strike="noStrike">
                <a:solidFill>
                  <a:srgbClr val="ff6600"/>
                </a:solidFill>
                <a:latin typeface="Arial"/>
              </a:rPr>
              <a:t>Polski Korpus Posiłkowy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( wrzesień 1916 r. – luty 1918 r.) oraz </a:t>
            </a:r>
            <a:r>
              <a:rPr b="1" lang="pl-PL" sz="1600" spc="-1" strike="noStrike">
                <a:solidFill>
                  <a:srgbClr val="ff6600"/>
                </a:solidFill>
                <a:latin typeface="Arial"/>
              </a:rPr>
              <a:t>Polską Siłę Zbrojną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(kwiecień 1917 r.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Rectangle 4"/>
          <p:cNvSpPr/>
          <p:nvPr/>
        </p:nvSpPr>
        <p:spPr>
          <a:xfrm>
            <a:off x="684360" y="3933720"/>
            <a:ext cx="79912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ff6600"/>
                </a:solidFill>
                <a:latin typeface="Arial"/>
              </a:rPr>
              <a:t>Legion Puławski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– utworzony jesienią 1914 r. w zaborze rosyjskim z inicjatywy Komitetu Narodowego Polski. Pozostałe oddziały wojskowe działające od 1917 r.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u boku Rosji to </a:t>
            </a:r>
            <a:r>
              <a:rPr b="1" lang="pl-PL" sz="1600" spc="-1" strike="noStrike">
                <a:solidFill>
                  <a:srgbClr val="ff6600"/>
                </a:solidFill>
                <a:latin typeface="Arial"/>
              </a:rPr>
              <a:t>I, II , III Korpus Polski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Text Box 6"/>
          <p:cNvSpPr/>
          <p:nvPr/>
        </p:nvSpPr>
        <p:spPr>
          <a:xfrm>
            <a:off x="826920" y="5545080"/>
            <a:ext cx="770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8"/>
          <p:cNvSpPr/>
          <p:nvPr/>
        </p:nvSpPr>
        <p:spPr>
          <a:xfrm>
            <a:off x="755640" y="5300640"/>
            <a:ext cx="770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ff6600"/>
                </a:solidFill>
                <a:latin typeface="Arial"/>
              </a:rPr>
              <a:t>Armia Błękitna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– Utworzona we Francji w 1917 r. z inicjatywy Romana Dmowskiego</a:t>
            </a:r>
            <a:r>
              <a:rPr b="0" lang="pl-PL" sz="1600" spc="-1" strike="noStrike">
                <a:solidFill>
                  <a:srgbClr val="00206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9T06:37:45Z</dcterms:created>
  <dc:creator>awrobel</dc:creator>
  <dc:description/>
  <dc:language>en-US</dc:language>
  <cp:lastModifiedBy>rena</cp:lastModifiedBy>
  <dcterms:modified xsi:type="dcterms:W3CDTF">2013-04-23T20:01:51Z</dcterms:modified>
  <cp:revision>89</cp:revision>
  <dc:subject/>
  <dc:title>Slajd 1</dc:title>
</cp:coreProperties>
</file>