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463F-68F6-4116-9A60-FC779033D9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2FB1-0B2E-489B-A92D-522769BC28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991-667B-4AAF-B88C-B28BAE4488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765-2D64-4670-B706-28D0C7B1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4D6-2688-4C96-8162-D697AF6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54B-738B-4738-B5D4-94D3D609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703-A029-43A2-BA92-879E57AD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B31D-D71F-4E17-8A12-F0BEC8BF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D472-34A8-44E9-8F8C-DDA09696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BC89-02DC-4327-BF86-723CAD8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C679-DF65-49DD-AA90-BB127D5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11D9-C0CC-427A-B4EF-ABE1748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1D2A-0717-430E-BEDE-5D27173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5F98-BA82-4C51-8A42-CA65F10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2C7-2FAB-4018-BC9A-52361C9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E70-BBC7-469C-9D1C-A710263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90A5-A1AC-4891-9959-CC70A81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7D9-3815-4063-83BB-8D2694D0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1E0-32F7-4932-9A42-1B0127B3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7BA8-7D37-424F-B8E3-8A6AEFB9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136-5738-42DE-A88B-7B297BA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A1C-A5B4-4B0A-9AF4-C9F0AB1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B77-6AE8-47D2-849D-490458DB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CF9-B5EF-4E87-8E05-6CD07BB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39F-EB3E-4330-9B3D-C3AD6E5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6A2-6B90-4425-A431-AAA35B0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B2D-FDD3-488C-9CA6-79FEF32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D084-7216-4C7F-AE1F-4AA83461AAD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3B4B-6267-4FB9-8CD3-D743674BC56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kcj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Różnice w koncepcjach politycznych dotyczących kształtu państwa polskie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112760"/>
          <a:ext cx="8642160" cy="5313600"/>
        </p:xfrm>
        <a:graphic>
          <a:graphicData uri="http://schemas.openxmlformats.org/drawingml/2006/table">
            <a:tbl>
              <a:tblPr/>
              <a:tblGrid>
                <a:gridCol w="4035240"/>
                <a:gridCol w="325440"/>
                <a:gridCol w="428148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ŁSUD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OW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76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do granic przedrozbiorowych na ws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stanie państw stanowiących pas buforowy pomiędzy Rosją a Polsk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na wschodzie do granic poprzedzających III rozbiór oraz maksymalne poszerzenie granic na za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ciwnik wyprawy kijowskiej Piłsudskieg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federalistyczn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rzymanie bliskiej współpracy z mającymi powstać na wschodzie państwami: Białorusią, Ukrainą, Litwą i wytworzenie w ten sposób poziomu równowagi wobec ZSRR i Niemiec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inkorporacyjna. Wchłonięcie terenów o przeważającej liczbie polskich mieszkańców i poprzez wzmocnienie pozycji narodu i państwa spolonizowanie i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844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 wielonarodowe, ukierunkowane na stopniową asymilację narodów zamieszkujących tereny państwa Polskiego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udowanie narodu opartego o polityczne wzorce zachodnie, silnego liczebnie (koło 60 milionów obywateli) jednolitego pod względem kultury, religii, tradycj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ielonarodowy charakter II Rzeczpospolit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1253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ierwszego po odzyskaniu niepodległości spisu powszechnego przeprowadzonego w 1921 r. wynika, że w Polsce mieszkało wówcza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7,2 mln osó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 narodowościowy był następując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lacy – 69,2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kraińcy – 14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Żydzi – 7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iałorusini – 3,9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Niemcy – 3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obywatele pozostałych narodowości – 1,3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niektórych regionach (np. na Polesiu, Wołyniu i w Galicji Wschodniej) to Polacy stanowili mniejszo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pięcia i konfli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395280" y="907920"/>
            <a:ext cx="842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odzona Polska gwarantowała równe prawa bez względu na narodowość i wyznanie, a mniejszości narodowe miały pełne prawa polityczn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pinii mniejszości, Polska troszczyła się jednak tylko o Polaków. Stąd m.in. działania konspiracyjne mniejszości ukraińskiej. Powstała w 1920 r. Ukraińska Organizacja Wojskowa stawiała sobie za cel walkę o niepodległą Ukrainę. Z czasem przekształciła się w Organizację Ukraińskich Nacjonalistów, a jej członkowie dokonywali zamachy zbrojne wymierzone w państwo polskie (m.in. w 1934r. z ich rąk zginął Bronisław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Pierac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minister spraw wewnętrznych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odzyskaniu niepodległości nie zniknęła także niechęć do Żydów, jednak nie miały miejsca takie intensywne prześladowania jak w latach 30. w Niemczech. Polskie władze wspierały ruch syjonistyczny zmierzający do stworzenia państwa żydowskiego na terytorium Palestyn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3"/>
          <p:cNvSpPr/>
          <p:nvPr/>
        </p:nvSpPr>
        <p:spPr>
          <a:xfrm>
            <a:off x="684360" y="119700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Józef Piłsud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źródło: Wikimedia Commons, http://pl.wikipedia.org/wiki/Plik:Pilsudski_1910_1920_LOC_hec_14263_restored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Roman Dmow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http://pl.wikipedia.org/wiki/Plik:Roman_Dmowski_LOC_3c35372u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. Ignacy Paderewsk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Wikimedia Commons, http://pl.wikipedia.org/wiki/Plik:Ignacy_Jan_Paderewsk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576360" y="1125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Józefa Piłsud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Romana Dmo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olityczne Dmowskiego i Piłsudskieg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rakcie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Ignacego Padere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onarodowy charakter II Rzeczpospolit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Pilsudski_1910_1920_LOC_hec_14263_restored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3903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1341360"/>
            <a:ext cx="3384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Działacz socjalistyczny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niepodległościowy;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czelnik Państwa w latach 1918-1922, naczelny wódz Armii Polskiej (od 11 listopada 1918 r.), pierwszy marszałek Polski (od 19 marca1920 r.), dwukrotny premier Polski (1926-1928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1930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Jego zwolennicy nazywali go przydomkami: Komendant, Dziadek i Marszał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Józefa Piłsud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395280" y="852480"/>
            <a:ext cx="8353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lskiej Partii Socjalistycznej reprezentował kierunek niepodległościowy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 widział możliwości współpracy z rewolucjonistami rosyjskim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8 r. utworzył Związek Walki Czynnej, a w 1910 powołał na bazie Związku organizacje o charakterze paramilitarnym: Związek Strzelecki we Lwow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Towarzystwo Strzeleckie w Krakow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ażał, że odzyskanie niepodległości jest możliwe tylko w opozycji do Rosji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go celem minimum było powiększenie autonomicznej Galicji o Królestwo Polsk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następnie wydobycie tych ziem spod panowania Austri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wodził Legionami Polskimi, utworzonymi z organizacji strzeleckich. W listopadzie 1916 r. mianowany został szefem departamentu wojskowego przy Tymczasowej Radzie Stanu. W wyniku kryzysu przysięgowego został w lipcu 1917 r. aresztowany przez Niemców i trafił do więzie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 rok później wrócił do Warszawy i został uznany przez ogół za „męża opatrznościowego”. Rozpoczął tworzenie struktur niepodległego państw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n. 22 listopada 1918 r. rząd powołał go na Tymczasowego Naczelnika Państw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 Dmow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Roman_Dmowski_LOC_3c35372u"/>
          <p:cNvPicPr/>
          <p:nvPr/>
        </p:nvPicPr>
        <p:blipFill>
          <a:blip r:embed="rId1"/>
          <a:stretch/>
        </p:blipFill>
        <p:spPr>
          <a:xfrm>
            <a:off x="684360" y="1484280"/>
            <a:ext cx="316692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643280" y="1628640"/>
            <a:ext cx="331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ityk  i publicysta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nister Spraw Zagranicznych oraz poseł na Sejm Ustawodawczy RP; współzałożyciel Narodowej Demokracji, główny ideolog polskiego nacjonalizmu, zagorzały przeciwni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ózefa Piłsudskiego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Romana Dmow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324000" y="981000"/>
            <a:ext cx="849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5 r. przedstawił projekt kompromisu polsko-rosyjskiego, był bowiem przeciwnikiem przedwczesnych i nierealnych programów powstańczych. Zaczął wówczas głosić hasła antyniemieckie, uważał bowiem, że germanizacja czyni stałe szkody z uwagi 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ższość cywilizacyjną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jego wpływem endecja tymczasowo wycofała się z haseł niepodległościow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antyrosyjskich uznając, że ewentualna współpraca z Rosją jest krokiem na drodze do autonomii dla Królestwa Pol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owiadał się także za nacjonalizmem i solidaryzmem narodowym, na co składały się: oparcie o religię katolicką, antysemityzm (oparty na podłożu ekonomicznym, a nie rasistowskim) oraz pełen liberalizm narodow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wpływem zmieniającego się układu polityczno-militarnego, ukazującego słabość Rosji, w 1916 r. zaczął głosić hasła niepodległości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wiązany z jego inicjatywy w Lozannie Komitet Narodowy Polski miał do czasu porozumienia się Piłsudskiego z endecją (styczeń, 1919 r.) monopol na stosunki Polsk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Entent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Dmowskiego i Piłsud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przełomowych momentach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68360" y="1773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Dmow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związku z klęskami Rosji postawił na wzmocnienie polityczne sprawy polskiej na Zachodzie. Utworzył w Lozannie Polski Komitet Narodowy, przyczynił się do powstania 100-tysięcznej armii we Francji (Błękitna Armia)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ył politycznym przedstawicielem interesów Polski w kontaktach z Entent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iłsud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Chwilowe sukcesy państw centralnych doprowadziły do usztywnienia kursu wobec Polaków i tzw. „kryzysu przysięgowego”. Zmiana nastawienia politycznego państw Centralnych zdopingowała Piłsudski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 legionistów) do odmowy współpracy z Tymczasową Radą Stanu, która wkrótce zakończyła działanie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jej miejsce utworzono Radę Regencyjn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gnacy Paderewski, dyplomata i poli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64080" y="1244520"/>
            <a:ext cx="367200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gnacy Paderewski - kompozytor, pianista, ale także działacz polityczny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 na jego zlecenie rzeźbiar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ntoni Wiwuski wykonał pomnik upamiętniający zwycięstwo Pola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bitwie pod Grunwaldem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mnik został odsłonięty w 1910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, Paderewski wygłosił tam niepodległościowe przemówi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całe wydarzenie obserwowało  ponad 150 tys. osób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Ignacy_Jan_Paderewski"/>
          <p:cNvPicPr/>
          <p:nvPr/>
        </p:nvPicPr>
        <p:blipFill>
          <a:blip r:embed="rId1"/>
          <a:stretch/>
        </p:blipFill>
        <p:spPr>
          <a:xfrm>
            <a:off x="684360" y="1413000"/>
            <a:ext cx="3382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polityczna Paderew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czas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395280" y="1557360"/>
            <a:ext cx="8424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ił szeroko zakrojoną działalność dyplomatyczną na rzecz Polski. m.in. zbierał fundusze dla ofiar wojny i był jednym ze współzałożycieli komitetów pomocy Polakom w Londynie i Paryż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1915 r. Paderewski wyjechał do Stanów Zjednoczonych. Przed każdym swoim występem opowiadał o wymarzonej przez niego niepodległości Pols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tyczniu 1917 r. spotkał się z prezydentem USA, Thomasem Woodrowem Wilsonem, któremu przekazał memoriał na temat Polski. Prawdopodobnie przyczyniło się to do tego, że sprawa niepodległości Polski znalazła si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łynnych 14 punktach Wils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9-08T20:40:58Z</dcterms:modified>
  <cp:revision>89</cp:revision>
  <dc:subject/>
  <dc:title>Slajd 1</dc:title>
</cp:coreProperties>
</file>