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761D-4FEE-4B0D-A4D3-198D8F2357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08EE-F1C4-4214-BC5E-760AD1BA60B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8B77-C0A1-4DCC-B2C2-4E1AD40660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72B5-1486-42B8-9EF7-7674410BA2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6331-B1EC-4FAB-850A-2F890C1066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9471-AD97-4720-B8D8-14B96F56E5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F022-F24A-4D1B-ABA9-254B640215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AE26-0496-4803-BCD0-4DD9304CB5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44DA-1407-44C2-9B56-4CA7D4F811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97D0-6C0D-444A-8DB1-B6C9D85EF0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70E7-8DF3-4F79-89E2-C5DA4A3277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7268-0431-41FC-A587-4122A8C9ED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A5F6-3A99-4515-9C47-3D7772B6EA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D32A-6DB9-4888-BE36-0A6E1AEF7B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0D7-278F-498B-ACDA-861A557B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8FA-C26B-4BCC-90A4-EFB6B4E3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4DF-DB13-4E36-A931-391B4C62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121-5AAE-44B7-8233-F58AF7C8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6E16-0C3D-4E97-B6E0-D45CEBE2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53C4-B530-4005-A950-33755241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0745-6701-4C5F-84CC-655152E1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CF53-15CD-44EF-9013-279FD2DE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6C90-BCDD-429F-ADBA-CD981405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19E7-4779-4AFA-9069-0250CFE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E3DA-CEEA-4E08-8CB2-4004C41E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4A8-30F8-4967-95C4-0B2C1E50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680C-106A-4964-BEDD-297B318A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35EC-0F3E-40E0-969B-DE547887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E074-EF2D-4FC4-B473-2F6571A9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65DD-F6EF-4BEB-9870-D101A8E3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2D40-4A2A-423F-A496-3070265D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37B-92D0-4D95-B26D-87B9F952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433-8F41-432D-B43D-3B35EF31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92B-CDA4-4037-A008-6386BA9B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7F5-5ED1-46F3-AD4E-CBCE5A43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1C4-62C1-4180-AC61-02150E93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E33-0824-4EFB-994F-C123C99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47C-46D6-4E29-9789-409783FA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364F-5292-47C0-8A1D-6E1A34A13FB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9562-0BA5-4375-B964-A714F338875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QL0bXxjqEQ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Antyczni herosi 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http://www.livius.org/a/greece/sparta/sparta_athena_chalkioiokos_leonidas_mus_sparta_jvv5.JPG"/>
          <p:cNvPicPr/>
          <p:nvPr/>
        </p:nvPicPr>
        <p:blipFill>
          <a:blip r:embed="rId1"/>
          <a:stretch/>
        </p:blipFill>
        <p:spPr>
          <a:xfrm>
            <a:off x="2843280" y="1484280"/>
            <a:ext cx="2846160" cy="4465800"/>
          </a:xfrm>
          <a:prstGeom prst="rect">
            <a:avLst/>
          </a:prstGeom>
          <a:ln w="0">
            <a:noFill/>
          </a:ln>
        </p:spPr>
      </p:pic>
      <p:sp>
        <p:nvSpPr>
          <p:cNvPr id="121" name="Prostokąt 1"/>
          <p:cNvSpPr/>
          <p:nvPr/>
        </p:nvSpPr>
        <p:spPr>
          <a:xfrm>
            <a:off x="1763640" y="476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eon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molon-labe"/>
          <p:cNvPicPr/>
          <p:nvPr/>
        </p:nvPicPr>
        <p:blipFill>
          <a:blip r:embed="rId1"/>
          <a:stretch/>
        </p:blipFill>
        <p:spPr>
          <a:xfrm>
            <a:off x="395280" y="2276640"/>
            <a:ext cx="8388360" cy="3001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odź i weź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0" y="1484280"/>
            <a:ext cx="59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Arial"/>
              </a:rPr>
              <a:t>Nazywany „Polskim Leonidasem” kpt. Władysław Raginis bronił odcinka umocnionego „Wizna”z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360 (wg innych źródeł 720) żołnierzami i 9 bunkrami (niedokończonymi) zatrzymał przez trzy dni XIX Korpus Pancerny gen. Heinza Guderiana – razem 42 200 żołnierzy niemieckich, 350 czołgów, 457 dział, wspieranych przez 600 samolotów Luftwaffe. Poległ na posterun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Wladyslaw_Raginis"/>
          <p:cNvPicPr/>
          <p:nvPr/>
        </p:nvPicPr>
        <p:blipFill>
          <a:blip r:embed="rId1"/>
          <a:stretch/>
        </p:blipFill>
        <p:spPr>
          <a:xfrm>
            <a:off x="6300720" y="2060640"/>
            <a:ext cx="226692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pt. Władysław Ragi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pt. Raginis na nowo odkry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95280" y="206064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ocno zapomnianą postać kapitana „odkryli na nowo” szwedzcy muzycy z zespołu Saba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1QL0bXxjqEQ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(dostęp 15.03.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he_Brazen_Serpent"/>
          <p:cNvPicPr/>
          <p:nvPr/>
        </p:nvPicPr>
        <p:blipFill>
          <a:blip r:embed="rId1"/>
          <a:stretch/>
        </p:blipFill>
        <p:spPr>
          <a:xfrm>
            <a:off x="2843280" y="1773360"/>
            <a:ext cx="3244680" cy="4176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11280" y="2133720"/>
            <a:ext cx="194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obrażenie Mojżesza, wyprowadzającego lud z Egiptu, odbierającego przykazania czy chroniącego lud od węży jest bardzo popular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27640" y="2205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ojżesz podnosi miedzianego węża (obraz Benjamina Westa)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ytuł 1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jże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Plik:Polish II Corps (37) - 1946-06-02 - Casarano.jpg"/>
          <p:cNvPicPr/>
          <p:nvPr/>
        </p:nvPicPr>
        <p:blipFill>
          <a:blip r:embed="rId1"/>
          <a:stretch/>
        </p:blipFill>
        <p:spPr>
          <a:xfrm>
            <a:off x="1835280" y="1557360"/>
            <a:ext cx="4895640" cy="3403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457200" y="501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Gen. Władysław Anders podczas inspekcji polskiego liceum w Casarano. Autor zdjęcia: Benedykt Tuszyń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en. Władysław A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udy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aravaggio_judyta_i_holofernes"/>
          <p:cNvPicPr/>
          <p:nvPr/>
        </p:nvPicPr>
        <p:blipFill>
          <a:blip r:embed="rId1"/>
          <a:stretch/>
        </p:blipFill>
        <p:spPr>
          <a:xfrm>
            <a:off x="1619280" y="1197000"/>
            <a:ext cx="5040360" cy="4022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5157720"/>
            <a:ext cx="8229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Caravaggio, Judyta i Holofernes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ile:Muzeum Diecezjalne w Sandomierzu Obrona Trembowli - Anna Dorota Chrzanowska 30.12.2010 p.jpg"/>
          <p:cNvPicPr/>
          <p:nvPr/>
        </p:nvPicPr>
        <p:blipFill>
          <a:blip r:embed="rId1"/>
          <a:stretch/>
        </p:blipFill>
        <p:spPr>
          <a:xfrm>
            <a:off x="395280" y="1052640"/>
            <a:ext cx="2754360" cy="4465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276720" y="3284640"/>
            <a:ext cx="34671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Anna Dorota Chrzanowska podczas obrony Trembowli (1675)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276720" y="1413000"/>
            <a:ext cx="548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Anna Dorota Chrzanowska – polska Judy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Emilia%20Plater%20Amelka%2029"/>
          <p:cNvPicPr/>
          <p:nvPr/>
        </p:nvPicPr>
        <p:blipFill>
          <a:blip r:embed="rId1"/>
          <a:stretch/>
        </p:blipFill>
        <p:spPr>
          <a:xfrm>
            <a:off x="2124000" y="1341360"/>
            <a:ext cx="4602240" cy="4538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250920" y="404640"/>
            <a:ext cx="6418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Emilia Plater  - obraz Jana Rosena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nna_Pustowojt%C3%B3wna"/>
          <p:cNvPicPr/>
          <p:nvPr/>
        </p:nvPicPr>
        <p:blipFill>
          <a:blip r:embed="rId1"/>
          <a:stretch/>
        </p:blipFill>
        <p:spPr>
          <a:xfrm>
            <a:off x="3059280" y="1773360"/>
            <a:ext cx="2592360" cy="417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258920" y="260280"/>
            <a:ext cx="54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na Pustowójtówna, bohaterska bojowniczka powstania styczni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samson-illustration-pulling-down-pillars"/>
          <p:cNvPicPr/>
          <p:nvPr/>
        </p:nvPicPr>
        <p:blipFill>
          <a:blip r:embed="rId1"/>
          <a:stretch/>
        </p:blipFill>
        <p:spPr>
          <a:xfrm>
            <a:off x="3348000" y="1844640"/>
            <a:ext cx="5315040" cy="3800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Biblijny sędzia Samson doprowadzony do rozpaczy zdobył się na poświęcenie, niszcząc pałac Filistynów i ponosząc śmierć pod jego gruzami. Stał się biblijnym wzorem poświęcenia dla kra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am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uliusz Konstanty Ord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Plik:Julian Ordon1.JPG"/>
          <p:cNvPicPr/>
          <p:nvPr/>
        </p:nvPicPr>
        <p:blipFill>
          <a:blip r:embed="rId1"/>
          <a:stretch/>
        </p:blipFill>
        <p:spPr>
          <a:xfrm>
            <a:off x="5754600" y="1557360"/>
            <a:ext cx="2479680" cy="3384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55640" y="1484280"/>
            <a:ext cx="48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ważany za polski synonim Samsona i Hektora, oficer który wysadził w 1831 redutę nr 54, wraz z wkraczającymi do niej żołnierzami rosyjskimi. Adam Mickiewicz poświęcił mu wiersz, w którym Ordon miał polec. Okazało się jednak, że zdołał, mimo obrażeń, przeży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26T13:14:16Z</dcterms:modified>
  <cp:revision>13</cp:revision>
  <dc:subject/>
  <dc:title>Slajd 1</dc:title>
</cp:coreProperties>
</file>