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1F95-7356-4959-95C0-15DD2B8AFE4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FC6E-4A9B-481A-9479-277C4E5824B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15A-087E-4BC6-A11C-C9C8AD5FE5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706-310E-442D-9C98-FE0A66EF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24B-FE01-45CE-8AEE-E7A123A4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B9C-5A0F-4F6D-A64D-F1C55AA4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C4A-B53A-4EF6-B9CB-2E05582A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EAA7-FF1E-4F86-ABB2-0A64C453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22D-E1DB-4B23-A7D6-7285E0CD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4E60-E09A-40AC-98E9-D4A5CF6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3D9-0C60-47BF-8FA8-D8205FC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8313-FF56-48E2-919F-4B6E5BD4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89C4-D6CB-4C78-B4C9-793DC66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8889-ACE8-4228-BD17-FBED44A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688-98B1-4CA2-B80E-95B03DA5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183-5415-400D-8F3D-3F60A35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2FA7-DD10-4BB8-A9A8-6CA67F65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6195-46F5-4E14-859E-D499049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1050-4808-414B-B116-544D6FF2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6FD2-8FD4-409F-AE79-26DF3E4B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95D-5583-4936-8813-2139065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D65-6E33-4864-B036-4894957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559-2EE3-487B-994E-656EC6A6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967-5743-4B64-B88C-B00C9899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0CB-4F2D-49E6-A495-BFB71DF8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780-C678-405D-9552-F4C91D47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005-E6A5-4940-BC60-1C9EB7E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6AE-205A-4794-8BF6-023A3CE506E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11CE-548F-406D-B421-82F54BB7CBB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pl.wikipedia.org/wiki/Plik:Szko&#322;a_Rycerska.jp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naszlubin.pl/historia/868-ziemia-lubiska-zimna-woda.html" TargetMode="External"/><Relationship Id="rId4" Type="http://schemas.openxmlformats.org/officeDocument/2006/relationships/hyperlink" Target="http://pl.wikipedia.org/wiki/Plik:Pozna&#324;_-_KER_1841_PLudu.jpg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pl.wikipedia.org/wiki/Plik:Bar_confederation_flag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pl.wikipedia.org/wiki/Plik:Konfederacja_Barska.jpg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pinakoteka.zascianek.pl/Matejko/Images/Jozef_Szujski.jpg" TargetMode="External"/><Relationship Id="rId4" Type="http://schemas.openxmlformats.org/officeDocument/2006/relationships/hyperlink" Target="http://www.pinakoteka.zascianek.pl/Matejko/Images/Jozef_Szujski.jpg" TargetMode="External"/><Relationship Id="rId5" Type="http://schemas.openxmlformats.org/officeDocument/2006/relationships/hyperlink" Target="http://pl.wikipedia.org/wiki/Plik:Kalinka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audiovis.nac.gov.pl/obraz/97381/3f03769c8d2502910570f5a8903567db/" TargetMode="External"/><Relationship Id="rId8" Type="http://schemas.openxmlformats.org/officeDocument/2006/relationships/hyperlink" Target="http://audiovis.nac.gov.pl/obraz/97381/3f03769c8d2502910570f5a8903567db/" TargetMode="Externa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dobroni.pl/rekonstrukcja-zdjecia,3182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pl.wikipedia.org/wiki/Plik:Stanis&#322;aw_August_Poniatowski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Kto winien upadku Rzeczypospolit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rwsze reformy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prowadzono cło gener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tworzono pierwszy stały budż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ruchomiono mennic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Obraz 3" descr="C:\Users\Bartek\Downloads\Szkoła_Rycerska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95840" cy="24112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4"/>
          <p:cNvSpPr/>
          <p:nvPr/>
        </p:nvSpPr>
        <p:spPr>
          <a:xfrm>
            <a:off x="4880880" y="5805360"/>
            <a:ext cx="30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6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Budynek Szkoły Rycerskiej, malował 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Jan Piotr Norblin de la Gourdai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Szko%C5%82a_Rycers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XVI w. Rzeczypospolita była krajem wolności religij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następnych stuleciach nastąpiło pogorszenie sytuacji innowierc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ostali pozbawieni możliwości zasiadani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sejmie i dostępu do urzęd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aczęli domagać się równouprawni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Symbol zastępczy zawartości 9" descr="C:\Users\Bartek\Downloads\zimna_woda1.jpg"/>
          <p:cNvPicPr/>
          <p:nvPr/>
        </p:nvPicPr>
        <p:blipFill>
          <a:blip r:embed="rId1"/>
          <a:stretch/>
        </p:blipFill>
        <p:spPr>
          <a:xfrm>
            <a:off x="1104840" y="2052720"/>
            <a:ext cx="2743200" cy="362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Bartek\Downloads\190px-Poznań_-_KER_1841_PLudu.jpg"/>
          <p:cNvPicPr/>
          <p:nvPr/>
        </p:nvPicPr>
        <p:blipFill>
          <a:blip r:embed="rId2"/>
          <a:stretch/>
        </p:blipFill>
        <p:spPr>
          <a:xfrm>
            <a:off x="5219640" y="2035080"/>
            <a:ext cx="2881440" cy="363852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13"/>
          <p:cNvSpPr/>
          <p:nvPr/>
        </p:nvSpPr>
        <p:spPr>
          <a:xfrm>
            <a:off x="539640" y="5805360"/>
            <a:ext cx="388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7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Prawosławny kościół parafialny Zaśnięcia Przenajświętszej Bogarodzicy w Zimnej Wodzi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aszlubin.pl/historia/868-ziemia-lubiska-zimna-wod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14"/>
          <p:cNvSpPr/>
          <p:nvPr/>
        </p:nvSpPr>
        <p:spPr>
          <a:xfrm>
            <a:off x="5097600" y="5805360"/>
            <a:ext cx="34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8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Kościół ewangelicki św. Piotra w Poznani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Pozna%C5%84_-_KER_1841_PLudu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prawę dysydentów wykorzystała Rosja i Prusy do ingerencji w wewnętrzne sprawy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sejmie w 1767 r. rosyjski ambasador zażądał równouprawnienia dla dysyden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został zastraszony i przywrócił prawa polityczne oraz swobodę kultu innowier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rawa dysydentów i prawa kardyn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68 r. sejm uchwalił prawa kardyn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8920" indent="-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3"/>
          <p:cNvSpPr/>
          <p:nvPr/>
        </p:nvSpPr>
        <p:spPr>
          <a:xfrm>
            <a:off x="761760" y="2492280"/>
            <a:ext cx="17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liberum v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764640" y="2997360"/>
            <a:ext cx="50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rawo wypowiadania posłuszeństwa królo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6"/>
          <p:cNvSpPr/>
          <p:nvPr/>
        </p:nvSpPr>
        <p:spPr>
          <a:xfrm>
            <a:off x="748800" y="3573360"/>
            <a:ext cx="84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yłączne prawo szlachty do piastowania urzędów i posiadania dóbr ziemsk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769320" y="4076640"/>
            <a:ext cx="36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asada neminem captivabi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onfederacja barska 1768-17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awiązana w Barze (twierdz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czele Józef Pułaski i Michał Krasiń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alki miały charakter partyzan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ielkim echem w Europie odbiła się próba zamachu na króla Stanisława Augusta inspirowana przez Kazimierza Pułaskiego (1771 r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3" descr="C:\Users\Bartek\Downloads\416px-Bar_confederation_flag.JPG"/>
          <p:cNvPicPr/>
          <p:nvPr/>
        </p:nvPicPr>
        <p:blipFill>
          <a:blip r:embed="rId1"/>
          <a:stretch/>
        </p:blipFill>
        <p:spPr>
          <a:xfrm>
            <a:off x="611280" y="549360"/>
            <a:ext cx="2592360" cy="410364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4"/>
          <p:cNvSpPr/>
          <p:nvPr/>
        </p:nvSpPr>
        <p:spPr>
          <a:xfrm>
            <a:off x="637200" y="4724280"/>
            <a:ext cx="301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9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Chorągiew konfederató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Bar_confederation_fla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artek\Downloads\800px-Konfederacja_Barska.jpg"/>
          <p:cNvPicPr/>
          <p:nvPr/>
        </p:nvPicPr>
        <p:blipFill>
          <a:blip r:embed="rId3"/>
          <a:stretch/>
        </p:blipFill>
        <p:spPr>
          <a:xfrm>
            <a:off x="4067280" y="1773360"/>
            <a:ext cx="4690800" cy="285408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6"/>
          <p:cNvSpPr/>
          <p:nvPr/>
        </p:nvSpPr>
        <p:spPr>
          <a:xfrm>
            <a:off x="4090680" y="4653000"/>
            <a:ext cx="28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10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Konfederacja barska, malował Józef Brandt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Konfederacja_Bars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 rozbiór Rzeczypospolitej 17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Uczestnicy: Austria, Rosja i Pru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Ogólne niezadowolenie w Europie z powodu rozbi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Aby uspokoić sytuację w państwach europejskich rozbiór miał zalegalizować sejm pol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formy sejmu porozbior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dniesienie liczby wojska do 30 tys.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(w rzeczywistości do 18,5 t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ie Rady Nieustającej (departamenty: Policji, Wojska, Sprawiedliwości, Skarbu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Interesów Cudzoziemsk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ie do życia Komisji Edukacji Narodowej (177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az 1" descr="Rejtan_Upadek_Polski_Matejko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395280" y="574488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1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ejtan – upadek Polski, malował Jan Matejk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pl.wikipedia.org/wiki/Plik:Rejtan_Upadek_Polski_Matejko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zkoła krakowska vs szkoła warszaw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czątek panowania Stanisława Augu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Dysydenci i prawa kardyn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rozbiór i jego konsekwenc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Wiel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Na drodze do II rozbi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i jego refor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hetma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Franciszek Ksawery Branicki, Seweryn Rzewuski, Szczęsny Potoc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grupował konserwatywną szlachtę, przeciwną  reformom, dążył do obalenia króla przy pomocy Ros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zwolenników kró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dążył do przeprowadzenia reform </a:t>
            </a:r>
            <a:br>
              <a:rPr sz="2000"/>
            </a:b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 kraju za pomocą sojuszu z Rosj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Obóz patrioty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tanisław i Ignacy Potoccy, Adam Kazimierz Czartoryski, Stanisław Małachow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deowym przywódcą był Hugo Kołłąta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chciał przeprowadzić reformy, uniezależnić się od Rosji, proponował sojusz z Prus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Obraz 6" descr="C:\Users\Bartek\Downloads\The_Vote_upon_theConstitution_of_May_3,_1791.PNG"/>
          <p:cNvPicPr/>
          <p:nvPr/>
        </p:nvPicPr>
        <p:blipFill>
          <a:blip r:embed="rId1"/>
          <a:stretch/>
        </p:blipFill>
        <p:spPr>
          <a:xfrm>
            <a:off x="4716360" y="2276640"/>
            <a:ext cx="4070520" cy="280332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7"/>
          <p:cNvSpPr/>
          <p:nvPr/>
        </p:nvSpPr>
        <p:spPr>
          <a:xfrm>
            <a:off x="4591080" y="5157720"/>
            <a:ext cx="455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2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Uchwalenie Konstytucji 3 Maja, malował Kazimierz Wojniak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cyfrowe.mnw.art.pl/dmuseion/docmetadata?id=5327&amp;from=pubindex&amp;dirids=1&amp;lp=238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ytuacja międzynarod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3 r. kolonie brytyjskie uzyskały niepodległ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7 r. uchwalono konstytucję Stanów Zjednoczo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7 r. wybuchła wojna rosyjsko-turec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1789 r. zaczął się ferment rewolucyjny we Fra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Symbol zastępczy zawartości 6" descr="C:\Users\Bartek\Downloads\barek-globus.jpg"/>
          <p:cNvPicPr/>
          <p:nvPr/>
        </p:nvPicPr>
        <p:blipFill>
          <a:blip r:embed="rId1"/>
          <a:stretch/>
        </p:blipFill>
        <p:spPr>
          <a:xfrm>
            <a:off x="4716360" y="1700280"/>
            <a:ext cx="3951360" cy="395136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7"/>
          <p:cNvSpPr/>
          <p:nvPr/>
        </p:nvSpPr>
        <p:spPr>
          <a:xfrm>
            <a:off x="5435640" y="5589720"/>
            <a:ext cx="281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3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Globu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klep.goldlewana.pl/barki/26-barek-globus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Najważniejsze refo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Zwiększenie sił zbrojnych do 100 tys. (w rzeczywistości do 65 tys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ozwiązanie Rady Nieustając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awo o sejmikach (wyłączało z udziału </a:t>
            </a: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 sejmikach szlachtę nieposiadającą ziem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71600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awo o miastach (mieszczanie uzyskali prawo nietykalności osobistej, prawo nabywania dóbr ziemskich, dostęp do urzędów, prawo powoływania samorzą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56000" y="5805000"/>
            <a:ext cx="548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4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May_constitution_pre20th_cent_book_cover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az 9" descr="C:\Users\Bartek\Downloads\May_constitution_pre20th_cent_book_cover.jpg"/>
          <p:cNvPicPr/>
          <p:nvPr/>
        </p:nvPicPr>
        <p:blipFill>
          <a:blip r:embed="rId1"/>
          <a:stretch/>
        </p:blipFill>
        <p:spPr>
          <a:xfrm>
            <a:off x="2916360" y="62064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ytuł 9"/>
          <p:cNvSpPr/>
          <p:nvPr/>
        </p:nvSpPr>
        <p:spPr>
          <a:xfrm>
            <a:off x="468360" y="15573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stytucja 3 m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5"/>
          <p:cNvSpPr/>
          <p:nvPr/>
        </p:nvSpPr>
        <p:spPr>
          <a:xfrm>
            <a:off x="250920" y="285264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imię Boga, w Trójcy Świętej jedynego. Stanisław August z Bożej łaski i woli Narodu Król Polski, Wielki  Książę Litewski, Ruski, Pruski, Mazowiecki, Żmudzki, Kijowski, Wołyński, Podolski, Podlaski, Inflancki, Smoleński, Siewiers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Czernichowski, wraz ze Stanami Skonfederowanymi, w liczbie podwójnej naród polski reprezentujący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ejm Wielki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Tron stawał się dziedziczny w dynastii saski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rganem władzy ustawodawczej był sej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rganem władzy wykonawczej była Straż Pr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niesiono odrębne instytucje centralne na Litwie i w Koro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Zniesiono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liberum v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Szlachcie gołocie odebrano prawa wyborc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Mieszczanom przyznano wolność osobistą oraz prawo sprawowania urzędów i funkcji oficersk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ruszono kwestię „chłopską” – Deklaracja „opieki prawa i rządu krajowego” nad ludem chłopsk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rostokąt 4"/>
          <p:cNvSpPr/>
          <p:nvPr/>
        </p:nvSpPr>
        <p:spPr>
          <a:xfrm>
            <a:off x="2914920" y="1628640"/>
            <a:ext cx="33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stytucja 3 m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zeczpospolita stawała się nowoczesną monarchią konstytucyjn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Obraz 5" descr="C:\Users\Bartek\Downloads\Konstytucja_3_Maja.jpg"/>
          <p:cNvPicPr/>
          <p:nvPr/>
        </p:nvPicPr>
        <p:blipFill>
          <a:blip r:embed="rId1"/>
          <a:stretch/>
        </p:blipFill>
        <p:spPr>
          <a:xfrm>
            <a:off x="2050920" y="2708280"/>
            <a:ext cx="4873680" cy="2859120"/>
          </a:xfrm>
          <a:prstGeom prst="rect">
            <a:avLst/>
          </a:prstGeom>
          <a:ln w="0">
            <a:noFill/>
          </a:ln>
        </p:spPr>
      </p:pic>
      <p:sp>
        <p:nvSpPr>
          <p:cNvPr id="189" name="pole tekstowe 6"/>
          <p:cNvSpPr/>
          <p:nvPr/>
        </p:nvSpPr>
        <p:spPr>
          <a:xfrm>
            <a:off x="2001240" y="5661000"/>
            <a:ext cx="28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5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Konstytucja 3 Maja 1791, malował Jan Matejk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Konstytucja_3_Maj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rzeciwko konstytucji wystąpili przywódcy obozu hetmański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92 r. zawiązano konfederację targowicką przeciwko konstytucji i królo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Targowiczanie poprosili Rosję o pomoc wojskow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nicjator konfederacji targowic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Obraz 3" descr="C:\Users\Bartek\Downloads\432px-Stanisław_Szczęsny_Potocki_by_Jan_Chrzciciel_Lampi_the_Elder.PNG"/>
          <p:cNvPicPr/>
          <p:nvPr/>
        </p:nvPicPr>
        <p:blipFill>
          <a:blip r:embed="rId1"/>
          <a:stretch/>
        </p:blipFill>
        <p:spPr>
          <a:xfrm>
            <a:off x="3059280" y="2205000"/>
            <a:ext cx="2520720" cy="3672000"/>
          </a:xfrm>
          <a:prstGeom prst="rect">
            <a:avLst/>
          </a:prstGeom>
          <a:ln w="0">
            <a:noFill/>
          </a:ln>
        </p:spPr>
      </p:pic>
      <p:sp>
        <p:nvSpPr>
          <p:cNvPr id="195" name="pole tekstowe 4"/>
          <p:cNvSpPr/>
          <p:nvPr/>
        </p:nvSpPr>
        <p:spPr>
          <a:xfrm>
            <a:off x="2014920" y="5950080"/>
            <a:ext cx="537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6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Szczęsny Potocki, malował Jan Chrzciciel Lampi the Eld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Stanis%C5%82aw_Szcz%C4%99sny_Potocki_by_Jan_Chrzciciel_Lampi_the_Elder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Symbol zastępczy zawartości 10" descr="C:\Users\Bartek\Downloads\Kalinka.jpg"/>
          <p:cNvPicPr/>
          <p:nvPr/>
        </p:nvPicPr>
        <p:blipFill>
          <a:blip r:embed="rId1"/>
          <a:stretch/>
        </p:blipFill>
        <p:spPr>
          <a:xfrm>
            <a:off x="5796000" y="148428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1" descr="C:\Users\Bartek\Downloads\Jozef_Szujski.jpg"/>
          <p:cNvPicPr/>
          <p:nvPr/>
        </p:nvPicPr>
        <p:blipFill>
          <a:blip r:embed="rId2"/>
          <a:stretch/>
        </p:blipFill>
        <p:spPr>
          <a:xfrm>
            <a:off x="3276720" y="3213000"/>
            <a:ext cx="2087280" cy="237672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13"/>
          <p:cNvSpPr/>
          <p:nvPr/>
        </p:nvSpPr>
        <p:spPr>
          <a:xfrm>
            <a:off x="3296160" y="5661000"/>
            <a:ext cx="2445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2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Józef Szuj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inakoteka.zascianek.pl/Matejko/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ages/Jozef_Szujsk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14"/>
          <p:cNvSpPr/>
          <p:nvPr/>
        </p:nvSpPr>
        <p:spPr>
          <a:xfrm>
            <a:off x="5886000" y="4149720"/>
            <a:ext cx="229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3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Walerian Kalin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Kalin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az 16" descr="C:\Users\Bartek\Downloads\SM0_1-N-277.jpg"/>
          <p:cNvPicPr/>
          <p:nvPr/>
        </p:nvPicPr>
        <p:blipFill>
          <a:blip r:embed="rId6"/>
          <a:stretch/>
        </p:blipFill>
        <p:spPr>
          <a:xfrm>
            <a:off x="826920" y="1628640"/>
            <a:ext cx="187344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17"/>
          <p:cNvSpPr/>
          <p:nvPr/>
        </p:nvSpPr>
        <p:spPr>
          <a:xfrm>
            <a:off x="842400" y="4076640"/>
            <a:ext cx="2171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a452a"/>
                </a:solidFill>
                <a:latin typeface="Calibri"/>
              </a:rPr>
              <a:t>Rys. 1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Tadeusz Korz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audiovis.nac.gov.pl/obraz/97381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3f03769c8d2502910570f5a8903567db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ojna w obronie konstyt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Austria i Prusy uznały interwencję wojsk rosyjskich w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wycięstwo armii koronnej dowodzonej przez ks. Józefa Poniatowskiego pod Zieleńcami (ustanowienie orderu 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Virtuti Militari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rażka Tadeusza Kościuszki pod Dubien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rzystąpienie króla do Targowicy (synonim zdra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I rozbiór Rzeczypospolit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206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drugim rozbiorze uczestniczyły tylko Rosj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i Pru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Konwencja rozbiorowa została podpisan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Petersburgu w 1793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Sejm w Grodnie zatwierdził rozbiór – był to ostatni sejm w historii I Rzeczypospolit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Obraz 3" descr="C:\Users\Bartek\Downloads\397px-Traktat_rozbiorowy.jpg"/>
          <p:cNvPicPr/>
          <p:nvPr/>
        </p:nvPicPr>
        <p:blipFill>
          <a:blip r:embed="rId1"/>
          <a:stretch/>
        </p:blipFill>
        <p:spPr>
          <a:xfrm>
            <a:off x="2771640" y="549360"/>
            <a:ext cx="3672000" cy="475128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4"/>
          <p:cNvSpPr/>
          <p:nvPr/>
        </p:nvSpPr>
        <p:spPr>
          <a:xfrm>
            <a:off x="2793960" y="5445000"/>
            <a:ext cx="281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7.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Traktat rozbiorowy z 1793 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Traktat_rozbiorowy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2" descr="C:\Users\Bartek\Downloads\Rzeczpospolita_Rozbiory_4.png"/>
          <p:cNvPicPr/>
          <p:nvPr/>
        </p:nvPicPr>
        <p:blipFill>
          <a:blip r:embed="rId1"/>
          <a:stretch/>
        </p:blipFill>
        <p:spPr>
          <a:xfrm>
            <a:off x="900000" y="260280"/>
            <a:ext cx="7704360" cy="5691240"/>
          </a:xfrm>
          <a:prstGeom prst="rect">
            <a:avLst/>
          </a:prstGeom>
          <a:ln w="0">
            <a:noFill/>
          </a:ln>
        </p:spPr>
      </p:pic>
      <p:sp>
        <p:nvSpPr>
          <p:cNvPr id="203" name="pole tekstowe 3"/>
          <p:cNvSpPr/>
          <p:nvPr/>
        </p:nvSpPr>
        <p:spPr>
          <a:xfrm>
            <a:off x="783360" y="6021360"/>
            <a:ext cx="31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18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Rzeczpospolita_Rozbiory_4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da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Dobierzcie się teraz w grupy zwolenników szkoły krakowskiej lub warszawskiej. Na dołączonej karcie znajdziecie materiały, które mogą być przydatne do debaty. Teraz macie 15 minut na przygotowanie </a:t>
            </a:r>
            <a:br>
              <a:rPr sz="3200"/>
            </a:b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i przedyskutowanie waszych argument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635280" y="4508640"/>
            <a:ext cx="17733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M. Markiewicz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Historia Polski 1492-179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Kraków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T. Cegielski, Ł. Kądziela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Rozbiory Polski 1772-1793-179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arszawa 19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Geneza i obalenie Konstytucji 3 Maja. Polityka zagraniczna Rzeczypospolitej 1787-1792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Lublin 198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Ku naprawie Rzeczypospolitej. Konstytucja 3 Maja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arszawa 1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J. Łojek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Dzieje zdrajcy. Szczęsny Potock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Katowice 19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K. Zienkowska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Stanisław August Poniatowsk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, Wrocław 19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E. Rostworowski, </a:t>
            </a:r>
            <a:r>
              <a:rPr b="0" i="1" lang="pl-PL" sz="2000" spc="-1" strike="noStrike">
                <a:solidFill>
                  <a:srgbClr val="4a452a"/>
                </a:solidFill>
                <a:latin typeface="Calibri"/>
              </a:rPr>
              <a:t>Ostatni król Rzeczypospolitej. Geneza i upadek Konstytucji 3 Maja,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arszawa 196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krak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ami Polacy są winni upadkowi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echowali się pychą, brakiem szacunku dla władzy, wywyższaniem się ponad inne nar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Największym winowajcą była szlac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warsza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aństwa ościenne były winne rozpadowi Rzeczypospolit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oces demokratyzacji kraju w XVIII w. został zahamowany przez politykę zaborców i to doprowadziło do katastrofy (III rozbió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pór o politykę w dobie upadku</a:t>
            </a:r>
            <a:br>
              <a:rPr sz="4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krak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czyną rozpadu Rzeczypospolitej była wewnętrzna słabość oraz błędy popełniane przez kolejne pokol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Szkoła warsza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Upadek Rzeczypospolitej był spowodowany czynnikami zewnętrzny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da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Podczas następnej części lekcji postaraj się notować wszystkie argumenty, które są Ci bliższe w sporze o przyczyny upadku. Po skończonym wykładzie, będziesz musiał zająć stanowisko i uargumentować je podczas deba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564000" y="4581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tanisław August Poniatowski 1764-179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1764 r. Stanisław August Poniatowski został wybrany królem Polski. Była to ostatnia wolna elekcja w historii Rzeczypospolit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20080709172429!stanislaw_august_poniatowski.jpg"/>
          <p:cNvPicPr/>
          <p:nvPr/>
        </p:nvPicPr>
        <p:blipFill>
          <a:blip r:embed="rId1"/>
          <a:stretch/>
        </p:blipFill>
        <p:spPr>
          <a:xfrm>
            <a:off x="3564000" y="3213000"/>
            <a:ext cx="1871640" cy="28591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6"/>
          <p:cNvSpPr/>
          <p:nvPr/>
        </p:nvSpPr>
        <p:spPr>
          <a:xfrm>
            <a:off x="3509640" y="6119640"/>
            <a:ext cx="26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4.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August Poniat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broni.pl/rekonstrukcja-zdjecia,318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ól rozpoczął próbę reformy kra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Bartek\Downloads\200px-Stanisław_August_Poniatowski.jpg"/>
          <p:cNvPicPr/>
          <p:nvPr/>
        </p:nvPicPr>
        <p:blipFill>
          <a:blip r:embed="rId1"/>
          <a:stretch/>
        </p:blipFill>
        <p:spPr>
          <a:xfrm>
            <a:off x="3132000" y="1844640"/>
            <a:ext cx="3322800" cy="367200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6"/>
          <p:cNvSpPr/>
          <p:nvPr/>
        </p:nvSpPr>
        <p:spPr>
          <a:xfrm>
            <a:off x="3156120" y="5589720"/>
            <a:ext cx="36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Rys. 5. T0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Stanisław August Poniatowsk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Stanis%C5%82aw_August_Poniatowsk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ierwsz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for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Powołano gabinet, który zajmował się dyplomacją i wojsk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prowadzono „konferencję króla </a:t>
            </a:r>
            <a:br>
              <a:rPr sz="3200"/>
            </a:b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z ministrami” – posiedzenia rady ministr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Dokonano lustracji królewszczyz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Otworzono Szkołę Rycers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02T15:34:03Z</dcterms:modified>
  <cp:revision>112</cp:revision>
  <dc:subject/>
  <dc:title>Slajd 1</dc:title>
</cp:coreProperties>
</file>