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F9A1-9420-4F57-968C-4C5B71A68B3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A187-98EE-4789-BCC7-52D1DACBACD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ABAB-5F2B-44B9-BE54-C4A54A18056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29B0-1348-4F18-8ABC-682DF82C856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0DEF-9D36-487E-9B98-C062A72AB52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0718-6C37-4866-A17B-93DD11FBA27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5A5D-5D0B-43C9-942C-147A62CFD4A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8E5-F9CA-4CBC-BABE-B38018FE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7ED7-DB7C-4769-A147-70EA5AB7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8E01-C8CF-4285-B14D-0424ACDB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2EA-3F18-470B-853E-8EDAABA0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0FBA-C7E4-41A3-B648-FFBA3F7F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1234-6AFE-4227-BFCA-FEF78613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B7C0-8AAC-4B97-BC6B-49D4711E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DB44-5020-4576-AE15-FD842C3F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0627-4BA3-4949-973B-6546D8E8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3201-23AE-4658-97C5-BD6799CD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40F2-4D3B-4DFC-B156-5B886B64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2D1E-306B-41D1-9C84-D1813FC7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BE32-3F2D-4798-9A3A-A2EAAEF2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B0AD-2304-4894-8CCF-CF21444F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A92C-F0D2-4049-86BC-BB4741E7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5A61-0C9F-4402-AE4C-042500DB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0AED-9AB9-4F2E-90DE-11F13CFE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136-F318-496A-9B38-8F6683AB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351-FED2-404D-AACE-83FB31B5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FCF4-5E73-4302-886A-0DF89AD9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2526-FEBF-434A-AE30-1060196E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501E-6828-4C94-86E7-EB401B52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E2C3-4863-4EC2-AC3D-F104F2FD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920-DF71-4790-876E-B77F9233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C445-AEC2-4C02-83EB-C3BB9C0E65A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F15C-B422-49B1-BE3C-8E3361A8788F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QL0bXxjqEQ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Antyczni herosi 1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69236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eor Kordecki, polski Hekt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braz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Januarego Suchodolskiego, </a:t>
            </a:r>
            <a:r>
              <a:rPr b="1" i="1" lang="pl-PL" sz="3200" spc="-1" strike="noStrike">
                <a:solidFill>
                  <a:srgbClr val="000000"/>
                </a:solidFill>
                <a:latin typeface="Calibri"/>
              </a:rPr>
              <a:t>Obrona Jasnej Góry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1190129371"/>
          <p:cNvPicPr/>
          <p:nvPr/>
        </p:nvPicPr>
        <p:blipFill>
          <a:blip r:embed="rId1"/>
          <a:stretch/>
        </p:blipFill>
        <p:spPr>
          <a:xfrm>
            <a:off x="3348000" y="1574640"/>
            <a:ext cx="527832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uliusz Konstanty Ord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Plik:Julian Ordon1.JPG"/>
          <p:cNvPicPr/>
          <p:nvPr/>
        </p:nvPicPr>
        <p:blipFill>
          <a:blip r:embed="rId1"/>
          <a:stretch/>
        </p:blipFill>
        <p:spPr>
          <a:xfrm>
            <a:off x="5754600" y="1557360"/>
            <a:ext cx="2479680" cy="3384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755640" y="1484280"/>
            <a:ext cx="482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Uważany za polski synonim Samsona i Hektora, oficer który wysadził w 1831 redutę nr 54, wraz z wkraczającymi do niej żołnierzami rosyjskimi. Adam Mickiewicz poświęcił mu wiersz, w którym Ordon miał polec. Okazało się jednak, że zdołał, mimo obrażeń, przeży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http://www.livius.org/a/greece/sparta/sparta_athena_chalkioiokos_leonidas_mus_sparta_jvv5.JPG"/>
          <p:cNvPicPr/>
          <p:nvPr/>
        </p:nvPicPr>
        <p:blipFill>
          <a:blip r:embed="rId1"/>
          <a:stretch/>
        </p:blipFill>
        <p:spPr>
          <a:xfrm>
            <a:off x="2843280" y="1484280"/>
            <a:ext cx="2846160" cy="4465800"/>
          </a:xfrm>
          <a:prstGeom prst="rect">
            <a:avLst/>
          </a:prstGeom>
          <a:ln w="0">
            <a:noFill/>
          </a:ln>
        </p:spPr>
      </p:pic>
      <p:sp>
        <p:nvSpPr>
          <p:cNvPr id="123" name="Prostokąt 1"/>
          <p:cNvSpPr/>
          <p:nvPr/>
        </p:nvSpPr>
        <p:spPr>
          <a:xfrm>
            <a:off x="1763640" y="4762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Leoni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molon-labe"/>
          <p:cNvPicPr/>
          <p:nvPr/>
        </p:nvPicPr>
        <p:blipFill>
          <a:blip r:embed="rId1"/>
          <a:stretch/>
        </p:blipFill>
        <p:spPr>
          <a:xfrm>
            <a:off x="395280" y="2276640"/>
            <a:ext cx="8388360" cy="30016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457200" y="274680"/>
            <a:ext cx="62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Chodź i weź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0" y="1484280"/>
            <a:ext cx="5915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Arial"/>
              </a:rPr>
              <a:t>Nazywany „Polskim Leonidasem” kpt. Władysław Raginis bronił odcinka umocnionego „Wizna”z 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360 (wg innych źródeł 720) żołnierzami i 9 bunkrami (niedokończonymi) zatrzymał przez trzy dni XIX Korpus Pancerny gen. Heinza Guderiana – razem 42 200 żołnierzy niemieckich, 350 czołgów, 457 dział, wspieranych przez 600 samolotów Luftwaffe. Poległ na posterun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Wladyslaw_Raginis"/>
          <p:cNvPicPr/>
          <p:nvPr/>
        </p:nvPicPr>
        <p:blipFill>
          <a:blip r:embed="rId1"/>
          <a:stretch/>
        </p:blipFill>
        <p:spPr>
          <a:xfrm>
            <a:off x="6300720" y="2060640"/>
            <a:ext cx="2266920" cy="3085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pt. Władysław Ragin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pt. Raginis na nowo odkry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95280" y="2060640"/>
            <a:ext cx="8229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Mocno zapomnianą postać kapitana „odkryli na nowo” szwedzcy muzycy z zespołu Sabat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1QL0bXxjqEQ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 (dostęp 15.03.20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Hektor – obrońca Ojczyz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324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obrażenie Hektora, żegnającego się z Andromachą i synem powtarza się wielokrotnie w Europejskiej sztuce. W Rzeczypospolitej występuje jako figura literacka oraz przetworzony cytat w dziełach sztu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7" descr="Hector%20et%20Andromache"/>
          <p:cNvPicPr/>
          <p:nvPr/>
        </p:nvPicPr>
        <p:blipFill>
          <a:blip r:embed="rId1"/>
          <a:stretch/>
        </p:blipFill>
        <p:spPr>
          <a:xfrm>
            <a:off x="3708360" y="1341360"/>
            <a:ext cx="50040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Artur Grottger, </a:t>
            </a:r>
            <a:r>
              <a:rPr b="0" i="1" lang="pl-PL" sz="4000" spc="-1" strike="noStrike">
                <a:solidFill>
                  <a:srgbClr val="000000"/>
                </a:solidFill>
                <a:latin typeface="Calibri"/>
              </a:rPr>
              <a:t>Wojna cz.4, Pożegnan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Wojna04"/>
          <p:cNvPicPr/>
          <p:nvPr/>
        </p:nvPicPr>
        <p:blipFill>
          <a:blip r:embed="rId1"/>
          <a:stretch/>
        </p:blipFill>
        <p:spPr>
          <a:xfrm>
            <a:off x="1763640" y="1700280"/>
            <a:ext cx="521964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Hektor żegna Andromach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http://feyd.rautha.free.fr/Myth/Hector%20adieu.jpg"/>
          <p:cNvPicPr/>
          <p:nvPr/>
        </p:nvPicPr>
        <p:blipFill>
          <a:blip r:embed="rId1"/>
          <a:stretch/>
        </p:blipFill>
        <p:spPr>
          <a:xfrm>
            <a:off x="2987640" y="1557360"/>
            <a:ext cx="3270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Józef Simmler, </a:t>
            </a:r>
            <a:r>
              <a:rPr b="0" i="1" lang="pl-PL" sz="4000" spc="-1" strike="noStrike">
                <a:solidFill>
                  <a:srgbClr val="000000"/>
                </a:solidFill>
                <a:latin typeface="Calibri"/>
              </a:rPr>
              <a:t>Pożegnanie Wacława z Mari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Pozegnanie"/>
          <p:cNvPicPr/>
          <p:nvPr/>
        </p:nvPicPr>
        <p:blipFill>
          <a:blip r:embed="rId1"/>
          <a:stretch/>
        </p:blipFill>
        <p:spPr>
          <a:xfrm>
            <a:off x="1763640" y="2093760"/>
            <a:ext cx="532944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Hektor upomina Pary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Hector%20et%20Paris%2001"/>
          <p:cNvPicPr/>
          <p:nvPr/>
        </p:nvPicPr>
        <p:blipFill>
          <a:blip r:embed="rId1"/>
          <a:stretch/>
        </p:blipFill>
        <p:spPr>
          <a:xfrm>
            <a:off x="1768320" y="1600200"/>
            <a:ext cx="525168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Hektor walczy z Achilles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Achilles+fighting+Hector"/>
          <p:cNvPicPr/>
          <p:nvPr/>
        </p:nvPicPr>
        <p:blipFill>
          <a:blip r:embed="rId1"/>
          <a:stretch/>
        </p:blipFill>
        <p:spPr>
          <a:xfrm>
            <a:off x="3348000" y="1852560"/>
            <a:ext cx="5148360" cy="3624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611280" y="1628640"/>
            <a:ext cx="216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ragiczna walka Hektora, który podjął wyzwanie, widząc jedynie cień szansy. Już w starożytności przedstawiana była wielokrotnie w sztu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alka Hektora z Achilles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Achille%20et%20Hector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Śmierć Hekt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51280" y="2421000"/>
            <a:ext cx="30351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braz Jean-Baptist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eshays 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Ciało Hektora nad brzegiem rzeki Xan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Jean-Baptiste_Deshays_-_Hector_Exposed_on_the_Banks_of_the_Xanthus_River_-_WGA06310"/>
          <p:cNvPicPr/>
          <p:nvPr/>
        </p:nvPicPr>
        <p:blipFill>
          <a:blip r:embed="rId1"/>
          <a:stretch/>
        </p:blipFill>
        <p:spPr>
          <a:xfrm>
            <a:off x="826920" y="1197000"/>
            <a:ext cx="35006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6T19:34:09Z</dcterms:modified>
  <cp:revision>13</cp:revision>
  <dc:subject/>
  <dc:title>Slajd 1</dc:title>
</cp:coreProperties>
</file>