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A6C39-7C18-47AF-A76F-7E7B2D2F0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8F099-7EF5-419F-AD58-B6EC4D0A1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899B7-79F6-4AE8-AEB8-070F52D3F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E0F1F-7ADF-4561-9A1B-05175F0CE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2F16D4-52BB-4F62-A3E2-354A0C9572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985EB-8E88-4DFE-9425-2D108D404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DEC60-0957-450D-9200-DD561A30C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8227C-82A6-4453-86A9-001537B20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63136-702C-4167-B815-CD5013E67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29742-9DEA-4AFB-B98A-0C2B10683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3DB62-EB41-4C24-BFB6-C3EE2DA96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D9118-DA1B-4FB5-9E9B-ED20B0014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38DCC-E550-4AF3-A87A-DB516A626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81CB9-C574-49C9-B0A7-08D6A81E3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FA9DD-8724-49B0-9618-BC7487B18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81C5B4-A303-4A0E-B80A-02247623DE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C37895-9488-4448-8201-3434E7EB27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75930-D7D3-46C2-93DE-461D5343F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14248-80CA-46BA-8299-374A0E0B9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1A973-C52B-4980-B49A-5FADBC2B9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40CDB-64EF-48D4-AD52-52E80423C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0654C-E96C-4337-8D79-BF46D0119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36E21-8DE4-403F-8E32-9C9E745AA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5497C-CD19-4BAD-B30B-CFEE93DF4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EF782-DEE4-4589-8C8F-C805C167A2F2}"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B6F05-2DD0-4EEE-B41A-AF4281CF0163}"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Wielka Emigracja </a:t>
            </a:r>
            <a:endParaRPr b="0" lang="en-US" sz="4400" spc="-1" strike="noStrike">
              <a:solidFill>
                <a:srgbClr val="000000"/>
              </a:solidFill>
              <a:latin typeface="Calibri"/>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898989"/>
                </a:solidFill>
                <a:latin typeface="Calibri"/>
              </a:rPr>
              <a:t>Sylwia Farac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Wielka Emigracja </a:t>
            </a:r>
            <a:endParaRPr b="0" lang="en-US" sz="4400" spc="-1" strike="noStrike">
              <a:solidFill>
                <a:srgbClr val="000000"/>
              </a:solidFill>
              <a:latin typeface="Calibri"/>
            </a:endParaRPr>
          </a:p>
        </p:txBody>
      </p:sp>
      <p:sp>
        <p:nvSpPr>
          <p:cNvPr id="91" name="pole tekstowe 5"/>
          <p:cNvSpPr/>
          <p:nvPr/>
        </p:nvSpPr>
        <p:spPr>
          <a:xfrm>
            <a:off x="642960" y="2357280"/>
            <a:ext cx="771516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emigracja polityczna Polaków po upadku Powstania Listopadowego. Objęła około 10 tys. osób., głównie przywódcy powstania, oficerowie, przedstawiciele inteligencji, politycy, literaci. Największa część Polaków wyjechała do Francji, część do Anglii, Hiszpanii, Turcji, USA. Najważniejsze ugrupowania Wielkiej Emigracji to: Hotel Lambert, Komitet Narodowy Polski, Towarzystwo Demokratyczne Polskie oraz Gromady Ludu Polskieg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2876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Hotel Lambert</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Calibri"/>
              </a:rPr>
              <a:t>ugrupowanie założone w 1831 r.</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Calibri"/>
              </a:rPr>
              <a:t>przywódca Adam Jerzy Czartoryski;</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Calibri"/>
              </a:rPr>
              <a:t>charakter konserwatywny;</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Calibri"/>
              </a:rPr>
              <a:t>Polska może odzyskać niepodległość tylko w wyniku wojny mocarstwami, dlatego prowadzili zabiegi dyplomatyczne w celu uzyskania poparcia Francji i Anglii;</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Calibri"/>
              </a:rPr>
              <a:t>ustrój  przyszłej Polski to monarchia konstytucyjna, wzorowana na Konstytucji 3 Maja;</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Calibri"/>
              </a:rPr>
              <a:t>uwłaszczenie chłopów za odszkodowaniem dla szlachty.</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File:Hôtel Lambert.jpg"/>
          <p:cNvPicPr/>
          <p:nvPr/>
        </p:nvPicPr>
        <p:blipFill>
          <a:blip r:embed="rId1"/>
          <a:stretch/>
        </p:blipFill>
        <p:spPr>
          <a:xfrm>
            <a:off x="285840" y="1357200"/>
            <a:ext cx="5048280" cy="3786480"/>
          </a:xfrm>
          <a:prstGeom prst="rect">
            <a:avLst/>
          </a:prstGeom>
          <a:ln w="0">
            <a:noFill/>
          </a:ln>
        </p:spPr>
      </p:pic>
      <p:sp>
        <p:nvSpPr>
          <p:cNvPr id="95" name="Prostokąt 4"/>
          <p:cNvSpPr/>
          <p:nvPr/>
        </p:nvSpPr>
        <p:spPr>
          <a:xfrm>
            <a:off x="214200" y="5214960"/>
            <a:ext cx="3429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Źródło: http://fr.wikipedia.org/wiki/H%C3%B4tel_Lambert</a:t>
            </a:r>
            <a:endParaRPr b="0" lang="en-US" sz="1000" spc="-1" strike="noStrike">
              <a:solidFill>
                <a:srgbClr val="000000"/>
              </a:solidFill>
              <a:latin typeface="Calibri"/>
            </a:endParaRPr>
          </a:p>
        </p:txBody>
      </p:sp>
      <p:pic>
        <p:nvPicPr>
          <p:cNvPr id="96" name="Picture 4" descr="Plik:Adam Jerzy Czartoryski by Felix Nadar.PNG"/>
          <p:cNvPicPr/>
          <p:nvPr/>
        </p:nvPicPr>
        <p:blipFill>
          <a:blip r:embed="rId2"/>
          <a:stretch/>
        </p:blipFill>
        <p:spPr>
          <a:xfrm>
            <a:off x="5786280" y="1333440"/>
            <a:ext cx="2786400" cy="3810240"/>
          </a:xfrm>
          <a:prstGeom prst="rect">
            <a:avLst/>
          </a:prstGeom>
          <a:ln w="0">
            <a:noFill/>
          </a:ln>
        </p:spPr>
      </p:pic>
      <p:sp>
        <p:nvSpPr>
          <p:cNvPr id="97" name="Prostokąt 8"/>
          <p:cNvSpPr/>
          <p:nvPr/>
        </p:nvSpPr>
        <p:spPr>
          <a:xfrm>
            <a:off x="5572080" y="5214960"/>
            <a:ext cx="3571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Źródło: http://pl.wikipedia.org/wiki/Adam_Jerzy_Czartoryski</a:t>
            </a:r>
            <a:endParaRPr b="0" lang="en-US" sz="1000" spc="-1" strike="noStrike">
              <a:solidFill>
                <a:srgbClr val="000000"/>
              </a:solidFill>
              <a:latin typeface="Calibri"/>
            </a:endParaRPr>
          </a:p>
        </p:txBody>
      </p:sp>
      <p:sp>
        <p:nvSpPr>
          <p:cNvPr id="98" name="Prostokąt 9"/>
          <p:cNvSpPr/>
          <p:nvPr/>
        </p:nvSpPr>
        <p:spPr>
          <a:xfrm>
            <a:off x="357120" y="78588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Hotel Lambert w Paryżu</a:t>
            </a:r>
            <a:endParaRPr b="0" lang="en-US" sz="1400" spc="-1" strike="noStrike">
              <a:solidFill>
                <a:srgbClr val="000000"/>
              </a:solidFill>
              <a:latin typeface="Calibri"/>
            </a:endParaRPr>
          </a:p>
        </p:txBody>
      </p:sp>
      <p:sp>
        <p:nvSpPr>
          <p:cNvPr id="99" name="Prostokąt 10"/>
          <p:cNvSpPr/>
          <p:nvPr/>
        </p:nvSpPr>
        <p:spPr>
          <a:xfrm>
            <a:off x="5715000" y="78588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Ks. Adam Jerzy Czartoryski</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571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Komitet Narodowy Polski</a:t>
            </a:r>
            <a:endParaRPr b="0" lang="en-US" sz="4400" spc="-1" strike="noStrike">
              <a:solidFill>
                <a:srgbClr val="000000"/>
              </a:solidFill>
              <a:latin typeface="Calibri"/>
            </a:endParaRPr>
          </a:p>
        </p:txBody>
      </p:sp>
      <p:sp>
        <p:nvSpPr>
          <p:cNvPr id="101" name=""/>
          <p:cNvSpPr txBox="1"/>
          <p:nvPr/>
        </p:nvSpPr>
        <p:spPr>
          <a:xfrm>
            <a:off x="285480" y="1928880"/>
            <a:ext cx="7829640" cy="4186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owstał w 1831 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rzywódca Joachim Lelewe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charakter demokratyczn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dzyskanie niepodległości w wyniku trójzaborowego powstani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republikański ustrój przyszłej Polsk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onieczność zniesienia pańszczyzny i uwłaszczenia chłopów za odszkodowani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2" name="Picture 5" descr="Plik:Joachim Lelewel q.PNG"/>
          <p:cNvPicPr/>
          <p:nvPr/>
        </p:nvPicPr>
        <p:blipFill>
          <a:blip r:embed="rId1"/>
          <a:stretch/>
        </p:blipFill>
        <p:spPr>
          <a:xfrm>
            <a:off x="6715080" y="714240"/>
            <a:ext cx="2238480" cy="2583000"/>
          </a:xfrm>
          <a:prstGeom prst="rect">
            <a:avLst/>
          </a:prstGeom>
          <a:ln w="0">
            <a:noFill/>
          </a:ln>
        </p:spPr>
      </p:pic>
      <p:sp>
        <p:nvSpPr>
          <p:cNvPr id="103" name="Prostokąt 4"/>
          <p:cNvSpPr/>
          <p:nvPr/>
        </p:nvSpPr>
        <p:spPr>
          <a:xfrm>
            <a:off x="6786720" y="357120"/>
            <a:ext cx="2643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Joachim Lelewel</a:t>
            </a:r>
            <a:endParaRPr b="0" lang="en-US" sz="1400" spc="-1" strike="noStrike">
              <a:solidFill>
                <a:srgbClr val="000000"/>
              </a:solidFill>
              <a:latin typeface="Calibri"/>
            </a:endParaRPr>
          </a:p>
        </p:txBody>
      </p:sp>
      <p:sp>
        <p:nvSpPr>
          <p:cNvPr id="104" name="Prostokąt 5"/>
          <p:cNvSpPr/>
          <p:nvPr/>
        </p:nvSpPr>
        <p:spPr>
          <a:xfrm>
            <a:off x="6715080" y="3286080"/>
            <a:ext cx="2428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Calibri"/>
              </a:rPr>
              <a:t>http://</a:t>
            </a:r>
            <a:r>
              <a:rPr b="0" lang="pl-PL" sz="800" spc="-1" strike="noStrike">
                <a:solidFill>
                  <a:srgbClr val="000000"/>
                </a:solidFill>
                <a:latin typeface="Calibri"/>
              </a:rPr>
              <a:t>pl.wikipedia.org/wiki/Joachim_Lelewel</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292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Calibri"/>
              </a:rPr>
              <a:t>Towarzystwo Demokratyczne Polskie</a:t>
            </a:r>
            <a:endParaRPr b="0" lang="en-US" sz="4000" spc="-1" strike="noStrike">
              <a:solidFill>
                <a:srgbClr val="000000"/>
              </a:solidFill>
              <a:latin typeface="Calibri"/>
            </a:endParaRPr>
          </a:p>
        </p:txBody>
      </p:sp>
      <p:sp>
        <p:nvSpPr>
          <p:cNvPr id="106" name=""/>
          <p:cNvSpPr txBox="1"/>
          <p:nvPr/>
        </p:nvSpPr>
        <p:spPr>
          <a:xfrm>
            <a:off x="357120" y="1357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powstało w 1832 r. w wyniku odejścia części działaczy od KNP;</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przywódcy: Tadeusz Krępowiecki i Wiktor Heltma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charakter demokratyczny;</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program ogłoszono w Wielkim Manifeści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niepodległość Polacy mogą uzyskać                                     w wyniku powstania kierowanego przez szlachtę;</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przyszła Polska republiką;</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uwłaszczenie chłopów, ale i również                   zachowanie własności przez szlachtę.</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07" name="Picture 2" descr="Wiktor Heltman"/>
          <p:cNvPicPr/>
          <p:nvPr/>
        </p:nvPicPr>
        <p:blipFill>
          <a:blip r:embed="rId1"/>
          <a:srcRect l="0" t="0" r="9848" b="13336"/>
          <a:stretch/>
        </p:blipFill>
        <p:spPr>
          <a:xfrm>
            <a:off x="7358040" y="4500720"/>
            <a:ext cx="1357200" cy="1857240"/>
          </a:xfrm>
          <a:prstGeom prst="rect">
            <a:avLst/>
          </a:prstGeom>
          <a:ln w="0">
            <a:noFill/>
          </a:ln>
        </p:spPr>
      </p:pic>
      <p:sp>
        <p:nvSpPr>
          <p:cNvPr id="108" name="Prostokąt 4"/>
          <p:cNvSpPr/>
          <p:nvPr/>
        </p:nvSpPr>
        <p:spPr>
          <a:xfrm>
            <a:off x="7286760" y="4214880"/>
            <a:ext cx="2643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Wiktor Heltman</a:t>
            </a:r>
            <a:endParaRPr b="0" lang="en-US" sz="1400" spc="-1" strike="noStrike">
              <a:solidFill>
                <a:srgbClr val="000000"/>
              </a:solidFill>
              <a:latin typeface="Calibri"/>
            </a:endParaRPr>
          </a:p>
        </p:txBody>
      </p:sp>
      <p:sp>
        <p:nvSpPr>
          <p:cNvPr id="109" name="Prostokąt 5"/>
          <p:cNvSpPr/>
          <p:nvPr/>
        </p:nvSpPr>
        <p:spPr>
          <a:xfrm>
            <a:off x="7286760" y="6357960"/>
            <a:ext cx="1643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http://encyklopedia.interia.pl</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Gromady Ludu Polskiego</a:t>
            </a:r>
            <a:endParaRPr b="0" lang="en-US" sz="4400" spc="-1" strike="noStrike">
              <a:solidFill>
                <a:srgbClr val="000000"/>
              </a:solidFill>
              <a:latin typeface="Calibri"/>
            </a:endParaRPr>
          </a:p>
        </p:txBody>
      </p:sp>
      <p:sp>
        <p:nvSpPr>
          <p:cNvPr id="111" name=""/>
          <p:cNvSpPr txBox="1"/>
          <p:nvPr/>
        </p:nvSpPr>
        <p:spPr>
          <a:xfrm>
            <a:off x="357120" y="1428480"/>
            <a:ext cx="8043840" cy="4329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powstały w 1835 r. w Wielkiej Brytani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ugrupowanie radykaln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przedstawiciele: Tadeusz Krępowiecki, Stanisław Worcel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odzyskanie niepodległości w wyniku powstania ludowego, połączonego z rewolucją o charakterze społeczny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ustrój: rządy ludu, republika ludow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wprowadzenie wspólnej własnośc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2" name="Picture 5" descr="Stanisław Gabriel Worcell"/>
          <p:cNvPicPr/>
          <p:nvPr/>
        </p:nvPicPr>
        <p:blipFill>
          <a:blip r:embed="rId1"/>
          <a:stretch/>
        </p:blipFill>
        <p:spPr>
          <a:xfrm>
            <a:off x="7286760" y="4572000"/>
            <a:ext cx="1466640" cy="1857240"/>
          </a:xfrm>
          <a:prstGeom prst="rect">
            <a:avLst/>
          </a:prstGeom>
          <a:ln w="0">
            <a:noFill/>
          </a:ln>
        </p:spPr>
      </p:pic>
      <p:sp>
        <p:nvSpPr>
          <p:cNvPr id="113" name="Prostokąt 4"/>
          <p:cNvSpPr/>
          <p:nvPr/>
        </p:nvSpPr>
        <p:spPr>
          <a:xfrm>
            <a:off x="7215120" y="4286160"/>
            <a:ext cx="2643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Stanisław Worcell</a:t>
            </a:r>
            <a:endParaRPr b="0" lang="en-US" sz="1400" spc="-1" strike="noStrike">
              <a:solidFill>
                <a:srgbClr val="000000"/>
              </a:solidFill>
              <a:latin typeface="Calibri"/>
            </a:endParaRPr>
          </a:p>
        </p:txBody>
      </p:sp>
      <p:sp>
        <p:nvSpPr>
          <p:cNvPr id="114" name="Prostokąt 6"/>
          <p:cNvSpPr/>
          <p:nvPr/>
        </p:nvSpPr>
        <p:spPr>
          <a:xfrm>
            <a:off x="7286760" y="6429240"/>
            <a:ext cx="1643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http://encyklopedia.interia.pl</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iwona</cp:lastModifiedBy>
  <dcterms:modified xsi:type="dcterms:W3CDTF">2013-08-27T11:12:44Z</dcterms:modified>
  <cp:revision>9</cp:revision>
  <dc:subject/>
  <dc:title>Slajd 1</dc:title>
</cp:coreProperties>
</file>