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773C-69B4-4194-A9B9-EBC646ADDD0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F282-D825-4C9D-BA26-FDC29ADC2E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A634-5DA7-4DD2-8851-497E7024E5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F054-90A5-459E-B8EB-C783FA3074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00D0-485C-4694-A59C-A79FE27B64A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7D72-810F-4C20-90AD-71521ED657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2658-4096-475C-AD73-4397185CCFC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9FC0-03EE-45FB-9B36-BA61D85FA21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476A-C20F-447E-8AEF-B5EAD252DA6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C788-52BD-4F94-9A31-21458AF00AA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80D1-4097-4762-A454-03F1F899CE2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6C98-25AF-4D44-86A1-D641949D240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1B5E-8D28-4FFD-903C-25B0B97DC59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E51E-43FF-48DF-B3F9-B71C1508AA8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5B11-3C3F-4B6C-AC13-D874D0CC9D9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4FB1-4C33-42F2-9392-53368F7E3CD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354A-5070-4D47-9347-348DF32FD04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E3A-9734-48E6-87BD-204B4133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9D8-4EE3-4218-8C86-58C24FFE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249-D42F-4CDC-BD75-71AAA885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AB7-FF7B-4884-841E-BE189F7E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F9A7-C50A-40E3-90E8-E063DF10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AC74-FA94-4388-848C-9B7A9B42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0B0D-0AA0-41FC-AE3F-76625938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4BC0-7FF6-4DB0-8335-1831972B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A334-AD98-46D2-B495-9B9DF4DC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0AF9-FBD9-4B71-A1A6-045C3142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90AA-BD9A-4D46-BC87-E12FE02F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E39-5E10-4EF5-A71A-26872481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3604-60EE-4E83-950C-ABC3750F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DAEB-04F6-4881-BF37-F765B46A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E16B-3E30-4767-BDCB-B26F5AF6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2DF8-8EB7-4BBD-8491-32619314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F664-B819-450C-8B6B-802E0669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074-0AD3-4686-90CD-4F4C01F6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018-FCD0-43E3-95A5-73377D16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684-D4F7-4A4C-BCD3-FF6E6B0D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04C-01DA-4B19-8AAE-330B20AA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75D-B885-4501-8AE6-FC51A3D6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0E5-C49F-49EB-B662-5DA03D23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399-36D7-4133-AD0B-2641E4F2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5623-7EEB-440B-A172-059BC0B09E4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E750-F347-4266-90F4-BA5CF0B4380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www.pmk-wuppertal.de/kwartalnik_nasz_kosciol/kwartalnik25/swienta_swientych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chidiecezja.pl/include/article_img/olesnicki.jpg" TargetMode="External"/><Relationship Id="rId2" Type="http://schemas.openxmlformats.org/officeDocument/2006/relationships/hyperlink" Target="http://wiadomosci.wp.pl/kat,1342,title,Chcial-zabic-Gomulke-stracono-go-na-szubienicy,wid,14042997,wiadomosc.html?ticaid=110c53&amp;_ticrsn=5" TargetMode="External"/><Relationship Id="rId3" Type="http://schemas.openxmlformats.org/officeDocument/2006/relationships/hyperlink" Target="http://www.archidiecezja.pl/include/article_img/olesnicki.jpg" TargetMode="External"/><Relationship Id="rId4" Type="http://schemas.openxmlformats.org/officeDocument/2006/relationships/hyperlink" Target="https://upload.wikimedia.org/wikipedia/en/thumb/4/42/Wyszy&#324;ski.jpg/220px-Wyszy&#324;ski.jpg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epozytorium.fn.org.pl/?q=pl/node/451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ustronauki.files.wordpress.com/2011/05/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pn.poczytaj.pl/116252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repozytorium.fn.org.pl/?q=pl/node/5576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p2w.pl/pl/33769/0/Biskup_Czeslaw_Kaczmarek_1895-1963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zb35PwkKgk" TargetMode="External"/><Relationship Id="rId2" Type="http://schemas.openxmlformats.org/officeDocument/2006/relationships/hyperlink" Target="http://www.youtube.com/watch?v=aVD-lgaLOs0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9280" y="1591920"/>
            <a:ext cx="5113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9. Polski Panteon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17.Kościół katolicki wobec komuniz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mk-wuppertal.de/kwartalnik_nasz_kosciol/kwartalnik25/swienta_swientych.ht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9" descr="11"/>
          <p:cNvPicPr/>
          <p:nvPr/>
        </p:nvPicPr>
        <p:blipFill>
          <a:blip r:embed="rId3"/>
          <a:stretch/>
        </p:blipFill>
        <p:spPr>
          <a:xfrm>
            <a:off x="395280" y="1268280"/>
            <a:ext cx="2476440" cy="3038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wieczki Wyszyńskiego kontra barany Gomułki, czyli Mille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(196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rostokąt 6"/>
          <p:cNvSpPr/>
          <p:nvPr/>
        </p:nvSpPr>
        <p:spPr>
          <a:xfrm>
            <a:off x="4859280" y="4076640"/>
            <a:ext cx="42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adomosci.wp.pl/kat,1342,title,Chcial-zabic-Gomulke-stracono-go-na-szubienicy,wid,14042997,wiadomosc.html?ticaid=110c53&amp;_ticrsn=5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0" y="4292640"/>
            <a:ext cx="190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upload.wikimedia.org/wikipedia/en/thumb/4/42/Wyszy%C5%84ski.jpg/220px-Wyszy%C5%84ski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ostęp 21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220px-Wyszy%C5%84ski"/>
          <p:cNvPicPr/>
          <p:nvPr/>
        </p:nvPicPr>
        <p:blipFill>
          <a:blip r:embed="rId5"/>
          <a:stretch/>
        </p:blipFill>
        <p:spPr>
          <a:xfrm>
            <a:off x="179280" y="1557360"/>
            <a:ext cx="2095560" cy="2705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pap_gomulka_600"/>
          <p:cNvPicPr/>
          <p:nvPr/>
        </p:nvPicPr>
        <p:blipFill>
          <a:blip r:embed="rId6"/>
          <a:stretch/>
        </p:blipFill>
        <p:spPr>
          <a:xfrm>
            <a:off x="4859280" y="1484280"/>
            <a:ext cx="3721320" cy="2481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6"/>
          <p:cNvSpPr/>
          <p:nvPr/>
        </p:nvSpPr>
        <p:spPr>
          <a:xfrm>
            <a:off x="2340000" y="2421000"/>
            <a:ext cx="2376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óba zawłaszczenia rocznicy chrztu (jako 1000-lecie państwa polskieg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rót do polityki ateizacji kra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Koniec części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Zapraszam na część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19280" y="1591920"/>
            <a:ext cx="5113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9. Polski Panteon 17.Kościół katolicki wobec komunizmu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.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zęść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rostokąt 3"/>
          <p:cNvSpPr/>
          <p:nvPr/>
        </p:nvSpPr>
        <p:spPr>
          <a:xfrm>
            <a:off x="324000" y="551664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http://www.niedziela.pl/artykul/77068/nd/Ojciec-Swiety-Jan-Pawel-II-o-Stefanie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7" descr="n200524_010"/>
          <p:cNvPicPr/>
          <p:nvPr/>
        </p:nvPicPr>
        <p:blipFill>
          <a:blip r:embed="rId2"/>
          <a:stretch/>
        </p:blipFill>
        <p:spPr>
          <a:xfrm>
            <a:off x="324000" y="2043000"/>
            <a:ext cx="2952720" cy="2916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32400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ot. Archiwum Instytutu Prymasowskiego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39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Nieznaczna normalizacja w I połowie lat 70-t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916280"/>
            <a:ext cx="54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mowy ze Stolicą Apostolsk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gody na budowy kościołów (m.in. w Nowej Hucie, która miała być miastem bez kościołów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10" descr="Plik:KościółMatkiBożejKrólowejPolski(Arka)-UlicaObrońcówKrzyża-POL, Kraków.jpg"/>
          <p:cNvPicPr/>
          <p:nvPr/>
        </p:nvPicPr>
        <p:blipFill>
          <a:blip r:embed="rId1"/>
          <a:stretch/>
        </p:blipFill>
        <p:spPr>
          <a:xfrm>
            <a:off x="5651640" y="1700280"/>
            <a:ext cx="3090600" cy="2317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6804000" y="4057920"/>
            <a:ext cx="1979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pl.wikipedia.org/wiki/Plik:Ko%C5%9Bci%C3%B3%C5%82MatkiBo%C5%BCejKr%C3%B3lowejPolski(Arka)-UlicaObro%C5%84c%C3%B3wKrzy%C5%BCa-POL,_Krak%C3%B3w.jpg, dostęp 29/05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32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Jan Paweł II (1978 - 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50920" y="292428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pielgrzymka do Ojczyzny – 1979 – spotkania z wiernymi uważane są za początek końca komunizmu. Polscy katolicy zobaczyli, że są liczni, zorganizowani i siln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ruga (1983) – obudziła załamanego stanem wojennym ducha opozy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lgrzymek do Polski błogosławiony papież odbył jeszcze sześ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79280" y="522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ze streszczeniem pielgrzyme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7xXt03ODl0E, dostęp 20.05.201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1" descr="Plik:JohannesPaul2-portrait.jpg"/>
          <p:cNvPicPr/>
          <p:nvPr/>
        </p:nvPicPr>
        <p:blipFill>
          <a:blip r:embed="rId1"/>
          <a:stretch/>
        </p:blipFill>
        <p:spPr>
          <a:xfrm>
            <a:off x="250920" y="404640"/>
            <a:ext cx="1800000" cy="22003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2"/>
          <p:cNvSpPr/>
          <p:nvPr/>
        </p:nvSpPr>
        <p:spPr>
          <a:xfrm>
            <a:off x="2124000" y="166608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pl.wikipedia.org/wiki/Plik:JohannesPaul2-portrait.jpg, dostęp 20.05.20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6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Zaangażowanie Kościoła po stronie „Solidarności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Ks. Jerzy Popiełuszko, kapelan „Solidarności” i jego męczeńska śmier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Prymasowski Komitet Pomocy Osobom Pozbawionym Wolności i Ich Rodzinom  był niezastąpionym wsparciem dla opozycji w czasach stanu wojenn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Ostrożna polityka prymasa Józefa Glempa i zaangażowanie w pośredniczeniu między władzą a opozycją w krytycznych latach 1988-8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dtytuł 3"/>
          <p:cNvSpPr/>
          <p:nvPr/>
        </p:nvSpPr>
        <p:spPr>
          <a:xfrm>
            <a:off x="250920" y="333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statnia runda – 1980-19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50920" y="56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(długi): http://www.youtube.com/watch?v=hbjvOj0Yyxw, dostęp 20.05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Bolesław Bierut (oficjalnie bezpartyjny prezydent) demonstracyjnie brał udział we Mszach Św. Celem było przekonanie prostych ludzi o patriotyczno-religijnym charakterze nowych władz. Jednocześnie odwołano konkordat ze Stolicą Apostolsk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633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emonstracyjna pobożność partyjnych przywódc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84360" y="24998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epozytorium.fn.org.pl/?q=pl/node/4517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organizacje_mlodziezowe_1947-49_400_267"/>
          <p:cNvPicPr/>
          <p:nvPr/>
        </p:nvPicPr>
        <p:blipFill>
          <a:blip r:embed="rId2"/>
          <a:stretch/>
        </p:blipFill>
        <p:spPr>
          <a:xfrm>
            <a:off x="1187280" y="3213000"/>
            <a:ext cx="3810240" cy="2543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5580000" y="3573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lesław Bierut uczestniczy we Mszy św. we Wrześ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850920" y="3933720"/>
            <a:ext cx="2050920" cy="50328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rostokąt 5"/>
          <p:cNvSpPr/>
          <p:nvPr/>
        </p:nvSpPr>
        <p:spPr>
          <a:xfrm>
            <a:off x="179280" y="5589720"/>
            <a:ext cx="201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ustronauki.files.wordpress.com/2011/05/5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5"/>
          <p:cNvPicPr/>
          <p:nvPr/>
        </p:nvPicPr>
        <p:blipFill>
          <a:blip r:embed="rId2"/>
          <a:stretch/>
        </p:blipFill>
        <p:spPr>
          <a:xfrm>
            <a:off x="179280" y="1197000"/>
            <a:ext cx="7201080" cy="4386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7524720" y="1484280"/>
            <a:ext cx="1368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 maja 1946 – pacyfikacja pochodu krakowskich studentów, wychodzących ze Mszy św. w Kościele Mariackim. Oficjalnie nie była to jeszcze walka z Kościołem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68360" y="404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taki nieoficjal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468360" y="40464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taki nieoficjalne c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39640" y="1052640"/>
            <a:ext cx="70567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 ataków (zwłaszcza prasowych) na Kościół wykorzystano sprawę pogromu kieleckiego z 4 lipca 1946 rok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mimo odczytywanego w Kościołach listu pasterskiego, posłuszna władzy prasa twierdziła, że ciągle nie ma oświadczenia Kościoła, potępiającego pogr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ledztwo w sprawie prowadzone było tak, by udowodnić, że mordowali „Polacy – katolicy, Andersowcy i zwolennicy PSL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rostokąt 3"/>
          <p:cNvSpPr/>
          <p:nvPr/>
        </p:nvSpPr>
        <p:spPr>
          <a:xfrm>
            <a:off x="324000" y="4869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pn.poczytaj.pl/116252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9640" y="476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zw. księża – patrioci (1949 -19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9" descr="Ruch Księży patriotów w województwie katowickim w latach 1949-1956"/>
          <p:cNvPicPr/>
          <p:nvPr/>
        </p:nvPicPr>
        <p:blipFill>
          <a:blip r:embed="rId2"/>
          <a:stretch/>
        </p:blipFill>
        <p:spPr>
          <a:xfrm>
            <a:off x="3348000" y="1197000"/>
            <a:ext cx="2857680" cy="4143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539640" y="1413000"/>
            <a:ext cx="23036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mysł z 1949 wyszedł od rosyjskiego gen. Iwana Siero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sięża ci działali przy oficjalnej organizacji kombatanckiej (ZBOWi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900000" y="558900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repozytorium.fn.org.pl/?q=pl/node/5576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1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6588000" y="1268280"/>
            <a:ext cx="2305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ama nazwa sugerowała, że patriotami są tylko ci księża, którzy współpracują z władz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orozumienie z 195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1268280"/>
            <a:ext cx="6983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ładze gwarantowały nauczanie religii w szkołach (usunięto w praktyce kilka lat później, przywrócono i znów i w 1961 r. zlikwidowano do 199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ściół potępiał działalność antypaństwow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ściół uznawał zmiany terytorium państ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Sprawa biskupa Czesława Kaczma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rostokąt 5"/>
          <p:cNvSpPr/>
          <p:nvPr/>
        </p:nvSpPr>
        <p:spPr>
          <a:xfrm>
            <a:off x="324000" y="4221000"/>
            <a:ext cx="20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jp2w.pl/pl/33769/0/Biskup_Czeslaw_Kaczmarek_1895-1963.htm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przesladowanie_kosciola_bp_stanislaw_kaczmarek"/>
          <p:cNvPicPr/>
          <p:nvPr/>
        </p:nvPicPr>
        <p:blipFill>
          <a:blip r:embed="rId2"/>
          <a:stretch/>
        </p:blipFill>
        <p:spPr>
          <a:xfrm>
            <a:off x="324000" y="1413000"/>
            <a:ext cx="2027160" cy="280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2987640" y="1484280"/>
            <a:ext cx="5400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esztowany 21 stycznia 195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ezwzględnie torturowany w śledztw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azany pod zarzutem szpiegostwa w pokazowym procesie (153) na 12 lat więzien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wolniony w 1957 roku, nadal prześladowany przez władze (żądano jego zwolnienia ze stanowisk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edy nie udało się złamać biskupa sięgnięto po oszczerstwa, publikowane przez działacza ruchu księży-patrio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Uwięziony Pry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1953-19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11"/>
          <p:cNvPicPr/>
          <p:nvPr/>
        </p:nvPicPr>
        <p:blipFill>
          <a:blip r:embed="rId1"/>
          <a:stretch/>
        </p:blipFill>
        <p:spPr>
          <a:xfrm>
            <a:off x="250920" y="1197000"/>
            <a:ext cx="3462120" cy="424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4859280" y="1413000"/>
            <a:ext cx="39592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esztowanie przywódcy polskiego Kościoł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esztowania wielu księży, próba zastraszania pozostał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dziennika księdza kardynała (1954): „Ostatnia modlitwa - za naszych dozorców, zwłaszcza za tych, co teraz siedzą na korytarzach, i za żołnierzy, stojących wokół w śniegu, wśród lasu, na posterunkach. Wiemy, że tym ludziom musi być najboleśniej, najciężej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ędzie biskupów polskich do biskupów niemieckich-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11280" y="177336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[…] Prosimy Was, katoliccy Pasterze Narodu niemieckiego, abyście na własny sposób obchodzili z nami nasze chrześcijański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illeni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tym jak najbardziej chrześcijańskim, ale i bardzo ludzkim duchu, wyciągamy do Was, siedzących tu, na ławach kończącego się Soboru, nasze ręce oraz udzielamy wybaczenia i prosimy o nie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50920" y="45079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Kzb35PwkKgk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3.05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11280" y="5445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isteryczna reakcja PZPR – „nie prosimy i nie wybaczamy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24000" y="494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2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aVD-lgaLOs0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3.05. 201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27T17:35:05Z</dcterms:modified>
  <cp:revision>37</cp:revision>
  <dc:subject/>
  <dc:title>Slajd 1</dc:title>
</cp:coreProperties>
</file>