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0CC9-C36F-4259-80DA-D79FD0F899D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74E9-F04D-48C6-B88A-50C309D82F8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3AB6-96A0-4CD1-86AA-B5C37178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D16E-05F6-4546-92CC-FEFD9302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C4FB-74B2-48AD-A530-C3A73CC43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DF3D-5B46-4560-8688-02DD5DB42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0489-9E11-4D3E-9D37-D3296808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64F5-31F7-440A-B75C-367512E0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1A06-752D-43D0-B813-C1C6BACC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18D8-DC0A-4B5D-AEA7-8F023EAF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AB1D-7AD6-4CB0-8B8D-BE6F28DB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7646-46F2-4F0B-A5C2-3518F8E8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6297-3B19-4533-BD2A-698760CD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53B9-6CD5-4132-BDA0-84BCFDF9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2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3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9699-84D4-4BD7-85EC-6C9C1C7153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stanie państwa polskieg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d Mieszka I do Bolesława Krzywousteg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prezentacja do zajęć opartych na internetowym dysku wirtualnym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320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oncepcje powstania państw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eneza Polski – zadania dla grup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najdź w Internecie, używając wyszukiwarki  informacje na temat koncepcji powstania państwa polskiego. Przedyskutuj znalezione dane i przygotuj krótki (do 10 zdań) referat na ten temat. Umieść go na swoim koncie Google Drive (Dysk Google) i udostępnij go dla wszystkich uczestników lekcj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rupy z nr 1 – teoria ewoluc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rupy z nr 2 – teoria najazdu zewnętrzn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rupy z nr 3 – teoria podboju wewnętrzneg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Prawo książę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600" spc="-1" strike="noStrike">
                <a:solidFill>
                  <a:srgbClr val="000000"/>
                </a:solidFill>
                <a:latin typeface="Calibri"/>
              </a:rPr>
              <a:t>Wyszukaj w Wikipedii hasło „prawo książęce”, rozwiń wszystkie związane </a:t>
            </a:r>
            <a:br>
              <a:rPr sz="3600"/>
            </a:br>
            <a:r>
              <a:rPr b="0" i="1" lang="pl-PL" sz="3600" spc="-1" strike="noStrike">
                <a:solidFill>
                  <a:srgbClr val="000000"/>
                </a:solidFill>
                <a:latin typeface="Calibri"/>
              </a:rPr>
              <a:t>z nim linki zapoznając się </a:t>
            </a:r>
            <a:br>
              <a:rPr sz="3600"/>
            </a:br>
            <a:r>
              <a:rPr b="0" i="1" lang="pl-PL" sz="3600" spc="-1" strike="noStrike">
                <a:solidFill>
                  <a:srgbClr val="000000"/>
                </a:solidFill>
                <a:latin typeface="Calibri"/>
              </a:rPr>
              <a:t>z umieszczonym tam materiałe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600" spc="-1" strike="noStrike">
                <a:solidFill>
                  <a:srgbClr val="000000"/>
                </a:solidFill>
                <a:latin typeface="Calibri"/>
              </a:rPr>
              <a:t>Przygotuj samodzielnie krótką definicję prawa książęcego. Możesz przedyskutować ją z innymi przy użyciu Google Driv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ryzys monarchi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1034-103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iknij poniższy link. Obejrzyj uważnie zamieszczoną na stronie dyskusję. Zwróć uwagę na opinię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kadiusza Bednarczyk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historycy.org/index.php?showtopic=4713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 zajęciach sięgnij do książk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. Barański, Dynastia Piastów w Polsce. Warszawa 200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Koncepcje politycz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3. Koncepcje politycz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ieszko I – państwo chrześcijański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olesław Chrobry – monarchia słowiańsk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olesław Szczodry – monarchia suweren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oncepcja zjednoczonej monarchii chrześcijańskiej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Polska_960_-_992"/>
          <p:cNvPicPr/>
          <p:nvPr/>
        </p:nvPicPr>
        <p:blipFill>
          <a:blip r:embed="rId1"/>
          <a:stretch/>
        </p:blipFill>
        <p:spPr>
          <a:xfrm>
            <a:off x="468360" y="1557360"/>
            <a:ext cx="4319640" cy="42656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5508720" y="18446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http://pl.wikipedia.org/wiki/Plik:Polska_960_-_992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archia słowiańska -obsz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Polska_992_-_1025"/>
          <p:cNvPicPr/>
          <p:nvPr/>
        </p:nvPicPr>
        <p:blipFill>
          <a:blip r:embed="rId1"/>
          <a:stretch/>
        </p:blipFill>
        <p:spPr>
          <a:xfrm>
            <a:off x="324000" y="1754280"/>
            <a:ext cx="4176720" cy="41227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6084720" y="2133720"/>
            <a:ext cx="13669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krolowie.info/boleslaw-chrobry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24000" y="4005360"/>
            <a:ext cx="849600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łowiańska monarchia w ramach 4 części chrześcijaństwa, według koncepcji Otton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wróć uwagę na równorzędność (ta sama wielkość postaci) 4 części chrześcijaństwa i hierarchię honorową – o kolejności decyduje data przyjęcia chrześcijaństwa (od prawej – Italia, Francja, Germania i Słowiańszczyz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6408720" cy="3548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 flipV="1">
            <a:off x="684360" y="3428640"/>
            <a:ext cx="574560" cy="64764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7020000" y="177336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http://arturgabrysiak.tumblr.com/page/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Bolesław Szczodry – monarchia suweren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ról, przedstawiany w ikonografii do XIX w. wyłącznie jako „zabójca świętego”, był postacią wyjątkowo mocno akcentującą suwerenność monarchy. Prawdopodobnie nie panował nad swoim gniewem. Połączenie tych dwóch cech kosztowało go utratę władz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859280" y="1989000"/>
            <a:ext cx="3800520" cy="3810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156360" y="112536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Źródło: http://blogmedia24.pl/node/57269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4-04T00:28:05Z</dcterms:modified>
  <cp:revision>13</cp:revision>
  <dc:subject/>
  <dc:title>Slajd 1</dc:title>
</cp:coreProperties>
</file>