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joa" initials="j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<Relationship Id="rId33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3-05-27T19:48:30.778000000" idx="1">
    <p:pos x="933" y="3301"/>
    <p:text>kraju z małej litery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CFF2-0E4B-4F0B-844D-023F6F94508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B1FC-610B-4EED-A587-1EA71CF9DAD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E99C-306D-4095-9BF1-5C7F35440F0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380C-61C8-409D-B8F5-F75AF840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EAF5-BD8E-40A0-9A46-D80FA79D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1597-9892-475B-86B8-3FE4E5B8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7A26-93E2-48A3-A763-A162EBC4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1F11-2E06-4BC4-846A-11152464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5C30-0A70-4CCE-80CA-506E5227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455A-4496-4DD5-A934-A74DE1C4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4B0C-296F-4354-A548-8E2E8241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8A24-6AFF-4F65-8430-D5802532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63E0-8C64-4ED0-AF60-5542B102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F88E-F355-407E-9A86-D11345C4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0984-9CE9-4E7F-973A-4A178AAD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DE96-1FDE-4253-87E6-0E1C2A6D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A814-8428-47D9-B709-C70E928E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43F6-F3C9-45F6-B96D-8D9AC742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899B-EB0E-40DB-895A-F5843477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970A-E3B1-4A44-95A4-44C1747B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007E-0509-4DE5-BAD3-2B42AF10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C4FF-A3CC-4E04-BA28-90A9378E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7B87-9346-4319-8896-87791474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B394-08A5-4ADA-A2F9-6C25E5ED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C43A-4FD9-472C-A163-88166395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7903-F049-4401-93C8-53538B83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6B74-3EC5-465B-99A1-29EF033C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7EF2-DA9E-46B0-9DF4-FDBD5F5C025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4607-39A3-4996-806D-502672AE2B51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inakoteka.zascianek.pl/Grottger/Images/Pol6.jpg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pinakoteka.zascianek.pl/Kossak_W/Images/Olszynka.jpg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pinakoteka.zascianek.pl/Grottger/Images/Pochod.jpg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Realizm polityczny w II połowie XIX wieku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Bartosz Rzoń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óba opo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771280" y="1483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abór rosyj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ajne nauczani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uczelniach wyższych powstawały kółka samokształceniow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rganizowano nielegalne kursy języka polskiego, literatury, geografii i historii Pols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mycano polskie książk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Galic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rganizowano strajki, manifestacje i zamachy na policjantów i urzędników (1905 r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częto domagać się przywrócenia autonom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ładze carskie poszły na pewne ustępstwa (m.in. pozwolono zakładać prywatne szkoły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lityka państw zaborczych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C:\Users\Bartek\Downloads\Wrzesnia.jpg"/>
          <p:cNvPicPr/>
          <p:nvPr/>
        </p:nvPicPr>
        <p:blipFill>
          <a:blip r:embed="rId1"/>
          <a:stretch/>
        </p:blipFill>
        <p:spPr>
          <a:xfrm>
            <a:off x="1763640" y="1844640"/>
            <a:ext cx="5688000" cy="3651120"/>
          </a:xfrm>
          <a:prstGeom prst="rect">
            <a:avLst/>
          </a:prstGeom>
          <a:ln w="0">
            <a:noFill/>
          </a:ln>
        </p:spPr>
      </p:pic>
      <p:sp>
        <p:nvSpPr>
          <p:cNvPr id="132" name="pole tekstowe 9"/>
          <p:cNvSpPr/>
          <p:nvPr/>
        </p:nvSpPr>
        <p:spPr>
          <a:xfrm>
            <a:off x="1715760" y="5589720"/>
            <a:ext cx="335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7. Oporne dzieci we Wrześni w 1901 r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upload.wikimedia.org/wikipedia/commons/6/67/Wrzesnia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óba opo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56000" y="148392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abór pru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szystkie warstwy społeczne brały udział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walce o polskość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worzyły się kółka rolnicze, banki ludowe, stowarzyszenia śpiewacze, które przeciwstawiały się germanizac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rządzano bojkoty lekcji (strajk dzieci we Wrześn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alczono z ustawami osadniczymi (sławny wóz Drzymały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lityka państw zaborczych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Stanczyk"/>
          <p:cNvPicPr/>
          <p:nvPr/>
        </p:nvPicPr>
        <p:blipFill>
          <a:blip r:embed="rId1"/>
          <a:stretch/>
        </p:blipFill>
        <p:spPr>
          <a:xfrm>
            <a:off x="1979640" y="1844640"/>
            <a:ext cx="5256360" cy="3922920"/>
          </a:xfrm>
          <a:prstGeom prst="rect">
            <a:avLst/>
          </a:prstGeom>
          <a:ln w="0">
            <a:noFill/>
          </a:ln>
        </p:spPr>
      </p:pic>
      <p:sp>
        <p:nvSpPr>
          <p:cNvPr id="139" name="pole tekstowe 8"/>
          <p:cNvSpPr/>
          <p:nvPr/>
        </p:nvSpPr>
        <p:spPr>
          <a:xfrm>
            <a:off x="1930320" y="5805360"/>
            <a:ext cx="3263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5. Stańczyk, malował Jan Matejk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pinakoteka.zascianek.pl/Matejko/Images/Stanczyk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lityka państw zaborczych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56000" y="148392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abór austriac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 1867 r. duży zakres autonom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rzędy i administracj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rękach Polak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zkołach obowiązywał język pols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zwolono bez przeszkód na rozwój nauki(założono Akademię Umiejętnośc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Krakowi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zwolono na rozwój kultury polskiej (m.in. Teatry w Krakowie i we Lwowi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zwolono obchodzić ważne uroczystości narodow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udziła się świadomość narodowa Ukraińców (konflikt z Polakami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a ziemi mogił pogasły ogni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- postawy społeczeństwa polskiego po klęsce powstania styczniowe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10"/>
          <p:cNvSpPr/>
          <p:nvPr/>
        </p:nvSpPr>
        <p:spPr>
          <a:xfrm>
            <a:off x="1908000" y="3141720"/>
            <a:ext cx="547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„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Marzenia o odzyskaniu samoistności zewnętrznej ustąpić dziś winny staraniom o samodzielność wewnętrzną(…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Los zamknął nasze życzenia i nadzieje </a:t>
            </a:r>
            <a:br>
              <a:rPr sz="2400"/>
            </a:b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w pracy cywilizacyjnej”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leksander Świętochowski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skazania polityczne, 1882 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stawy społeczeństwa polskiego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D:\scenariusze lekcji do przetargu\do realizacji\Realizm polityczny w II poł XIX w\grafika\Rys_8_T09_10_car_Aleksander _III.jpg"/>
          <p:cNvPicPr/>
          <p:nvPr/>
        </p:nvPicPr>
        <p:blipFill>
          <a:blip r:embed="rId1"/>
          <a:stretch/>
        </p:blipFill>
        <p:spPr>
          <a:xfrm>
            <a:off x="3203640" y="1628640"/>
            <a:ext cx="2655720" cy="3789360"/>
          </a:xfrm>
          <a:prstGeom prst="rect">
            <a:avLst/>
          </a:prstGeom>
          <a:ln w="0">
            <a:noFill/>
          </a:ln>
        </p:spPr>
      </p:pic>
      <p:sp>
        <p:nvSpPr>
          <p:cNvPr id="149" name="pole tekstowe 4"/>
          <p:cNvSpPr/>
          <p:nvPr/>
        </p:nvSpPr>
        <p:spPr>
          <a:xfrm>
            <a:off x="3160440" y="5516640"/>
            <a:ext cx="39754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8. Car Aleksander III, malował N. Kramsko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upload.wikimedia.org/wikipedia/commons/e/e7/Kramskoy_Alexander_III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stawy społeczeństwa polskiego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zukanie nowych dróg działa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krajny lojalizm – bezwarunkowa wierność wobec cara (Zygmunt Wielopolski) nie miał wielu zwolennik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ublicyści skupieni wokół pisma „Kraj” – ugodowość może przynieść pewne korzyści dla narodu polskiego, kultura polska wzbogaci kulturę rosyjską, a Polacy staną się uczestnikami federacji ogólno rosyjski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ole tekstowe 3"/>
          <p:cNvSpPr/>
          <p:nvPr/>
        </p:nvSpPr>
        <p:spPr>
          <a:xfrm>
            <a:off x="2124000" y="1700280"/>
            <a:ext cx="554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Bo nie żadnym błyskiem stali, </a:t>
            </a:r>
            <a:br>
              <a:rPr sz="2400"/>
            </a:b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Nie natchnionych tonów mocą </a:t>
            </a:r>
            <a:br>
              <a:rPr sz="2400"/>
            </a:b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Ludy czoła swe ozłocą; </a:t>
            </a:r>
            <a:br>
              <a:rPr sz="2400"/>
            </a:b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Tylko pracą i mądrością,</a:t>
            </a:r>
            <a:br>
              <a:rPr sz="2400"/>
            </a:b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Tylko trudem i mądrością </a:t>
            </a:r>
            <a:br>
              <a:rPr sz="2400"/>
            </a:b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Przyszłość serca ich zapali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arol Świdziński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przód pracą, 1872 r.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stawy społeczeństwa polskiego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Rys_8_T09_10_Henryk_Sienkiewicz"/>
          <p:cNvPicPr/>
          <p:nvPr/>
        </p:nvPicPr>
        <p:blipFill>
          <a:blip r:embed="rId1"/>
          <a:stretch/>
        </p:blipFill>
        <p:spPr>
          <a:xfrm>
            <a:off x="826920" y="1844640"/>
            <a:ext cx="2953080" cy="3535560"/>
          </a:xfrm>
          <a:prstGeom prst="rect">
            <a:avLst/>
          </a:prstGeom>
          <a:ln w="0">
            <a:noFill/>
          </a:ln>
        </p:spPr>
      </p:pic>
      <p:sp>
        <p:nvSpPr>
          <p:cNvPr id="155" name="pole tekstowe 4"/>
          <p:cNvSpPr/>
          <p:nvPr/>
        </p:nvSpPr>
        <p:spPr>
          <a:xfrm>
            <a:off x="711720" y="5445000"/>
            <a:ext cx="38293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9. Henryk Sinkiewicz, malował K. Mordasewicz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upload.wikimedia.org/wikipedia/commons/6/6f/Henryk_Sienkiewicz.P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Rys_9_T09_10_Boleslaw_Prus"/>
          <p:cNvPicPr/>
          <p:nvPr/>
        </p:nvPicPr>
        <p:blipFill>
          <a:blip r:embed="rId2"/>
          <a:stretch/>
        </p:blipFill>
        <p:spPr>
          <a:xfrm>
            <a:off x="5364000" y="1844640"/>
            <a:ext cx="2700360" cy="3529080"/>
          </a:xfrm>
          <a:prstGeom prst="rect">
            <a:avLst/>
          </a:prstGeom>
          <a:ln w="0">
            <a:noFill/>
          </a:ln>
        </p:spPr>
      </p:pic>
      <p:sp>
        <p:nvSpPr>
          <p:cNvPr id="157" name="pole tekstowe 6"/>
          <p:cNvSpPr/>
          <p:nvPr/>
        </p:nvSpPr>
        <p:spPr>
          <a:xfrm>
            <a:off x="5219640" y="5445000"/>
            <a:ext cx="392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0. Bolesław Pru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mbp.info.kalisz.pl/2012/120511_F16_B_Prus/DSCN3200_1280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ilans powsta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lityka państw zaborczych po klęsce powstania styczniow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stawa społeczeństwa polskiego po klęsce powstania stycznioweg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sumow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stawy społeczeństwa polskiego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zytywizm polski – dążenie do postępu cywilizacyjnego poprzez aktywność gospodarczą, pracę oświatową, twórczość naukową i kulturaln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zytywiści lansowali tezę o pracy organicznej – praca nad oświeceniem i wzbogaceniem narodu przy wykorzystaniu możliwości jakie dają aktualne warunki historycz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stawy społeczeństwa polskiego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aca organiczna, czyli praca u podstaw, wciągnięcie wszystkich mas ludowych do życia społecznego, emancypacja kobiet, rozbudowa instytucji pomocow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ohaterstwo umiejętnego życia”  zamiast „bohaterstwa pięknego umierania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stawy społeczeństwa polskiego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Rys_10_T09_10_Franciszek_Jozef_I_Habsburg"/>
          <p:cNvPicPr/>
          <p:nvPr/>
        </p:nvPicPr>
        <p:blipFill>
          <a:blip r:embed="rId1"/>
          <a:stretch/>
        </p:blipFill>
        <p:spPr>
          <a:xfrm>
            <a:off x="3132000" y="1628640"/>
            <a:ext cx="2808360" cy="3745080"/>
          </a:xfrm>
          <a:prstGeom prst="rect">
            <a:avLst/>
          </a:prstGeom>
          <a:ln w="0">
            <a:noFill/>
          </a:ln>
        </p:spPr>
      </p:pic>
      <p:sp>
        <p:nvSpPr>
          <p:cNvPr id="164" name="pole tekstowe 4"/>
          <p:cNvSpPr/>
          <p:nvPr/>
        </p:nvSpPr>
        <p:spPr>
          <a:xfrm>
            <a:off x="3088440" y="5445000"/>
            <a:ext cx="44892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1. Franciszek Józef I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upload.wikimedia.org/wikipedia/commons/4/46/Franciszek_J%C3%B3zef_I_Habsburg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stawy społeczeństwa polskiego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Galicji wytworzyło się silne środowisko polityczne reprezentujące koncepcje ugodow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 wojnie austriacko-pruskiej ugodowcy zadeklarowali lojalność wobec cesarza Franciszka Józef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y Tobie, Najjaśniejszy Panie, stoimy i stać chcemy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publikowali cykl artykułów pod nazwą „Teka Stańczyka”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stawy społeczeństwa polskiego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tańczycy reprezentowali poglądy konserwatywne, władzę powinny sprawować „klasy historyczne”, w przeciwnym razie grozi chaos i anarchia, naród powinien dojrzeć pod obcym panowani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łosili teorie trójlojalizmu – społeczeństwo polskie każdego zaboru powinno być lojalne wobec swojego państwa zaborcz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tej grupy wywodzi się krakowska szkoła historycz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 Ty którą drogę byś wybra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Rys_12_T09_10_wjazd_cesarza_Franciszek_Jozef_do_Krakowa"/>
          <p:cNvPicPr/>
          <p:nvPr/>
        </p:nvPicPr>
        <p:blipFill>
          <a:blip r:embed="rId1"/>
          <a:stretch/>
        </p:blipFill>
        <p:spPr>
          <a:xfrm>
            <a:off x="2484360" y="1413000"/>
            <a:ext cx="4464000" cy="3112920"/>
          </a:xfrm>
          <a:prstGeom prst="rect">
            <a:avLst/>
          </a:prstGeom>
          <a:ln w="0">
            <a:noFill/>
          </a:ln>
        </p:spPr>
      </p:pic>
      <p:sp>
        <p:nvSpPr>
          <p:cNvPr id="171" name="pole tekstowe 4"/>
          <p:cNvSpPr/>
          <p:nvPr/>
        </p:nvSpPr>
        <p:spPr>
          <a:xfrm>
            <a:off x="2556000" y="4581360"/>
            <a:ext cx="42084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2. Wjazd cesarza Franciszka Józefa do Krakowa, malował J. Kossa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pinakoteka.zascianek.pl/Kossak_Jul/Images/Franciszek_Jozef_1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rostokąt 5"/>
          <p:cNvSpPr/>
          <p:nvPr/>
        </p:nvSpPr>
        <p:spPr>
          <a:xfrm>
            <a:off x="1476360" y="515772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 dlaczeg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dsumow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2276640"/>
            <a:ext cx="8229600" cy="21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ór pruski dostarczył przyszłemu państwu polskiemu dobrych gospodarzy, zabór rosyjski – konspiratorów, Galicja – urzędników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doświadczonych parlamentarzyst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lans powsta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militarnego punktu widzenia żadne powstanie nie miało większych sza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ostały wykorzystane przez zaborców do likwidacji pewnej autonomii uzyskanej po 1815 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lu wartościowych ludzi zginęło, zostało skazanych na zesłanie lub musiało uciekać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Kra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 Ty jak uważasz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9640" y="198900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y były jakieś pozytywne skutk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D:\scenariusze lekcji do przetargu\do realizacji\Realizm polityczny w II poł XIX w\grafika\Rys_1_T09_10_Polonia_Obrona_dworu.jpg"/>
          <p:cNvPicPr/>
          <p:nvPr/>
        </p:nvPicPr>
        <p:blipFill>
          <a:blip r:embed="rId1"/>
          <a:stretch/>
        </p:blipFill>
        <p:spPr>
          <a:xfrm>
            <a:off x="539640" y="2997360"/>
            <a:ext cx="3527640" cy="2725560"/>
          </a:xfrm>
          <a:prstGeom prst="rect">
            <a:avLst/>
          </a:prstGeom>
          <a:ln w="0">
            <a:noFill/>
          </a:ln>
        </p:spPr>
      </p:pic>
      <p:sp>
        <p:nvSpPr>
          <p:cNvPr id="104" name="pole tekstowe 4"/>
          <p:cNvSpPr/>
          <p:nvPr/>
        </p:nvSpPr>
        <p:spPr>
          <a:xfrm>
            <a:off x="560520" y="5805360"/>
            <a:ext cx="30963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. Obrona dworu, malował A. Grottg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pinakoteka.zascianek.pl/Grottger/Images/Pol6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C:\Users\Bartek\Downloads\Olszynka.jpg"/>
          <p:cNvPicPr/>
          <p:nvPr/>
        </p:nvPicPr>
        <p:blipFill>
          <a:blip r:embed="rId3"/>
          <a:stretch/>
        </p:blipFill>
        <p:spPr>
          <a:xfrm>
            <a:off x="4427640" y="3141720"/>
            <a:ext cx="3976560" cy="2520720"/>
          </a:xfrm>
          <a:prstGeom prst="rect">
            <a:avLst/>
          </a:prstGeom>
          <a:ln w="0">
            <a:noFill/>
          </a:ln>
        </p:spPr>
      </p:pic>
      <p:sp>
        <p:nvSpPr>
          <p:cNvPr id="106" name="pole tekstowe 6"/>
          <p:cNvSpPr/>
          <p:nvPr/>
        </p:nvSpPr>
        <p:spPr>
          <a:xfrm>
            <a:off x="4450680" y="5805360"/>
            <a:ext cx="33490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2. Olszynka Grochowska, malował W. Kossa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pinakoteka.zascianek.pl/Kossak_W/Images/Olszynka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ymbol zastępczy zawartości 2"/>
          <p:cNvSpPr/>
          <p:nvPr/>
        </p:nvSpPr>
        <p:spPr>
          <a:xfrm>
            <a:off x="539640" y="1268280"/>
            <a:ext cx="82296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 oceniasz powstania narodow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lans powstań c.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zór postaw patriotycz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radycja powstańcza odegrała dużą rolę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kształtowaniu świadomości narodowej (także chłopów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Rys_3_T09_10_pochod_na_sybir"/>
          <p:cNvPicPr/>
          <p:nvPr/>
        </p:nvPicPr>
        <p:blipFill>
          <a:blip r:embed="rId1"/>
          <a:stretch/>
        </p:blipFill>
        <p:spPr>
          <a:xfrm>
            <a:off x="4572000" y="3429000"/>
            <a:ext cx="4032360" cy="2360520"/>
          </a:xfrm>
          <a:prstGeom prst="rect">
            <a:avLst/>
          </a:prstGeom>
          <a:ln w="0">
            <a:noFill/>
          </a:ln>
        </p:spPr>
      </p:pic>
      <p:sp>
        <p:nvSpPr>
          <p:cNvPr id="111" name="pole tekstowe 4"/>
          <p:cNvSpPr/>
          <p:nvPr/>
        </p:nvSpPr>
        <p:spPr>
          <a:xfrm>
            <a:off x="4500720" y="5805360"/>
            <a:ext cx="3270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3. Pochód na Sybir, malował A. Grottg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pinakoteka.zascianek.pl/Grottger/Images/Pochod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lityka państw zaborczych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26920" y="1483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abór rosyj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likwidowano odrębność administracyjn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mieniono nazwę na „Priwislinskij Kraj”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Kraj Nadwiślański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prowadzono język rosyjski jako urzędow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śladowano Kościół (zlikwidowano Kościół unick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silono i rozbudowano system repres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e wszystkich szkołach wprowadzono język rosyjski jako wykładowy i usuwano polską kadrę pedagogiczną („noc Apuchtinowska”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lityka państw zaborczych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C:\Users\Bartek\Downloads\Rugi_pruskie.jpg"/>
          <p:cNvPicPr/>
          <p:nvPr/>
        </p:nvPicPr>
        <p:blipFill>
          <a:blip r:embed="rId1"/>
          <a:stretch/>
        </p:blipFill>
        <p:spPr>
          <a:xfrm>
            <a:off x="1619280" y="1700280"/>
            <a:ext cx="6048360" cy="3863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8" name="pole tekstowe 8"/>
          <p:cNvSpPr/>
          <p:nvPr/>
        </p:nvSpPr>
        <p:spPr>
          <a:xfrm>
            <a:off x="1644480" y="5805360"/>
            <a:ext cx="35168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4. Rugi pruskie, malował W. Kossa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www.pinakoteka.zascianek.pl/Kossak_W/Images/Rugi_pruskie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lityka państw zaborczych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56000" y="148392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abór pru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prowadzono język niemiecki, jako urzędow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zpoczęto walkę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Kościołem katolickim tzw. Kulturkampf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kupywano ziemie należące do Polak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sprzedawano niemieckim kolonizator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musowo  wysiedlano ludność polską tzw. Rugi prusk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ałkowicie usunięto język polski ze szkó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lityka państw zaborczych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C:\Users\Bartek\Downloads\Wiosna_roku_1905.jpg"/>
          <p:cNvPicPr/>
          <p:nvPr/>
        </p:nvPicPr>
        <p:blipFill>
          <a:blip r:embed="rId1"/>
          <a:stretch/>
        </p:blipFill>
        <p:spPr>
          <a:xfrm>
            <a:off x="1692360" y="1628640"/>
            <a:ext cx="5759280" cy="4040280"/>
          </a:xfrm>
          <a:prstGeom prst="rect">
            <a:avLst/>
          </a:prstGeom>
          <a:ln w="0">
            <a:noFill/>
          </a:ln>
        </p:spPr>
      </p:pic>
      <p:sp>
        <p:nvSpPr>
          <p:cNvPr id="125" name="pole tekstowe 10"/>
          <p:cNvSpPr/>
          <p:nvPr/>
        </p:nvSpPr>
        <p:spPr>
          <a:xfrm>
            <a:off x="1645560" y="5732640"/>
            <a:ext cx="3801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6. Wiosna roku 1905, malował S. Masłowsk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pinakoteka.zascianek.pl/Maslowski/Images/Wiosna_roku_1905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Bartek</cp:lastModifiedBy>
  <dcterms:modified xsi:type="dcterms:W3CDTF">2013-06-02T15:43:07Z</dcterms:modified>
  <cp:revision>153</cp:revision>
  <dc:subject/>
  <dc:title>Slajd 1</dc:title>
</cp:coreProperties>
</file>