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BB6-D386-419B-B94E-F6C024CD7D8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C081-AA42-4A83-9026-B59BBD0B4C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3226-D009-421E-AF6C-D2AD31B52C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3AF-4660-4E54-A5E5-66D2A307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79D-CF90-4E64-ADC7-365ED64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385-35B5-4E9D-9F76-45F9FFB1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E95-33B4-4377-AC32-AB4D2C13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C5D-72D8-4C52-82CF-987D3C9E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D22-862D-451B-8F46-53F336C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E31-9A4D-4F96-B7D6-5B5403EF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740-9E54-453A-BBB3-D842261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CF5D-71E5-4C5B-A630-B896E25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FAF-AA75-4727-A05F-FD91FA9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A42D-DCEC-4059-93B5-21D3F9C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22C-9226-4109-AFCC-9D1AE37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B9C0-C68B-47EF-990E-6BE5A01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1A07-93E6-40FF-8A83-BF34DDF1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617-E548-4DEA-BDC1-A8CB73B2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7E89-077E-47AB-A272-4BC741F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1F3E-07AB-43D1-861B-87599E74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832-610F-4DAB-AF7D-7FB5FA9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135-A43B-49CE-9D54-0AF6EF33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A91-33F5-4A28-B23B-24BE9AD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9F3-719A-425D-A37F-D8AEDD5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3CA-9727-4A55-96AC-4A5A6EE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9E0-A356-4A4A-8497-9E49D70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40F-2FD9-4856-AFF3-5ECB9DA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A50-227C-4DED-8DBB-4D1B0348597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822-08AF-4BB1-AD7B-BCC2CBB1E45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yborcza.pl/1,104173,7601016,Dwie_twarze_Cycerona.html?as=1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ochanowski (1530-158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3780000" y="1628640"/>
            <a:ext cx="5040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olski poeta renesansowy  w swoich utworach chętnie odwoływał się do motyw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(łac. virtus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do norm etycznych obowiązujących „męża dobrego” – człowieka mądrego, uczciwego, będąc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em obywatela i patriot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wykorzystywał przy tym motywy antyczne i nawiązywał do myśli filozofów starożytny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3" descr="Jan_Kochanowski.png"/>
          <p:cNvPicPr/>
          <p:nvPr/>
        </p:nvPicPr>
        <p:blipFill>
          <a:blip r:embed="rId1"/>
          <a:stretch/>
        </p:blipFill>
        <p:spPr>
          <a:xfrm>
            <a:off x="611280" y="1628640"/>
            <a:ext cx="2743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u pożytku dobra spólnego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I (księgi II) „Nie masz, i po drugi raz nie masz wątpliwości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podkreśla wartość patriotyzm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jesli komu droga otwarta do ni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Tym, co służą ojczyźnie. Wątpić nie potrz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Że co im zazdrość ujmie, Bóg nagradzać będzi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nota kiedykolwiek miejsce swe osiądz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X  (księgi II) „Jest kto, co by wzgardziwszy te doczesne rzeczy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hęca, by każdy wykorzystywał swoje zdolności dla dobra ogółu – ci, którzy są mężni, niech walczą, pozostali mogą dbać o porządek w państwie, szerzyć dobre obyczaje, żyć uczciwi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użmy poczciwej sławie, a jako kto moż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ku pożytku dobra spólnego pomoż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ak mądr po szkodz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05264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V (księgi II) „Wieczna sromota i nienagrodzona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opisuje najazd Tatarów na Podole w 1575 r. – wzywa Polaków do wzięcia odpowiedzialności za losy kraju, by w przyszłości nie powtórzył się podobny scenarius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eszy mię ten rym: „Polak mądr po szkodzie”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cz jesli prawda i z tego nas zbodzie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ą przypowieść Polak sobie kupi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Że i przed szkodą, i po szkodzie głupi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Odprawie posłów greckich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ramacie nawiązującym do mitu o wojnie trojańskiej, poeta przedstawia wzór patrioty – Antenor jest uczciwy,  odpowiedzialny, nieprzekupny, działa pro publico bono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espazjan Kochowski (1633-17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324000" y="995400"/>
            <a:ext cx="849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okowy poeta i autor prac historycznych, przedstawiciel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rmatyzm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jego najbardziej znane utwory to zbiór wiersz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Niepróżnujące próżnowa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Psalmodia Polsk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utworach zestawiał dzielnych przodków z pokoleniem współczesnych mu Polaków i pokazy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starych wzor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Wieleć mamy swobód w tej naszej koro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óż gdy się nie staramy i nie dbamy o 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aża prywatnych pożytków chciw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rdziej dbamy o włości, a nie o wol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obody niż swobody głowę nam mozol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ż złotą wolność bardziej złoto wolą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pigramat „O wolności polskiej”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(1735-18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raz 3" descr="rysunek3_T16_Krasicki_w_prezentacji.PNG"/>
          <p:cNvPicPr/>
          <p:nvPr/>
        </p:nvPicPr>
        <p:blipFill>
          <a:blip r:embed="rId1"/>
          <a:stretch/>
        </p:blipFill>
        <p:spPr>
          <a:xfrm>
            <a:off x="539640" y="1484280"/>
            <a:ext cx="285768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4"/>
          <p:cNvSpPr/>
          <p:nvPr/>
        </p:nvSpPr>
        <p:spPr>
          <a:xfrm>
            <a:off x="3635280" y="1484280"/>
            <a:ext cx="482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isarz polskiego oświecenia, związany z programem reform Stanisława Augusta, w swoich utworach krytykował sarmackie zacofanie i piętnował wady społeczeń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estawiał dobrą przeszłość ze złą teraźniejszości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dzieżeś, cnoto? gdzieś, prawdo? gdzieście się podziały?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 – pytał w satyrze „Świat zepsuty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czciwiej być w okręcie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Złość ukryta i jaw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podkreśla rolę cnoty i konieczność zmia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unt wszystkiego poczciwość, pobożność i z cnot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adnie taka budowla, gdzie grunt nie jest stał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hcemy nasz stan, stan kraju, ustanowić trwał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dmieńmy obyczaje, a jąwszy się prac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będą dobrzy, będą szczęśliwi Polac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Świat zepsuty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równał ojczyznę do okrętu w czasie burz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ozi burza, grzmi niebo; okręt nie zato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Majtki zgodne z żeglarzem, gdy staną w obro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hoć bezpieczniej okręt opuścić i płyną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oczciwej być w okręcie, ocalić lub zginą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ublicystyka oświeceni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5"/>
          <p:cNvSpPr/>
          <p:nvPr/>
        </p:nvSpPr>
        <p:spPr>
          <a:xfrm>
            <a:off x="250920" y="1052640"/>
            <a:ext cx="8642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3"/>
          <p:cNvSpPr/>
          <p:nvPr/>
        </p:nvSpPr>
        <p:spPr>
          <a:xfrm>
            <a:off x="539640" y="1557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latach 1765-1785 ukazywało się pismo „Monitor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zorowane na angielskim „The Spectator”) – krytykowano w nim sarmackie zacofanie, propagowano reformy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kazywano wzór oświeconego szlachcic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wiązani z pismem byli m.in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sicki, Bohomolec, Konarski, Naruszewicz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okresie Sejmu Czteroletniego działała tzw. Kuźnica Kołłątajows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worzyła ją grupa publicystów, działaczy społecznych i literatów, którzy propagowali program reform i swoimi piórami zabiegali o wsparcie opinii publicznej (czołowe postacie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łłątaj, Jezierski, Dmochowski, Dembow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uliusz Słowacki (1809-18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3"/>
          <p:cNvSpPr/>
          <p:nvPr/>
        </p:nvSpPr>
        <p:spPr>
          <a:xfrm>
            <a:off x="611280" y="1484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eta, dramaturg i epistolograf, jeden z najwybitniejszych twórców epoki romantyzm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utworze „Grób Agamemno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kazuje analogie między starożytną Grecją i współczesną Polską ; ojczyzna to dla niego „dusza anielska” w „czerepie rubasznym”, „służebnica cudza”, która była w przeszłości „pawiem narodów” i „papugą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Kordianie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a motyw patrioty – spiskowca, który musi zdecydować, czy dla dobra ojczyzny może posłużyć się metodami wątpliwymi etyczne (podstępem i zdradą); jego bohater jest młodym, szlachetnym zapaleńcem, postacią tragiczną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tyzm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zytyw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3"/>
          <p:cNvSpPr/>
          <p:nvPr/>
        </p:nvSpPr>
        <p:spPr>
          <a:xfrm>
            <a:off x="611280" y="1052640"/>
            <a:ext cx="81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załka w dół 4"/>
          <p:cNvSpPr/>
          <p:nvPr/>
        </p:nvSpPr>
        <p:spPr>
          <a:xfrm>
            <a:off x="1476360" y="981000"/>
            <a:ext cx="792000" cy="79236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załka w dół 5"/>
          <p:cNvSpPr/>
          <p:nvPr/>
        </p:nvSpPr>
        <p:spPr>
          <a:xfrm>
            <a:off x="6804000" y="981000"/>
            <a:ext cx="792360" cy="792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7"/>
          <p:cNvSpPr/>
          <p:nvPr/>
        </p:nvSpPr>
        <p:spPr>
          <a:xfrm>
            <a:off x="250920" y="1773360"/>
            <a:ext cx="43210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zgrani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jczyźnie całego swojego ży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aktowanie sprawy narodowej jako sprawy osobistej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ohaterska i bezkompromisow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alka jednost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sprawę ogół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poteoza rewolucji, spisku i młod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Teraz duszą jam w moją ojczyznę wcielon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Ciałem połknąłem jej duszę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Ja i ojczyzna to jedno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ckiewicz A., Dziady, cz. III, sc. II, w. 257-5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10"/>
          <p:cNvSpPr/>
          <p:nvPr/>
        </p:nvSpPr>
        <p:spPr>
          <a:xfrm>
            <a:off x="4859280" y="1773360"/>
            <a:ext cx="40338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ca u podstaw” i „praca organiczna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użące przebudowie i rozwojowi społeczeństwa jako sposób na ratowanie polsk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zorem obywatela jest człowiek czynu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dolny, pracowity, przedsiębiorczy, rzetelny, zaradny, tolerancyjny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Przysługi otrzymane od społeczeństwa rodzimego jednostka wynagrodzić może tylko osobistą, własną pracą (…)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rzeszkowa E., Patriotyzm i kosmopolityz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załka w prawo 12"/>
          <p:cNvSpPr/>
          <p:nvPr/>
        </p:nvSpPr>
        <p:spPr>
          <a:xfrm>
            <a:off x="3780000" y="333360"/>
            <a:ext cx="1512720" cy="50328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efan Żeromski (1864-19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250920" y="112536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powieści, nowel i dramatów, publicysta; jeden z najbardziej znanych pisarzy młodopolskich, nazywany „sumieniem polskiej literatury” i „sumieniem narodu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owieści „Ludzie bezdomni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kazuje bohatera wewnętrznie rozdartego – Tomasz Judym jest lekarzem, który wydobywa się ze społecznych nizin i nie zapomina o swoim pochodzeniu; wyrzeka się miłości i poświęca życie osobiste, by pracować na rzecz najuboższych – czuje, że to jego obywatelski obowiązek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wieści „Przedwioś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zary Baryka, przechodzi przemianę – obserwujemy nieodpowiedzialnego, łatwo ulegającego ideologiom młodzieńca, który staje się patriotą szukającym najlepszej drogi, by zmieniać Polsk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773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bigniew Herbert (1924-19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250920" y="855720"/>
            <a:ext cx="85690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eta, pisarz, dramaturg; w swojej twórczości często odwoływał się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dycji antycz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isząc o współczesności; w wiersz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an Cogito o cnocie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pomina postać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okrates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sze, 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nota wydaje się teraz mało atrakcyjna i „nieznośna w swoim uporze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ic dziwnego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 nie jest oblubienicą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dziwych mężczyz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enerałów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tletów władzy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espotów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z wieki idzie za nimi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 płaczliwa stara pan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okropnym kapeluszu Armii Zbawie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pomina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cnota to bezzębna stara pan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611280" y="1700280"/>
            <a:ext cx="79200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…) ta zrzędząca, bezzębna stara panna, jaką jest cnota, była za innych czasów, np. u Greków, Rzymian czy w okresie rozkwitu średniowiecza, istotą pełną wdzięku, powabu i czar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x Scheler, O rehabilitacji cnoty, „Biblioteka Marchołta” nr 3, Instytut Literacki, Warszawa 19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250920" y="89532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ceron, O państwie; O prawach, Wydawnictwo Antyk, Kęty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ługosz J., Roczniki czyli kroniki sławnego Królestwa Polskiego. Księga I-XII: do 1480 roku, Wydawnictwo Naukowe PWN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ycz Modrzewski A., O poprawie Rzeczypospolitej, http://wolnelektury.pl/katalog/lektura/o-poprawie-rzeczypospolitej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bert Z, 89 wierszy, Wydawnictwo a5, Kraków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nas Cz., Barok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Odprawa posłów greckich, http://wolnelektury.pl/katalog/lektura/odprawa-poslow-greckich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Pieśni, http://wolnelektury.pl/katalog/lektura/pies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owski W., Utwory poetyckie – wybór, Biblioteka Narodowa I 92, Zakład Narodowy im. Ossolińskich, Wrocław 19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Satyry, http://wolnelektury.pl/katalog/lektura/satyry-czesc-pierwsz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eszczyński A., Dwie twarze Cyceron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yborcza.pl/1,104173,7601016,Dwie_twarze_Cycerona.html?as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250920" y="105264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kiewicz H., Pozytywizm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łosz Cz., Historia literatury polskiej, Wydawnictwo ZNAK, Kraków 199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zeszkowa E., Patryotyzm i kosmopolityzm: studyum społeczne, Wilno 18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cheler M., O rehabilitacji cnoty, „Biblioteka Marchołta” nr 3, Instytut Literacki, Warszawa 193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iwicka D., Romantyzm 1822-1863, Wydawnictwo Naukowe PWN, Warszawa 199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Kordian, http://wolnelektury.pl/katalog/lektura/kordian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Grób Agamemnona, http://wolnelektury.pl/katalog/lektura/grob-agamemno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Środa M., Etyka dla myślących, Czarna Ow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tczak T., Literatura Średniowiecza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iomek J., Literatura Odrodzenia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Ludzie bezdomni, http://wolnelektury.pl/katalog/lektura/ludzie-bezdom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Przedwiośnie, http://wolnelektury.pl/katalog/lektura/przedwiosnie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Sokrate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zdjęcie popiersia wykonanego w IV w p.n.e., znajdującego się w Muzeum Pio-Clementino, fot. Jastrow (Marie-Lan Nguyen), źródło: http://commons.wikimedia.org/wiki/File:Socrates_Pio-Clementino_Inv314.jpg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Jan Długo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rysunku Walerego Eljasza-Radzikowskiego, źródło: http://pl.wikipedia.org/wiki/Plik:Jan_Długosz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Jan Kochanows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grafiki Aleksandra Tadeusza Regulskiego, źródło: http://pl.wikipedia.org/wiki/Plik:Jan_Kochanowski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nota obywatelska w anty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tarożytnośc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a (areté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a jednym z podstawowych pojęć, bardzo szeroko rozumianym – człowiek cnotliwy m.in. miał silną osobowość, był konsekwentny, niezależny, samodzielny, roztropny, znał swoje możliwości; cnotę można było ćwiczyć pod okiem doświadczonego nauczyciel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noty obywatelskiej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 związek z funkcjonowaniem demokracji ateńskiej i rozwojem republiki rzymskiej –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civis romanu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owy obywatel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kładał dobro ojczyzny nad swoje własne, brał aktywny udział w życiu publicznym, był sprawiedliwy, odpowiedzialny, zdyscyplinowany, miał poczucie obowiązku; tak jak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bry żołnierz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też odważny, twardy, lojalny (akcenty militarystyczn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okrates (470-399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197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filozofem, który rozmawiając z ludźmi i zadając im pytania, skłaniał ich do zastanawiania się na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ażnymi w życiu wartośc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uświadamiał im ich niewiedzę; nie pozostawił po sobie żadnych pism; został skazany na śmierć za bezbożność i psucie młodzieży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raz 3" descr="Socrates_Pio-Clementino_Inv314.jpg"/>
          <p:cNvPicPr/>
          <p:nvPr/>
        </p:nvPicPr>
        <p:blipFill>
          <a:blip r:embed="rId1"/>
          <a:stretch/>
        </p:blipFill>
        <p:spPr>
          <a:xfrm>
            <a:off x="755640" y="3068640"/>
            <a:ext cx="2087640" cy="27957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3419640" y="3141720"/>
            <a:ext cx="46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okrates uważ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dstawą cnoty jest wied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c np. ktoś, kto wie, czym jest sprawiedliwość, jest sprawiedliw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y można się nauczyć, wytrwale nad sobą pracują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(ok. 427-347 p.n.e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197000"/>
            <a:ext cx="7993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en słynny grecki filozof trakt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ństwo jak organiz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dobrze funkcjonuje, jeśli jego poszczególne części podporządkują się potrzebom całości; był zwolennikiem uniformizacji obywateli w sferze zachowania, myśli, odczu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3" descr="rysunek1_T16_Platon_w_prezentacji.jpg"/>
          <p:cNvPicPr/>
          <p:nvPr/>
        </p:nvPicPr>
        <p:blipFill>
          <a:blip r:embed="rId1"/>
          <a:stretch/>
        </p:blipFill>
        <p:spPr>
          <a:xfrm>
            <a:off x="684360" y="2997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4"/>
          <p:cNvSpPr/>
          <p:nvPr/>
        </p:nvSpPr>
        <p:spPr>
          <a:xfrm>
            <a:off x="3348000" y="2924280"/>
            <a:ext cx="54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drębnił trzy części duszy człowieka i każdej przypisał  cnotę: części rozumnej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ądr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zęści impulsywnej (popę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części zmysłowej (pożą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miark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aby osiągnąć harmonię potrzebna jest jesz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rawiedliw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nadrzędna cnot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ystoteles (384-322 p.n.e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rystoteles za Stagi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traktował państwo jak organizm, ale podkreślał różnorodność jego części, które dzięki swojej niezależności i odmienności, współpracując ze sobą, tworzą harmonijną całoś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zwierzęciem politycznym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zn. jest z natury stworzony do życia w państwie i tylko we wspólnocie może być szczęśliw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cnotach trzeba się ćwiczyć – wytrwale nad  sobą pracując, podporządkowywać namiętności rozumowi, zgodnie z zasadą złotego środk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rek Tulliusz Cyceron (106-43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19700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ówca, filozof i polityk rzymski; ze względu na szczególne zasługi dla państwa był nazywan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jcem ojczyzny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daremnił spisek Katyliny, który chciał obalić republikę; został zamordowany na polecenie Marka Antoniusza, przeciwko któremu wygłosił czternaście mów (zwanych filipikami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tekstach (przede wszystkim w mowach) jako cnoty obywateli angażujących się w życie publiczne wymieniał m.in.: odwagę, męstwo, uczciwość, odpowiedzialność, wielkoduszność, sprawiedliwość, umiarkowanie, skromność, roztropność, powag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go zdaniem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rzystoi, aby Ojczyzna była nam droższa niż my sami sobi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Długosz (1415-1480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395280" y="1052640"/>
            <a:ext cx="57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wieczny kronikarz, histor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uchowny i dyplomata, był nauczycielem synów króla Kazimierza Jagiellończyka;  dzieło jego życia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Roczniki czyli kroniki sławnego Królestwa Polskiego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„Annales seu Cronicae incliti Regni Poloniae”) – w XII księgach opisał dzieje Polski od bajkowych początków do 1480 r., by unieśmiertelnić dzieje narodu i jego bohater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3" descr="Jan_Długosz.PNG"/>
          <p:cNvPicPr/>
          <p:nvPr/>
        </p:nvPicPr>
        <p:blipFill>
          <a:blip r:embed="rId1"/>
          <a:stretch/>
        </p:blipFill>
        <p:spPr>
          <a:xfrm>
            <a:off x="6372360" y="1052640"/>
            <a:ext cx="2257200" cy="300348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4"/>
          <p:cNvSpPr/>
          <p:nvPr/>
        </p:nvSpPr>
        <p:spPr>
          <a:xfrm>
            <a:off x="250920" y="4365720"/>
            <a:ext cx="8497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żdy tyle dłużen jest swojej Ojczyznie, na ile go stać przy jego zdolnościach i siłach. Za ostatniego taki ma być uważanym, który jej jakimkolwiek upominkiem nie poczci i nie wspomo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tat z dedykacji do „Roczników…” adresowanej w hołdzie pozgonnym do Zbigniewa Oleśnickiego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drzej Frycz Modrzewski (1503-157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250920" y="119700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rozprawy 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 poprawie Rzeczypospolitej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retorem i pisarzem politycznym oraz królewskim sekretarzem. Jego dzieło zostało umieszczone na indeksie ksiąg zakazanych – część dotycząca kościoła została uznana za heretyck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stul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ówność wobec praw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zystkich grup społecznych, opowiadał się za publicznym szkolnictwem i roztoczeniem przez państwo opieki nad ubogimi; uważał, że władza powinna kontrolować obywate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konyw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mowiedza i mądrość prowadzą do dobrego i uczciwego życi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złe obyczaje są tylko skutkiem niewiedzy, braku edukacji; powołując się na filozofów starożytnych zalecał ćwiczenie się w cnoc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Ania</cp:lastModifiedBy>
  <dcterms:modified xsi:type="dcterms:W3CDTF">2013-04-10T10:42:41Z</dcterms:modified>
  <cp:revision>380</cp:revision>
  <dc:subject/>
  <dc:title>Slajd 1</dc:title>
</cp:coreProperties>
</file>