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43DE-C7C0-4525-BA2D-C789167D807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46CE-2557-4447-8CEB-3219802A7E8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A6CA-0201-49B9-B59B-68BC39B68B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357-FF16-4981-8E86-5D41BA22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D22-E1F2-4927-912D-B4790753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653-C36D-4DAD-ADD5-60212ADE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02E-9F4C-42AA-B283-792CD407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FE9E-AEA1-4913-A7FD-043B0E0B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D155-0D03-414E-B89B-D5DB9995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B89F-DF05-43C5-B460-07A51DB8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4B98-34D4-44E4-88C6-B1F209C2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54B1-77DD-481C-B66C-6A945F96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350F-8CA8-41CB-A5F9-BD201E7F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BB07-CD8F-456F-9445-44DFD801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607-E256-4A79-8580-2DD33995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2F4C-C3DF-4595-82D3-151DD4FA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7C0F-9ACB-4FE4-A09E-642A9DAF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3D80-944A-4CD7-869A-B7A62522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14DE-BEFD-4C25-B1B8-2A5D4EE9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8424-C05D-4C44-9A2B-302FE3C2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C54-4931-47BE-B180-94C2057E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738-A91F-4F27-99F0-2CE0DCEB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026-9729-4F4B-919B-2475D92C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FC6-BAE5-45A1-B0A8-623E2D5B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255A-25BE-4E88-835F-F5AA53C8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7D8-A56F-4861-BEDB-538FE8E3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8634-ADF1-423B-A269-0760290C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DCA9-3D8B-419E-90D4-B94D0D0CB4B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1DD1-A6A8-4F1A-AF4A-8E9DB2B55BB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Pi&#322;sudski_16.JPG" TargetMode="External"/><Relationship Id="rId2" Type="http://schemas.openxmlformats.org/officeDocument/2006/relationships/hyperlink" Target="http://pl.wikipedia.org/wiki/Plik:Wladyslaw_Anders.jpg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zór obywatela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ęść I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rena Sendlerowa (1910-200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00720" y="1299600"/>
            <a:ext cx="4319280" cy="47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 czasie II wojny światowej jako pracowniczka ośrodka pomocy społecznej miała przepustkę do warszawskiego getta, skąd wyprowadziła i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uratowała od śmierci ponad 2,5 tysiąca dzieci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. Umieszczała je w polskich przybranych rodzinach, domach dziecka i u sióstr zakonnych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  1943 r. Gestapo aresztowało ją za tę działalność,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była torturowana i skazano ją na śmierć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. Rada Pomocy Żydom „Żegota” zdołała ją uratować, więc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z ukrycia nadal pracowała nad ratowaniem żydowskich dzieci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. Po wojnie doświadczyła niemal tak samo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ciężkich prześladowań ze strony komunistycznego Urzędu Bezpieczeństwa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6" descr="Irena_Sendlerowa_1942"/>
          <p:cNvPicPr/>
          <p:nvPr/>
        </p:nvPicPr>
        <p:blipFill>
          <a:blip r:embed="rId1"/>
          <a:stretch/>
        </p:blipFill>
        <p:spPr>
          <a:xfrm>
            <a:off x="684360" y="1197000"/>
            <a:ext cx="3605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 dawne wzorce przystają do współczesnośc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611280" y="170028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1946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f. Maria Ossowska w artykule „Wzór obywatela w ustroj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mokratycznym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mieniła i opisała następując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noty obywatelsk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ole tekstowe 5" descr=""/>
          <p:cNvPicPr/>
          <p:nvPr/>
        </p:nvPicPr>
        <p:blipFill>
          <a:blip r:embed="rId1"/>
          <a:stretch/>
        </p:blipFill>
        <p:spPr>
          <a:xfrm>
            <a:off x="615960" y="2779560"/>
            <a:ext cx="82170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agrody im. Jana Rodowicza „Anody”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Anoda"/>
          <p:cNvPicPr/>
          <p:nvPr/>
        </p:nvPicPr>
        <p:blipFill>
          <a:blip r:embed="rId1"/>
          <a:stretch/>
        </p:blipFill>
        <p:spPr>
          <a:xfrm>
            <a:off x="539640" y="1341360"/>
            <a:ext cx="2592360" cy="3289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3471840" y="1268280"/>
            <a:ext cx="50608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rucznik Jan Rodowicz „Anoda” uczestniczył w akcjach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ałego Sabotażu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a p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kcji pod Arsenał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ostał odznaczony Krzyżem Walecznych. Podczas Powstania Warszawskiego walczył na Woli, gdzie został ciężko ranny. W 1945 r. ujawnił się i zaczął studiować architekturę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rzy lata później, w Wigilię, został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resztowany  przez Urząd Bezpieczeństw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Dwa tygodnie później zmarł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męczony w śledztw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Według oficjaln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ersji – popełnił samobójstw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11280" y="4869000"/>
            <a:ext cx="8136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agroda im. Jana Rodowicza „Anody” została ustanowiona przez Muzeum Powstania Warszawskiego.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ą nią wyróżnian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„powstańcy” czasu pokoju – ludzie, którzy nie muszą walczyć o podstawowe wartości z bronią w ręku, ale wcielają je w życ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Laureaci ostatniej edy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4"/>
          <p:cNvSpPr/>
          <p:nvPr/>
        </p:nvSpPr>
        <p:spPr>
          <a:xfrm>
            <a:off x="3059280" y="981000"/>
            <a:ext cx="568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755640" y="1052640"/>
            <a:ext cx="7848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Co roku członkowie Kapituły Nagrody wyróżniają laureatów w dwóch kategoriach: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 całokształt dokonań i postawę życiową, która stanowi wzór do naśladowania dla młodych ludzi oraz za wyjątkowy czyn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 1. kategorii w nagrodzona została Natalia Syniavska-Krzyżanowsk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która urodziła się w Raszkowie – wiosce w Republice Naddniestrzańskiej, części Mołdawii odizolowanej od Europy. Od wielu lat w bardzo trudnych warunkach polityczno-administracyjnych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ziała na rzecz ochrony polskości na obczyźn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 2. kategorii nagrodzono mieszkańców wsi Chałupki składającej się z 14 domów.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Gdy 3 marca 2012 r. dwa pociągi zderzyły się ze sobą w pobliżu Szczekocin koło Zawiercia (w woj. śląskim) mieszkańcy Chałupek dotarli na miejsce jako pierwsi przed służbami ratunkowymi. Wyciągali ludzi ze zmiażdżonych wagonów, dodawali otuchy, przynosili koce i ciepłą herbatę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pkultura jako nośnik wzorców zachowań obywatelski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4"/>
          <p:cNvSpPr/>
          <p:nvPr/>
        </p:nvSpPr>
        <p:spPr>
          <a:xfrm>
            <a:off x="468360" y="1989000"/>
            <a:ext cx="8136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obrym przykładem jest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erial „Czas honoru” nadawany od 2008 r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, który bardzo szybko podbił serca polskich widzów (średnio każdy odcinek oglądało ok. 2,5 miliona osób). Serial opowiada o losach Janka, Bronka, Władka i Michała – jest inspirowany historią polskich dywersantów, którzy podczas II wojny światowej byli szkoleni w Anglii, by wrócić do Polski i w konspiracji walczyć o niepodległość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idza urzekają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nadczasowe wartości, jakimi kierują się bohaterowie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tórym wybuch wojny przekreślił większość życiowych planów i szans na szczęście osobiste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ą oni zaangażowani i oddani sprawie walki o ojczyznę, współpracują ze sobą, mogą na sobie polegać, są szczerzy, niezawodni, zdolni do poświęceń, bezkompromisowi, odważn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4"/>
          <p:cNvSpPr/>
          <p:nvPr/>
        </p:nvSpPr>
        <p:spPr>
          <a:xfrm>
            <a:off x="250920" y="1052640"/>
            <a:ext cx="8713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50920" y="1268280"/>
            <a:ext cx="8569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erberyusz E., Władysław Anders. Życie po Monte Cassino, Agora, Warszawa 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amiński A., Kamienie na szaniec, Nasza Księgarnia, Warszawa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arski J., Tajne Państwo, Wydawnictwo Rosner i Wspólnicy, Warszawa 20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unicki K., Ławecki T., Ochowiak L., Piłsudski. Burzliwe życie w niespokojnych czasach, Carta Blanca, Warszawa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ieszkowska A., Dzieci Ireny Sendlerowej, Wydawnictwo Muza, Warszawa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owak-Jeziorański J., Kurier z Warszawy, Znak, Kraków 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ssowska M., Wzór obywatela w ustroju demokratycznym, Zarząd Główny Towarzystwa Uniwersytetu Robotniczego, Warszawa 194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achowicz B., Rudy, Alek, Zośka – Gawęda o Bohaterach „Kamieni na szaniec”, Rytm, Warszawa 20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3"/>
          <p:cNvSpPr/>
          <p:nvPr/>
        </p:nvSpPr>
        <p:spPr>
          <a:xfrm>
            <a:off x="684360" y="1197000"/>
            <a:ext cx="79912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Józef Piłsudski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ódło: Wikimedia Commons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ommons.wikimedia.org/wiki/File:Pi%C5%82sudski_16.JPG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ładysław Anders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odło: Wikimedia Commons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Wladyslaw_Anders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omnik-ławeczka Jana Karskiego w Tel-Awiwie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r Avishai Teicher, źródło: Wikimedia Commons, http://pl.wikipedia.org/wiki/Plik:Jan_Karski_Statue_in_Tel_Aviv_University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Jan Nowak-Jeziorański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ódło: Wikimedia Commons, http://pl.wikipedia.org/wiki/Plik:Jan_nowak_jezioranski-1936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Tadeusz Zawadzki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ódło: Wikimedia Commons, http://pl.wikipedia.org/wiki/Plik:Tadeusz_Zawadzki_-_Zo%C5%9Bka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Irena Sendlerowa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ódło: Wikimedia Commons, http://pl.wikipedia.org/wiki/Plik:Irena_Sendlerowa_1942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Jan Rodowicz „Anoda”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ódło: Wikimedia Commons, http://pl.wikipedia.org/wiki/Plik:Anoda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611280" y="1484280"/>
            <a:ext cx="7561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ótkie przypomnienie zagadnień omawianych na poprzedniej lekcj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brane przykłady postaw obywatelskich w okresie II Rzeczpospolitej i II wojny światowej (Józef Piłsudski, Władysław Anders, Jan Karski, Jan Nowak-Jeziorański, Tadeusz Zawadzki „Zośka”, Irena Sendlerowa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y dawne wzorce pasują do współczesności?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groda im. Jana Rodowicza „Anody” i jej laureac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pkultura jako nośnik wzorców zachowań obywatelskich (serial „Czas honoru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ypomnienie zagadnień omawianych na poprzedniej lek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395280" y="1989000"/>
            <a:ext cx="8353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nota obywatelska w antyku – Sokrates, Platon, Arystoteles, Cyceron (civis romanu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cepcja wzorców antycznych w polskiej myśli politycznej, publicystyce, tradycji literackiej i edukacyjnej późniejszych epok – wybrane przykłady (Jan Długosz, Andrzej Frycz Modrzewski, Jan Kochanowski, Wespazjan Kochowski, Ignacy Krasicki, publicyści oświeceniowi, Juliusz Słowack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ór obywatela w romantyzmie i pozytywizm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nota „nieznośna w swoim uporze” (Stefan Żeromski, Zbigniew Herber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ykłady postaw obywatelskich (1918-194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le tekstowe 4"/>
          <p:cNvSpPr/>
          <p:nvPr/>
        </p:nvSpPr>
        <p:spPr>
          <a:xfrm>
            <a:off x="611280" y="184464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ózef Piłsud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dysław An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an Kar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an Nowak-Jeziorań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adeusz Zawadzki „Zośk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rena Sendlero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ózef Piłsudski (1867-193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611280" y="184464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Piłsudski_16"/>
          <p:cNvPicPr/>
          <p:nvPr/>
        </p:nvPicPr>
        <p:blipFill>
          <a:blip r:embed="rId1"/>
          <a:stretch/>
        </p:blipFill>
        <p:spPr>
          <a:xfrm>
            <a:off x="611280" y="1052640"/>
            <a:ext cx="3647880" cy="5127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767120" y="1152360"/>
            <a:ext cx="39816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mendant Legionów Polskich, pierwszy Marszałek Polski i dwukrotnie premier Polski, uważany za genialnego stratega i męża opatrznościowego narodu. 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chowany w duchu tradycyjnych wartości patriotycznych, stał się w dorosłym życiu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skonałym przywódcą i organizatore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Autorytetu dodawała mu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haryzma i wielkie oddanie sprawie polskiej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ładysław Anders (1892-197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Wladyslaw_Anders"/>
          <p:cNvPicPr/>
          <p:nvPr/>
        </p:nvPicPr>
        <p:blipFill>
          <a:blip r:embed="rId1"/>
          <a:stretch/>
        </p:blipFill>
        <p:spPr>
          <a:xfrm>
            <a:off x="611280" y="1341360"/>
            <a:ext cx="3389400" cy="439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335480" y="1368360"/>
            <a:ext cx="40528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czelny Wódz Polskich Sił Zbrojnych (w latach 1944-1945) i następca Prezydenta RP (w latach 1950-1954). Zwycięski wódz walk spod Monte Cassino – czerwone maki i biały koń, na którym jeździł generał weszły na zawsze do pamięci zbiorowej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nders słynął nie tylko z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święcenia w imię najwyższych idei, patriotyzmu i odwag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ale też z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troski o swoich podwładnych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Organizował polskie szkoły i kursy zawodow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n Karski (1914-200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4"/>
          <p:cNvSpPr/>
          <p:nvPr/>
        </p:nvSpPr>
        <p:spPr>
          <a:xfrm>
            <a:off x="611280" y="184464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00000" y="119700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003640" y="1268280"/>
            <a:ext cx="34560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d 1939 r. był kurierem i emisariuszem władz Polskiego Państwa Podziemnego. Jesienią 1942 r. pojechał do Wielkiej Brytanii z najważniejszą w swoim życiu misją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jako naoczny świadek zdał relację z eksterminacji Żydów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a także przekazał szczegółowe informacje o działaniu Państwa Podziemnego w Polsc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1" descr="Plik:Jan Karski Statue in Tel Aviv University.jpg"/>
          <p:cNvPicPr/>
          <p:nvPr/>
        </p:nvPicPr>
        <p:blipFill>
          <a:blip r:embed="rId1"/>
          <a:stretch/>
        </p:blipFill>
        <p:spPr>
          <a:xfrm>
            <a:off x="468360" y="1268280"/>
            <a:ext cx="4416480" cy="3313080"/>
          </a:xfrm>
          <a:prstGeom prst="rect">
            <a:avLst/>
          </a:prstGeom>
          <a:ln w="0">
            <a:noFill/>
          </a:ln>
        </p:spPr>
      </p:pic>
      <p:sp>
        <p:nvSpPr>
          <p:cNvPr id="115" name="pole tekstowe 8"/>
          <p:cNvSpPr/>
          <p:nvPr/>
        </p:nvSpPr>
        <p:spPr>
          <a:xfrm>
            <a:off x="611280" y="4869000"/>
            <a:ext cx="78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 podstawie relacji Karskiego i przywiezionych przez niego mikrofilmów, rząd Sikorskiego przygotował i przedstawił aliantom raport o Holokauśc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ole tekstowe 2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n Nowak-Jeziorański (1914-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4"/>
          <p:cNvSpPr/>
          <p:nvPr/>
        </p:nvSpPr>
        <p:spPr>
          <a:xfrm>
            <a:off x="611280" y="184464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Jan_nowak_jezioranski-1936"/>
          <p:cNvPicPr/>
          <p:nvPr/>
        </p:nvPicPr>
        <p:blipFill>
          <a:blip r:embed="rId1"/>
          <a:stretch/>
        </p:blipFill>
        <p:spPr>
          <a:xfrm>
            <a:off x="684360" y="1413000"/>
            <a:ext cx="3195360" cy="4680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284720" y="1268280"/>
            <a:ext cx="424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 udanej misji kurierskiej do Sztokholmu, powierzono mu w 1943 r. bardzo odpowiedzialne zadanie – jak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emisariusz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miał dotrzeć do rządu RP w Londynie. W Anglii spotkał się nie tylko z rządem polskim, ale także z władzami brytyjskimi, w tym z premierem Winstonem Churchillem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1944 r., w przeddzień kapitulacji Powstania Warszawskiego, na rozkaz komendanta Armii Krajowej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ywiózł do Londynu setki zdjęć i dokumentów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Jego misje sprawiły, że zyskał przydomek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„Kurier z Warszawy”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333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adeusz Zawadzki „Zośka” (1921-194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4"/>
          <p:cNvSpPr/>
          <p:nvPr/>
        </p:nvSpPr>
        <p:spPr>
          <a:xfrm>
            <a:off x="611280" y="184464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Tadeusz_Zawadzki-Zoska-scan"/>
          <p:cNvPicPr/>
          <p:nvPr/>
        </p:nvPicPr>
        <p:blipFill>
          <a:blip r:embed="rId1"/>
          <a:stretch/>
        </p:blipFill>
        <p:spPr>
          <a:xfrm>
            <a:off x="684360" y="1628640"/>
            <a:ext cx="3398760" cy="4824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4716360" y="1557360"/>
            <a:ext cx="39798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adeusz – harcmistrz i podporucznik Armii Krajowej – był bardz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angażowany w akcję Małego Sabotażu.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 największą liczbę kotwic namalowanych na murach w swojej dzielnicy, otrzymał honorowy pseudonim „Kotwicki”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26 marca 1943 r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wodził grupą „Atak” w Akcji pod Arsenał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podczas niej udało się odbić z rąk Gestapo 25 więźniów, w tym jego przyjaciela – Jana Bytnara „Rudego”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iwona</cp:lastModifiedBy>
  <dcterms:modified xsi:type="dcterms:W3CDTF">2013-08-26T18:33:08Z</dcterms:modified>
  <cp:revision>97</cp:revision>
  <dc:subject/>
  <dc:title>Slajd 1</dc:title>
</cp:coreProperties>
</file>