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0D58-11A9-4F51-BEEB-6F28DAF8F9B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B9DF-57C8-4611-8993-4418DF7868A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FFEE-C64E-49B9-AB2D-B4B9445643B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FDBA-399A-4E35-92FA-6B7081934A1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15C-7CFB-490A-BCC4-5792404C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B06-B896-4C77-8361-81705D86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6DD-4719-4FBB-B651-9E591785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159-8F51-4143-8C00-339EC4C6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F8F0-A837-4D97-BCE7-0AA8E2EA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62D3-144F-41B3-871E-AAF3B9BA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F3A0-4061-4F14-8F7C-61E2D74C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0309-3325-473E-B167-F5CF130C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E8D5-9BCE-4007-982E-C4C6F2BB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92C6-13DE-466B-A2F1-92283997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7096-D5A9-4B46-AD6D-F58B9C0F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7B3-0AF3-4221-BCA0-0FC79AC6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9223-5115-4F56-913A-0A64AA62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4505-313E-49C5-8A10-9304A5A7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0206-CB21-4BD1-85C3-2A5D9EEA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1197-2047-4F1B-98E1-31234BEA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6501-29D7-4293-A451-A8423FDD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AD2-611D-4034-BBB1-038C966F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25A-B0FF-4D48-955A-C7FD83CC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EF2-F9B6-4145-A1AC-3B2F14EA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193-D22E-4B61-A3AF-A012A97C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582-D001-4196-A625-551156A6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F99-0D6A-43B4-852A-E0EE11B8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60D-33B7-4315-893F-92A31BAF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2E16-2C50-49FD-8F10-AB9C6C97E5A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AAC6-CB93-41D8-83D3-DE414AEC9C7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rzeglad-tygodnik.pl/pl/artykul/ile-kosztuje-panstwo-opiekuncze-rozmowa-prof-joakimem-palmem" TargetMode="External"/><Relationship Id="rId2" Type="http://schemas.openxmlformats.org/officeDocument/2006/relationships/hyperlink" Target="http://www.nowapolitologia.pl/" TargetMode="External"/><Relationship Id="rId3" Type="http://schemas.openxmlformats.org/officeDocument/2006/relationships/hyperlink" Target="http://www.nowapolitologia.pl/politologia/systemy-polityczne/szwedzki-model-panstwa-opiekunczego" TargetMode="External"/><Relationship Id="rId4" Type="http://schemas.openxmlformats.org/officeDocument/2006/relationships/hyperlink" Target="http://www.polityka.pl/spoleczenstwo/artykuly/1517622,1,rozmowa-maciejem-zaremba-bielawskim.read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ym jest państwo opiekuńcz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rgumenty przeciw państwu opiekuńczem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3"/>
          <p:cNvSpPr/>
          <p:nvPr/>
        </p:nvSpPr>
        <p:spPr>
          <a:xfrm>
            <a:off x="539640" y="1700280"/>
            <a:ext cx="7201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konomiczn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większe wydatki państwa na cele socjalne oznaczają konieczność podwyższania podatków i spowolnienie wzrostu gospodarczeg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lityczn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aństwo za mocno wkracza w życie prywatne obywateli, ingeruje np. w wychowanie dzieci; nadmiernie rozbudza też oczekiwania ludzi i choć ze względu na kondycję gospodarki szczodra pomoc socjalna powinna być ograniczona,  politycy nie są gotowi tego zrobić, bo takie działania nie przysparzają popularnośc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ołeczno-kulturow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taki system zmniejsza samodzielność i odpowiedzialność jednostek za własne funkcjonowanie, uzależnia i uczy przyjmowania postaw roszczeniow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az 3" descr="pan4.jpg"/>
          <p:cNvPicPr/>
          <p:nvPr/>
        </p:nvPicPr>
        <p:blipFill>
          <a:blip r:embed="rId1"/>
          <a:stretch/>
        </p:blipFill>
        <p:spPr>
          <a:xfrm>
            <a:off x="7529400" y="836640"/>
            <a:ext cx="1614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la III sektora w świadczeniu usług społecz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3"/>
          <p:cNvSpPr/>
          <p:nvPr/>
        </p:nvSpPr>
        <p:spPr>
          <a:xfrm>
            <a:off x="395280" y="206064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II sektor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o organizacje (przede wszystki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owarzyszenia i fundacj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 , które nie są nastawione na zysk i nie są elementem struktury państwa – nazywamy j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zarządowym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(ang. non-governmental organizat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że dostarczać wysokiej jakości usług, przede wszystkim socjalnych (np. zdrowotnych) i publicznych (np. edukacyjnych) – zwykl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ziała przy tym taniej i sprawniej, niż administracja publiczn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arcza usług i dóbr, których nie dostarcza wolny rynek, poniewa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 przynoszą one korzyści biznesowych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chodzi np. o usługi dla osób bezdomnych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 państwo opiekuńcze jest sprawiedliw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3"/>
          <p:cNvSpPr/>
          <p:nvPr/>
        </p:nvSpPr>
        <p:spPr>
          <a:xfrm>
            <a:off x="3708360" y="2637000"/>
            <a:ext cx="48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prawiedliwość społeczną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a się pogodzić z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fektywnością ekonomiczną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az 4" descr="pani.jpg"/>
          <p:cNvPicPr/>
          <p:nvPr/>
        </p:nvPicPr>
        <p:blipFill>
          <a:blip r:embed="rId1"/>
          <a:stretch/>
        </p:blipFill>
        <p:spPr>
          <a:xfrm>
            <a:off x="0" y="1628640"/>
            <a:ext cx="3798720" cy="2664000"/>
          </a:xfrm>
          <a:prstGeom prst="rect">
            <a:avLst/>
          </a:prstGeom>
          <a:ln w="0">
            <a:noFill/>
          </a:ln>
        </p:spPr>
      </p:pic>
      <p:sp>
        <p:nvSpPr>
          <p:cNvPr id="128" name="Dowolny kształt 6"/>
          <p:cNvSpPr/>
          <p:nvPr/>
        </p:nvSpPr>
        <p:spPr>
          <a:xfrm>
            <a:off x="3774960" y="1773360"/>
            <a:ext cx="5369040" cy="185760"/>
          </a:xfrm>
          <a:custGeom>
            <a:avLst/>
            <a:gdLst/>
            <a:ahLst/>
            <a:rect l="l" t="t" r="r" b="b"/>
            <a:pathLst>
              <a:path w="5747657" h="224246">
                <a:moveTo>
                  <a:pt x="0" y="224246"/>
                </a:moveTo>
                <a:lnTo>
                  <a:pt x="2991394" y="198120"/>
                </a:lnTo>
                <a:cubicBezTo>
                  <a:pt x="3884023" y="165463"/>
                  <a:pt x="4963885" y="56606"/>
                  <a:pt x="5355771" y="28303"/>
                </a:cubicBezTo>
                <a:cubicBezTo>
                  <a:pt x="5747657" y="0"/>
                  <a:pt x="5342708" y="28303"/>
                  <a:pt x="5342708" y="28303"/>
                </a:cubicBezTo>
                <a:lnTo>
                  <a:pt x="5342708" y="28303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Elementy państwa opiekuńczego w polskich reali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3"/>
          <p:cNvSpPr/>
          <p:nvPr/>
        </p:nvSpPr>
        <p:spPr>
          <a:xfrm>
            <a:off x="395280" y="1844640"/>
            <a:ext cx="8353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a socjalne obywateli są opisane w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Konstytucji RP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w artykułach od 65 do 76 oraz w nawiązujących do nich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ustawach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znajdujemy zobowiązania państwa m.in. dotycząc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walcza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bezroboci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gwarantowania obywatelowi płacy minimalnej, dni wolnych od pracy, płatnego urlopu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pewnienia obywatelow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bezpieczenia społecznego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sytuacji, gdy ten stracił pracę nie ze swojej winy albo nie może pracować z powodu choroby czy inwalidztw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pewnienia równego dostępu d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pieki zdrowotnej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finansowanej ze środków publicznyc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a d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bezpłatnej nauk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szkołach publicznyc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eciwdziała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bezdomnośc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wspierania rozwoju budownictwa socjalnego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zczególnej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hrony praw dziecka, matek, rodzin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zwłaszcza wielodzietnych i niepełnych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3"/>
          <p:cNvSpPr/>
          <p:nvPr/>
        </p:nvSpPr>
        <p:spPr>
          <a:xfrm>
            <a:off x="179280" y="981000"/>
            <a:ext cx="87854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Jodkowska L., Państwo opiekuńcze w Polsce i w Niemczech, Wydawnictwo Difin, Warszawa 2009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Kapiszewski J., Ile kosztuje państwo opiekuńcze  - rozmowa z prof. Joakimem Palmem, wywiad na stronie tygodnika Przegląd, </a:t>
            </a: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przeglad-tygodnik.pl/pl/artykul/ile-kosztuje-panstwo-opiekuncze-rozmowa-prof-joakimem-palmem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Lieder W., Szwedzki model państwa opiekuńczego, artykuł na portalu </a:t>
            </a: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nowapolitologia.pl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nowapolitologia.pl/politologia/systemy-polityczne/szwedzki-model-panstwa-opiekunczego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Morawski W., Socjologia ekonomiczna, Wydawnictwo Naukowe PWN, Warszawa 2001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Pytka R., Globalizacja – sprawiedliwość społeczna – efektywność ekonomiczna. Francuskie dylematy, Wydawnictwo Uniwersytetu Śląskiego, Katowice 2008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innicka E., Szwecja to Szwecja, Polska to Polska - wywiad z Maciejem Zarembą-Bielawskim na stronie tygodnia Polityka, </a:t>
            </a: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olityka.pl/spoleczenstwo/artykuly/1517622,1,rozmowa-maciejem-zaremba-bielawskim.read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Zawadzki S., Państwo o orientacji społecznej: geneza - doświadczenia - perspektywy, Scholar, Warszawa 199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Strona internetowa Ministerstwa Pracy i Polityki Społecznej, www.mpips.gov.p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Strona internetowa  www.ngo.pl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3"/>
          <p:cNvSpPr/>
          <p:nvPr/>
        </p:nvSpPr>
        <p:spPr>
          <a:xfrm>
            <a:off x="468360" y="1413000"/>
            <a:ext cx="8207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. Grafiki: parasol 1, parasol 2, parasol 3, parasol 4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rys. Agnieszka Żak-Biełowa , źródło: Przewodnik po dobrych pomysłach, wyd. Stowarzyszenie Dziennikarzy i Dokumentalistów Koncentrat, Warszawa 2009; grafiki udostępnione dzięki uprzejmości wydawcy, wyłącznie na użytek niniejszej prezentacj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. Flaga Niemiec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źródło: Wikimedia Commons, http://commons.wikimedia.org/wiki/File:Flag_of_Germany.sv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. Flaga Francj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źródło: Wikimedia Commons, http://pl.wikipedia.org/wiki/Plik:Flag_of_France.sv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4. Flaga Szwecj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źródło: Wikimedia Commons, http://pl.wikipedia.org/wiki/Plik:Flag_of_Sweden.sv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1557360"/>
            <a:ext cx="8353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jęcie państwa opiekuńczego i jego geneza (nazwa, założenia, cele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ypy i przykłady współczesnych państw opiekuńcz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sady działania państwa opiekuńczego na przykładzie Szwecji, Francji i Niemiec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gumenty przeciw welfare state (ocena zdolności przetrwania systemów opiekuńczych w czasach kryzysu i prosperity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la III sektora w świadczeniu usług społeczn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y państwo opiekuńcze jest sprawiedliw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lementy państwa opiekuńczego w polskich realia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Opiekuńczość, dobrobyt czy bezpieczeństwo socjal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3"/>
          <p:cNvSpPr/>
          <p:nvPr/>
        </p:nvSpPr>
        <p:spPr>
          <a:xfrm>
            <a:off x="179280" y="198900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olsce mówimy najczęściej 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ie opiekuńczym”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ub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ie dobrobytu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ale funkcjonują też określenia: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o pomocy społecznej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o o orientacji społecznej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państwo bezpieczeństwa socjalnego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Obraz 5" descr="pan2.jpg"/>
          <p:cNvPicPr/>
          <p:nvPr/>
        </p:nvPicPr>
        <p:blipFill>
          <a:blip r:embed="rId1"/>
          <a:stretch/>
        </p:blipFill>
        <p:spPr>
          <a:xfrm>
            <a:off x="6443640" y="3357720"/>
            <a:ext cx="2700360" cy="307944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6"/>
          <p:cNvSpPr/>
          <p:nvPr/>
        </p:nvSpPr>
        <p:spPr>
          <a:xfrm>
            <a:off x="179280" y="3716280"/>
            <a:ext cx="6408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mienione nazwy nawiązują d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ngielskieg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welfare stat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„państwo dobrobytu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rancuskieg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État-providenc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„państwo opatrznościowe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mieckieg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Sozialstaat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„państwo socjalne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aństwo opiekuńc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3"/>
          <p:cNvSpPr/>
          <p:nvPr/>
        </p:nvSpPr>
        <p:spPr>
          <a:xfrm>
            <a:off x="2700360" y="1341360"/>
            <a:ext cx="611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stawą jest założenie, ż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aństwo nie może ignorować problemów społeczny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np. biedy czy bezrobocia) i ma podejmować działania zabezpieczające obywateli przed negatywnymi skutkami funkcjonowania wolnego rynk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az 4" descr="pan3.jpg"/>
          <p:cNvPicPr/>
          <p:nvPr/>
        </p:nvPicPr>
        <p:blipFill>
          <a:blip r:embed="rId1"/>
          <a:stretch/>
        </p:blipFill>
        <p:spPr>
          <a:xfrm>
            <a:off x="324000" y="1484280"/>
            <a:ext cx="2124000" cy="209700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6"/>
          <p:cNvSpPr/>
          <p:nvPr/>
        </p:nvSpPr>
        <p:spPr>
          <a:xfrm>
            <a:off x="539640" y="414972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aństwo bierze na siebie prawa socjalne obywatel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nieważ oni sami (ani ich rodziny, sąsiedzi czy gmina) nie są w stanie zaspokoić swoich potrzeb i potrzebna jest im pomoc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ele kapitalistycznego państwa dobrobyt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3"/>
          <p:cNvSpPr/>
          <p:nvPr/>
        </p:nvSpPr>
        <p:spPr>
          <a:xfrm>
            <a:off x="468360" y="1916280"/>
            <a:ext cx="8136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gwarantowanie jednostkom i rodzinom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inimum dochod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bez względu na rynkową wartość ich własnośc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mniejszenie niepewn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umożliwienie jednostkom i rodzinom pokonywania takich przeszkód jak, choroba, starość, bezrobocie, które mogłoby prowadzić do kryzys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pewnienie wszystkim obywatelom, bez względu na ich status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ajlepszych standardów życ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Gough I., Welfare State, cyt. za: Morawski W., Socjologia ekonomiczna, Wydawnictwo Naukowe PWN, Warszawa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rzy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y welfare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3"/>
          <p:cNvSpPr/>
          <p:nvPr/>
        </p:nvSpPr>
        <p:spPr>
          <a:xfrm>
            <a:off x="395280" y="1197000"/>
            <a:ext cx="849780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liberalne (np. USA, Kanada, Australia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omoc socjalna jest niewielka i skierowana tylko do najuboższych;  osoby, które z niej korzystają są postrzegane jako „nieudacznicy”, którzy nie radzą sobie z wyzwaniami uznawanymi za „normalne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nserwatywne (np. Niemcy, Austria, Francja, Włochy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wychodzi z założenia, że rodzina, gmina czy parafia nie są w stanie sprostać niektórym zadaniom, np. opiece nad dzieckiem, gdy matka postanawia podjąć pracę; państwo jest więc instytucją pomocnicz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ocjaldemokratyczne (np. kraje skandynawskie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aństwo bierze na siebie zapewnienie wyższych standardów i wspiera nie tylko najuboższych, ale też klasę średnią; państwo bierze też na siebie odpowiedzialność za dzieci, ludzi starych, biednych, bezbronnych;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Esping-Andersen G., The Three Worlds of Welfare Capitalism, cyt. za: Morawski W., Socjologia ekonomiczna, Wydawnictwo Naukowe PWN, Warszawa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iem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3"/>
          <p:cNvSpPr/>
          <p:nvPr/>
        </p:nvSpPr>
        <p:spPr>
          <a:xfrm>
            <a:off x="324000" y="1557360"/>
            <a:ext cx="85690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już kanclerz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tto von Bismarck prowadził aktywną politykę społeczną (k. XIX w.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becnie system obejmuj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ubezpieczeni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chorobowe, emerytalne, wypadkowe, pielęgnacyjne i ubezpieczenie na wypadek bezrobocia; z podatków finansowane są takż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siłk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dla bezrobotnych, zasiłki rodzicielskie i rodzinn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łużba zdrowi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jest w dużej mierze prywatna i droga, ale powszechnie dostępna dzięki ubezpieczeniom chorobowym i kasom chorych, które refundują koszty leczeni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lityka rodzin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bejmuje płatny urlop macierzyński i pieniądze na wyprawkę dla dziecka (odpowiednik „becikowego”); jeśli rodzic przerywa pracę, by opiekować się dzieckiem, otrzymuje przez rok zasiłek rodzicielski w wysokości 67 proc. ostatniego wynagrodzen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siłki dla bezrobotnych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wysokości 60 albo 67 proc. wynagrodzenia są wypłacane przez okres od 6 do nawet 32 miesięcy – jest to zależne od stażu pracy i wieku bezrobotneg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az 3" descr="Flag_of_Germany.svg.png"/>
          <p:cNvPicPr/>
          <p:nvPr/>
        </p:nvPicPr>
        <p:blipFill>
          <a:blip r:embed="rId1"/>
          <a:stretch/>
        </p:blipFill>
        <p:spPr>
          <a:xfrm>
            <a:off x="7236000" y="260280"/>
            <a:ext cx="16207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ran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3"/>
          <p:cNvSpPr/>
          <p:nvPr/>
        </p:nvSpPr>
        <p:spPr>
          <a:xfrm>
            <a:off x="250920" y="1628640"/>
            <a:ext cx="86421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ystem pomocy społecznej oparty n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sadzie subsydiarnośc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według niej państwo nie powinno zajmować się tym, co jednostka może osiągnąć sama dzięki własnej inicjatywi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świadczenia socjalne nie przysługują obywatelowi w sposób automatycz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gdy chce on uzyskać pomoc i spełnia jasno określone przez państwo kryteria, powinien zwrócić się do ośrodka pomocy, który sprawdza jego dochody i majątek, by ocenić właściwie jego potrzeby i możliwość ich samodzielnego zaspokojeni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lityka społeczna obejmuje wszystkich obywatel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zarówno pracownicy, jak i pracodawcy płacą obowiązkowe składki ubezpieczeniowe (funkcjonuje kasa ubezpieczenia zdrowotnego, kasa zasiłków rodzinnych i kasa zabezpieczenia na starość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ramach systemu emerytalnego minimalne świadczenie mają zapewnione wszystkie osoby, które ukończyły 65 lat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az 4" descr="Flag_of_France.svg.png"/>
          <p:cNvPicPr/>
          <p:nvPr/>
        </p:nvPicPr>
        <p:blipFill>
          <a:blip r:embed="rId1"/>
          <a:stretch/>
        </p:blipFill>
        <p:spPr>
          <a:xfrm>
            <a:off x="7380360" y="260280"/>
            <a:ext cx="14810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zwe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3"/>
          <p:cNvSpPr/>
          <p:nvPr/>
        </p:nvSpPr>
        <p:spPr>
          <a:xfrm>
            <a:off x="324000" y="1413000"/>
            <a:ext cx="8424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aństwo przeznacza obecnie na cele społeczn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7 proc. swojego PKB – najwięcej ze wszystkich krajów na świec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łużba zdrowia i emerytur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ą finansowane z podatków, a nie z dodatkowych ubezpieczeń społecznyc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bywatele Szwecji mogą liczyć n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wszechn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siłki rodzinn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datki mieszkaniowe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w wysokości niemal całego miesięcznego czynszu)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piekę lekarską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rehabilitację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az dodatki ułatwiające zmianę zamieszkania w związku z pracą;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jeśli ktoś nie może uzyskiwać dochodów z pracy, np. z powodu choroby, otrzymuje rentę albo emeryturę dodatkową, rentę albo emeryturę zawodową, zasiłek chorobowy albo zasiłek dla bezrobotnych (tak, by świadczenie było zbliżone wysokością do utraconych dochodów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ardzo prężnie działają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wiązki zawodow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do których należy 80 proc. pracujących – rygorystycznie pilnują praw pracowniczych i analizują wywiązywanie się pracodawców z zapisów zawartych w umowach o pracę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Obraz 4" descr="Flag_of_Sweden.svg.png"/>
          <p:cNvPicPr/>
          <p:nvPr/>
        </p:nvPicPr>
        <p:blipFill>
          <a:blip r:embed="rId1"/>
          <a:stretch/>
        </p:blipFill>
        <p:spPr>
          <a:xfrm>
            <a:off x="7308720" y="260280"/>
            <a:ext cx="154476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Redaktor</cp:lastModifiedBy>
  <dcterms:modified xsi:type="dcterms:W3CDTF">2013-05-12T17:40:16Z</dcterms:modified>
  <cp:revision>449</cp:revision>
  <dc:subject/>
  <dc:title>Slajd 1</dc:title>
</cp:coreProperties>
</file>