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1E8D-D889-432B-85B9-58D86D043FF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4E26-8DD3-4F4D-A517-78FC7B82195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26E5-8D95-4DC3-A87E-F07B3A66296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BDE0-7181-4D96-9DD8-0A878B8CB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C0EC-ABB6-4F1E-9263-B1D53A77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A0FD-61F9-4FED-B30E-9FF215CC5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4F4D-CA52-49B3-8DCC-30203B143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2BD3-7940-41D1-83D1-FF9D33A13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EF3D-5FF2-41C0-A534-7C7337C3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D6D8-9DF9-4D7C-A524-1B41EB64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68DB-3712-4FE2-B599-DF6BFE9B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0FFE-BFEA-424F-8E68-612F2EC1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7AC6-34C6-4128-9742-CEDD8D5B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513D-D3BB-442C-A2BF-1662AD49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E184-A590-4EBD-908E-26D39635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86FC-6183-4866-97B2-006D5880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7F12-3B28-4BD4-9801-F6C6B968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3E82-0717-4867-9643-6BAC824C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E7BC-1200-47D5-9A8A-1905ADAAB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6174-D9E3-4CD1-B557-9F0A2A3A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986A-5573-427A-ADD2-30AD6D21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9AA7-1672-40F8-8CA3-C8081DA2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E82A-9D40-434A-A162-43E274FB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33A2-D587-417F-9E65-B60A62A5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99EF-FCFD-4FDA-ACAD-5A9BBE6A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F710-7F83-4B5F-8A41-6D3C8CC6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9282-1850-4D58-9E94-89DE9F90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7C83-46BB-428A-B118-D3F0BD1FF046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7AE2-9631-4954-81BE-606CBC830043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presscafe.eu/archives/2252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ypracowania24.pl/historia/7005/feudalizm-drabina-feudalna-syste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historiaokiemucznia.pl.tl/Ustr%F3j-feudalny.ht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pl.wikipedia.org/wiki/Plik:Reeve_and_Serfs.jpg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upload.wikimedia.org/wikipedia/commons/thumb/a/a3/Sark-aerial.jpg/800px-Sark-aerial.jpg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pl.wikipedia.org/wiki/Plik:Flag_of_Sark.svg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Relikty świata feudalnego </a:t>
            </a:r>
            <a:br>
              <a:rPr sz="4900"/>
            </a:b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w późniejszych epokach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Bartosz Rzoń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y wiesz, ż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09520" y="1534680"/>
            <a:ext cx="692496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Na wyspie Sark zachowały się przykłady prawa średniowieczne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 Sarku wciąż formalnie istnieje (choć od dawna nie jest stosowana) instytucja "prawa pierwszej nocy" przysługująca seniorowi wysp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enior Sarku ma prawo egzekwować od każdego dzierżawcy posiadanie muszkietu na wypadek konieczności obrony wysp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ark jako ostatni kraj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Europie zrównał prawa kobiet i mężczyzn w zakresie dziedziczenia; wcześniej pierwszeństwo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dziedziczeniu mieli synowie (w 199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y w świecie polityki mamy jakieś elementy systemu feudalneg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D:\scenariusze lekcji do przetargu\do realizacji\Relikty swiata feudalnego\grafika\Rys_6_T07_9_polskie_partie.jpg"/>
          <p:cNvPicPr/>
          <p:nvPr/>
        </p:nvPicPr>
        <p:blipFill>
          <a:blip r:embed="rId1"/>
          <a:stretch/>
        </p:blipFill>
        <p:spPr>
          <a:xfrm>
            <a:off x="2112840" y="476280"/>
            <a:ext cx="4918320" cy="4917960"/>
          </a:xfrm>
          <a:prstGeom prst="rect">
            <a:avLst/>
          </a:prstGeom>
          <a:ln w="0">
            <a:noFill/>
          </a:ln>
        </p:spPr>
      </p:pic>
      <p:sp>
        <p:nvSpPr>
          <p:cNvPr id="129" name="pole tekstowe 3"/>
          <p:cNvSpPr/>
          <p:nvPr/>
        </p:nvSpPr>
        <p:spPr>
          <a:xfrm>
            <a:off x="2138040" y="5589720"/>
            <a:ext cx="192132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resscafe.eu/archives/225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 jak to wygląda dzisiaj?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amy pozostałości obyczajowości feudalnej w kulturze społecznej? 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ole tekstowe 5"/>
          <p:cNvSpPr/>
          <p:nvPr/>
        </p:nvSpPr>
        <p:spPr>
          <a:xfrm>
            <a:off x="4643280" y="4653000"/>
            <a:ext cx="324180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8 Kardynałowi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http://www.tokfm.pl/Tokfm/5,102433,13545992,Kardynalowie_w_bazylice__a_przed_nia_tlum_reporterow.html?i=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ole tekstowe 11"/>
          <p:cNvSpPr/>
          <p:nvPr/>
        </p:nvSpPr>
        <p:spPr>
          <a:xfrm>
            <a:off x="468360" y="4724280"/>
            <a:ext cx="3240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7 Sej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http://www.rzeszow4u.pl/polska/minister-sprawiedliwosci-nie-bedzie-prokuratorem-generalnym---sejm-odrzucil-weto-prezydenta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D:\scenariusze lekcji do przetargu\do realizacji\Relikty swiata feudalnego\grafika\Rys_7_T07_9_sejm.jpg"/>
          <p:cNvPicPr/>
          <p:nvPr/>
        </p:nvPicPr>
        <p:blipFill>
          <a:blip r:embed="rId1"/>
          <a:stretch/>
        </p:blipFill>
        <p:spPr>
          <a:xfrm>
            <a:off x="468360" y="2060640"/>
            <a:ext cx="3821040" cy="2547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D:\scenariusze lekcji do przetargu\do realizacji\Relikty swiata feudalnego\grafika\Rys_8_T07_9_kardynalowie.jpg"/>
          <p:cNvPicPr/>
          <p:nvPr/>
        </p:nvPicPr>
        <p:blipFill>
          <a:blip r:embed="rId2"/>
          <a:stretch/>
        </p:blipFill>
        <p:spPr>
          <a:xfrm>
            <a:off x="4811760" y="2060640"/>
            <a:ext cx="379872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D:\scenariusze lekcji do przetargu\do realizacji\Relikty swiata feudalnego\grafika\Rys_9_T07_9_Korporacja.jpg"/>
          <p:cNvPicPr/>
          <p:nvPr/>
        </p:nvPicPr>
        <p:blipFill>
          <a:blip r:embed="rId1"/>
          <a:stretch/>
        </p:blipFill>
        <p:spPr>
          <a:xfrm>
            <a:off x="539640" y="907920"/>
            <a:ext cx="4038840" cy="3767400"/>
          </a:xfrm>
          <a:prstGeom prst="rect">
            <a:avLst/>
          </a:prstGeom>
          <a:ln w="0">
            <a:noFill/>
          </a:ln>
        </p:spPr>
      </p:pic>
      <p:sp>
        <p:nvSpPr>
          <p:cNvPr id="136" name="pole tekstowe 5"/>
          <p:cNvSpPr/>
          <p:nvPr/>
        </p:nvSpPr>
        <p:spPr>
          <a:xfrm>
            <a:off x="480960" y="4797360"/>
            <a:ext cx="21574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9 Korporacj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http://www.zboku.pl/zdjecie,iId,36646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D:\scenariusze lekcji do przetargu\do realizacji\Relikty swiata feudalnego\grafika\Rys_10_T07_9_uczelnia.jpg"/>
          <p:cNvPicPr/>
          <p:nvPr/>
        </p:nvPicPr>
        <p:blipFill>
          <a:blip r:embed="rId2"/>
          <a:stretch/>
        </p:blipFill>
        <p:spPr>
          <a:xfrm>
            <a:off x="5003640" y="836640"/>
            <a:ext cx="3357720" cy="4525920"/>
          </a:xfrm>
          <a:prstGeom prst="rect">
            <a:avLst/>
          </a:prstGeom>
          <a:ln w="0">
            <a:noFill/>
          </a:ln>
        </p:spPr>
      </p:pic>
      <p:sp>
        <p:nvSpPr>
          <p:cNvPr id="138" name="pole tekstowe 7"/>
          <p:cNvSpPr/>
          <p:nvPr/>
        </p:nvSpPr>
        <p:spPr>
          <a:xfrm>
            <a:off x="4932360" y="5445000"/>
            <a:ext cx="396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0 Uczelni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Źródło: http://3obieg.pl/poradnik-dla-przyszlych-studentow-warszawskic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C:\Users\Bartek\Downloads\rodzina.jpg"/>
          <p:cNvPicPr/>
          <p:nvPr/>
        </p:nvPicPr>
        <p:blipFill>
          <a:blip r:embed="rId1"/>
          <a:stretch/>
        </p:blipFill>
        <p:spPr>
          <a:xfrm>
            <a:off x="1692360" y="620640"/>
            <a:ext cx="5715000" cy="4657680"/>
          </a:xfrm>
          <a:prstGeom prst="rect">
            <a:avLst/>
          </a:prstGeom>
          <a:ln w="0">
            <a:noFill/>
          </a:ln>
        </p:spPr>
      </p:pic>
      <p:sp>
        <p:nvSpPr>
          <p:cNvPr id="140" name="pole tekstowe 8"/>
          <p:cNvSpPr/>
          <p:nvPr/>
        </p:nvSpPr>
        <p:spPr>
          <a:xfrm>
            <a:off x="1707480" y="5589720"/>
            <a:ext cx="2326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1 Rodzin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http://sp2nowe.edupage.org/news/?zac=8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 w innych sferac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D:\scenariusze lekcji do przetargu\do realizacji\Relikty swiata feudalnego\grafika\Rys_12_T07_9_don_corleone.jpg"/>
          <p:cNvPicPr/>
          <p:nvPr/>
        </p:nvPicPr>
        <p:blipFill>
          <a:blip r:embed="rId1"/>
          <a:stretch/>
        </p:blipFill>
        <p:spPr>
          <a:xfrm>
            <a:off x="1332000" y="1700280"/>
            <a:ext cx="6302160" cy="42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http://www.youtube.com/watch?v=FetPfbmy4P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rótkie przypomnie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elikty feudalne w późniejszych epokach – „czy wiesz, że”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Świat polityki a prawa feudal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zisiejsza kultura społeczna a feudaliz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nne sfe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rótka powtór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Feudalizm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-  formacja społeczno-gospodarcza,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której dominowała wielka własność ziemska. Własność ziemi dawała władzę nad chłopami, którzy utrzymywali i dostarczali dochody swemu panu. Był to również ustrój prawny, oparty na więziach między seniorem i wasalem oraz nadaniu lenna. Dominował w Europie Zachodnie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D:\scenariusze lekcji do przetargu\do realizacji\Relikty swiata feudalnego\grafika\Rys_1_T07_9_danina.jpg"/>
          <p:cNvPicPr/>
          <p:nvPr/>
        </p:nvPicPr>
        <p:blipFill>
          <a:blip r:embed="rId1"/>
          <a:stretch/>
        </p:blipFill>
        <p:spPr>
          <a:xfrm>
            <a:off x="4648320" y="2516040"/>
            <a:ext cx="4038480" cy="2694240"/>
          </a:xfrm>
          <a:prstGeom prst="rect">
            <a:avLst/>
          </a:prstGeom>
          <a:ln w="0">
            <a:noFill/>
          </a:ln>
        </p:spPr>
      </p:pic>
      <p:sp>
        <p:nvSpPr>
          <p:cNvPr id="102" name="pole tekstowe 6"/>
          <p:cNvSpPr/>
          <p:nvPr/>
        </p:nvSpPr>
        <p:spPr>
          <a:xfrm>
            <a:off x="4600440" y="5300640"/>
            <a:ext cx="368460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ypracowania24.pl/historia/7005/feudalizm-drabina-feudalna-syste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rótka powtór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asal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- człowiek wolny, który przysięgał wierność człowiekowi możnemu- swojemu seniorowi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zamian otrzymywał opiekę i utrzymanie, najczęściej w formie nadania ziemi, zobowiązując się służyć seniorowi radą i pomocą wojskow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D:\scenariusze lekcji do przetargu\do realizacji\Relikty swiata feudalnego\grafika\Rys_2_T07_9_hold_lenny.jpg"/>
          <p:cNvPicPr/>
          <p:nvPr/>
        </p:nvPicPr>
        <p:blipFill>
          <a:blip r:embed="rId1"/>
          <a:stretch/>
        </p:blipFill>
        <p:spPr>
          <a:xfrm>
            <a:off x="457200" y="2475000"/>
            <a:ext cx="4038480" cy="2776320"/>
          </a:xfrm>
          <a:prstGeom prst="rect">
            <a:avLst/>
          </a:prstGeom>
          <a:ln w="0">
            <a:noFill/>
          </a:ln>
        </p:spPr>
      </p:pic>
      <p:sp>
        <p:nvSpPr>
          <p:cNvPr id="106" name="pole tekstowe 5"/>
          <p:cNvSpPr/>
          <p:nvPr/>
        </p:nvSpPr>
        <p:spPr>
          <a:xfrm>
            <a:off x="416880" y="5300640"/>
            <a:ext cx="278064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historiaokiemucznia.pl.tl/Ustr%F3j-feudalny.ht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rótka powtór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ddaństwo -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łożenie prawne i ekonomiczne chłopów w średniowieczu, wyrażające ich zależność od feudała. Poddani chłopi byli zobowiązani do prac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różnego rodzaju danin na rzecz pana, musieli uzyskać jego zgodę na zawarcie małżeństwa, mieli także ograniczona swobodę opuszczania gospodarst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D:\scenariusze lekcji do przetargu\do realizacji\Relikty swiata feudalnego\grafika\Rys_3_T07_9_poddani.jpg"/>
          <p:cNvPicPr/>
          <p:nvPr/>
        </p:nvPicPr>
        <p:blipFill>
          <a:blip r:embed="rId1"/>
          <a:stretch/>
        </p:blipFill>
        <p:spPr>
          <a:xfrm>
            <a:off x="4572000" y="2205000"/>
            <a:ext cx="3971880" cy="2289240"/>
          </a:xfrm>
          <a:prstGeom prst="rect">
            <a:avLst/>
          </a:prstGeom>
          <a:ln w="0">
            <a:noFill/>
          </a:ln>
        </p:spPr>
      </p:pic>
      <p:sp>
        <p:nvSpPr>
          <p:cNvPr id="110" name="pole tekstowe 5"/>
          <p:cNvSpPr/>
          <p:nvPr/>
        </p:nvSpPr>
        <p:spPr>
          <a:xfrm>
            <a:off x="4594680" y="4581360"/>
            <a:ext cx="271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l.wikipedia.org/wiki/Plik:Reeve_and_Serfs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y odnajdujemy relikty świata feudalnego w późniejszych epokac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y wiesz, ż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yspa Sark to </a:t>
            </a: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de facto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 feudalna monarchia dziedziczna pod władzą seniora, uznająca zwierzchność króla Angli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D:\scenariusze lekcji do przetargu\do realizacji\Relikty swiata feudalnego\grafika\Rys_4_T07_9wyspa_Sark.jpg"/>
          <p:cNvPicPr/>
          <p:nvPr/>
        </p:nvPicPr>
        <p:blipFill>
          <a:blip r:embed="rId1"/>
          <a:stretch/>
        </p:blipFill>
        <p:spPr>
          <a:xfrm>
            <a:off x="4572000" y="1700280"/>
            <a:ext cx="4037040" cy="2665440"/>
          </a:xfrm>
          <a:prstGeom prst="rect">
            <a:avLst/>
          </a:prstGeom>
          <a:ln w="0">
            <a:noFill/>
          </a:ln>
        </p:spPr>
      </p:pic>
      <p:sp>
        <p:nvSpPr>
          <p:cNvPr id="115" name="pole tekstowe 5"/>
          <p:cNvSpPr/>
          <p:nvPr/>
        </p:nvSpPr>
        <p:spPr>
          <a:xfrm>
            <a:off x="4472640" y="4437000"/>
            <a:ext cx="464004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4 Wyspa Sark z lotu ptak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upload.wikimedia.org/wikipedia/commons/thumb/a/a3/Sark-aerial.jpg/800px-Sark-aerial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Flaga Sark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D:\scenariusze lekcji do przetargu\do realizacji\Relikty swiata feudalnego\grafika\Rys_5_T07_9_Flaga_Sarku.png"/>
          <p:cNvPicPr/>
          <p:nvPr/>
        </p:nvPicPr>
        <p:blipFill>
          <a:blip r:embed="rId1"/>
          <a:stretch/>
        </p:blipFill>
        <p:spPr>
          <a:xfrm>
            <a:off x="1116000" y="1268280"/>
            <a:ext cx="6905520" cy="4143600"/>
          </a:xfrm>
          <a:prstGeom prst="rect">
            <a:avLst/>
          </a:prstGeom>
          <a:ln w="0">
            <a:noFill/>
          </a:ln>
        </p:spPr>
      </p:pic>
      <p:sp>
        <p:nvSpPr>
          <p:cNvPr id="118" name="pole tekstowe 8"/>
          <p:cNvSpPr/>
          <p:nvPr/>
        </p:nvSpPr>
        <p:spPr>
          <a:xfrm>
            <a:off x="1135440" y="5516640"/>
            <a:ext cx="256284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l.wikipedia.org/wiki/Plik:Flag_of_Sark.svg</a:t>
            </a: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y wiesz, ż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01880" y="1534680"/>
            <a:ext cx="71402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Na wyspie Sark zachowały się przykłady prawa średniowieczne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awo męża do wychłostania żo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średniowieczny zwyczaj 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Clameur de Haro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 który pozwala obywatelowi na zwołanie sądu do rozpatrzenia spraw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sytuacji, gdy uważa on, że jego prawa zostały narusz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ark, jako ostatni kraj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Europie zachodniej usunął karę śmierci ze swojego ustawodawstw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czasach pokoju (w 2004 r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Bartek</cp:lastModifiedBy>
  <dcterms:modified xsi:type="dcterms:W3CDTF">2013-06-12T19:59:16Z</dcterms:modified>
  <cp:revision>44</cp:revision>
  <dc:subject/>
  <dc:title>Slajd 1</dc:title>
</cp:coreProperties>
</file>