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B3BF-DDCA-42E6-8949-17083AA93FE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3FFC-6C62-4927-B3B6-EA011E31E86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ACA5-2A52-499B-BB8A-BF60C564C9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619D-0E84-4E95-AC8E-2F51C54DA2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B0D4-E1B5-4CF5-A7AC-0BE3D5E8F2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21C9-B2A8-4358-B510-03A387EDCE1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3CA4-5CE3-4D77-A12D-D792B8CF4B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4A74-CEDA-4082-B552-128199D2638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3825-674E-4EE0-B236-A3EA4E4D02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69FB-702B-454E-9DB0-1406740C2C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F4DF-FB1B-41A0-B381-8E486A7567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734C-3465-4030-97DE-988B67689C3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B280-8662-4875-B2D2-3740CCBDAC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D667-CBBB-4270-8764-587880B92FA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B7C5-F798-42AC-86D9-5266B2B8E05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65B1-39DF-4872-972E-1CB1DD82559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6CF8-55C5-4F8A-BF04-EDD8C1A010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53AB-D796-4CAF-9C93-ACBA2524BCC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DE40-D9D7-4DAE-B91B-90F693BA31A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073A-542F-4AAF-BA20-3CADF33AE38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D5E-8B4E-414A-A233-3647E827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B49-5878-4F1C-AA82-A7C7AFE9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D2D-D1F2-40F3-876B-D43ED164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7BD-8B04-4AB0-A02C-666D0BA0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8D8E-6D27-4B4C-B182-63ABD4F4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4084-B952-437D-A290-BCEF34B7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E442-D045-4BDF-8D2C-FE192D7C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ABA5-7DE5-4F3A-8109-7671EBCE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FB05-2F76-41E5-B5C8-F99E7972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77A4-24C6-43D4-A43E-D0DAB3CC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35E2-C1C9-431C-8D7A-B90B8C42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22A-3E59-4204-B33C-D215DD49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5590-D059-410C-A37E-37DA3F1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61AD-99AC-4032-8B55-45EF3C70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F4F2-5305-4C8B-BAFF-535FD383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BEBC-BC3F-4C09-BF3C-80B7B759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11A2-9E57-420F-878E-BD192131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A42-E9C0-4032-B95B-8B6100C8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289-82C5-40BF-9F71-318EB7E3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1FE-D2EE-416A-8FF6-B548A5E4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8EE-4CD6-47D9-A2F2-CAB6456D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10B-A30A-47AE-A819-F1CD779B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511-5163-43C7-8375-512D1118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C5C-356B-42F6-9056-B6A3C91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A408-42E6-49E9-A578-A6846BA8260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9006-249A-4D40-8676-4AB855E3B9A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uzeum.archidiecezja.wroc.pl/" TargetMode="External"/><Relationship Id="rId2" Type="http://schemas.openxmlformats.org/officeDocument/2006/relationships/hyperlink" Target="http://www.katedra.archidiecezja.wroc.pl/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upload.wikimedia.org/wikipedia/commons/2/22/Poland_Wroclaw_Cathedral_2007.jpg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Ratusz_wroclaw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waloryzacja.com/pracownia/projekty/bedzin_koncepcja/prezentacja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zamkipolskie.com/olsz/olsz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wawel.krakow.pl/pl/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gfx.mmka.pl/newsph/338316/525668.3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dziemiarynku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n.wroclaw.pl/przewodnik/sredniowieczeRzezbaKamienna.pdf" TargetMode="External"/><Relationship Id="rId2" Type="http://schemas.openxmlformats.org/officeDocument/2006/relationships/hyperlink" Target="http://mn.wroclaw.pl/przewodnik/sredniowieczeSala2.pdf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irtualne zwiedzani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5"/>
          <p:cNvSpPr/>
          <p:nvPr/>
        </p:nvSpPr>
        <p:spPr>
          <a:xfrm>
            <a:off x="324000" y="177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czego na Śląsku wyjątkowa była pozycja wrocławskiego biskup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ie znaczenie na ówczesnym Śląsku miała kultura niemiecka? Czy mogło być to przeszkodą w uzyskaniu tronu w Krako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m był Henryk IV Probu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 wygląda sarkofag Henryka Probusa? Czy książę został przedstawiony jako władca, czy jako rycerz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powiedzieć o przedmiotach codziennego użytku zgromadzonych na wysta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Archidiecezjalne, Kate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2"/>
          <p:cNvSpPr/>
          <p:nvPr/>
        </p:nvSpPr>
        <p:spPr>
          <a:xfrm>
            <a:off x="1403280" y="1700280"/>
            <a:ext cx="44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uzeum.archidiecezja.wroc.pl/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http://www.katedra.archidiecezja.wroc.pl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6"/>
          <p:cNvSpPr/>
          <p:nvPr/>
        </p:nvSpPr>
        <p:spPr>
          <a:xfrm>
            <a:off x="2850840" y="2565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http://upload.wikimedia.org/wikipedia/commons/2/22/Poland_Wroclaw_Cathedral_2007.jpg"/>
          <p:cNvPicPr/>
          <p:nvPr/>
        </p:nvPicPr>
        <p:blipFill>
          <a:blip r:embed="rId3"/>
          <a:stretch/>
        </p:blipFill>
        <p:spPr>
          <a:xfrm>
            <a:off x="5724360" y="1628640"/>
            <a:ext cx="2948040" cy="4152960"/>
          </a:xfrm>
          <a:prstGeom prst="rect">
            <a:avLst/>
          </a:prstGeom>
          <a:ln w="0">
            <a:noFill/>
          </a:ln>
        </p:spPr>
      </p:pic>
      <p:sp>
        <p:nvSpPr>
          <p:cNvPr id="130" name="Prostokąt 9"/>
          <p:cNvSpPr/>
          <p:nvPr/>
        </p:nvSpPr>
        <p:spPr>
          <a:xfrm>
            <a:off x="111600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upload.wikimedia.org/wikipedia/commons/2/22/Poland_Wroclaw_Cathedral_2007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0"/>
          <p:cNvSpPr/>
          <p:nvPr/>
        </p:nvSpPr>
        <p:spPr>
          <a:xfrm>
            <a:off x="321120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rostokąt 9"/>
          <p:cNvSpPr/>
          <p:nvPr/>
        </p:nvSpPr>
        <p:spPr>
          <a:xfrm>
            <a:off x="179280" y="206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Plik:Ratusz_wroclaw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10"/>
          <p:cNvSpPr/>
          <p:nvPr/>
        </p:nvSpPr>
        <p:spPr>
          <a:xfrm>
            <a:off x="402840" y="3068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Plik:Ratusz wroclaw.JPG"/>
          <p:cNvPicPr/>
          <p:nvPr/>
        </p:nvPicPr>
        <p:blipFill>
          <a:blip r:embed="rId2"/>
          <a:stretch/>
        </p:blipFill>
        <p:spPr>
          <a:xfrm>
            <a:off x="3348000" y="1773360"/>
            <a:ext cx="55404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3942720" y="-69480"/>
            <a:ext cx="1258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arta pracy ucznia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7"/>
          <p:cNvSpPr/>
          <p:nvPr/>
        </p:nvSpPr>
        <p:spPr>
          <a:xfrm>
            <a:off x="684360" y="1773360"/>
            <a:ext cx="7920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kład urbanistyczny – czy miasto rozrastało się planowo, czy chaotyczni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ronność miasta – czy było obronne w sposób natural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stytucje miejskie – gdzie były położ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828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4299120"/>
            <a:ext cx="86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Będzi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miasto.org.pl/index.php?option=com_content&amp;task=view&amp;id=39&amp;Itemid=4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rewaloryzacja.com/pracownia/projekty/bedzin_koncepcja/prezentacja.ht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Image"/>
          <p:cNvPicPr/>
          <p:nvPr/>
        </p:nvPicPr>
        <p:blipFill>
          <a:blip r:embed="rId2"/>
          <a:stretch/>
        </p:blipFill>
        <p:spPr>
          <a:xfrm>
            <a:off x="2268360" y="1125360"/>
            <a:ext cx="42865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0" y="836280"/>
            <a:ext cx="421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rostokąt 6"/>
          <p:cNvSpPr/>
          <p:nvPr/>
        </p:nvSpPr>
        <p:spPr>
          <a:xfrm>
            <a:off x="6659640" y="364500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smycki P. ,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rzewodnik po Krakowsko-Wieluńskim paśmie górski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Kielce 190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Documents and Settings\Grzes\Moje dokumenty\Downloads\orlegniazda przesmycki.jpg"/>
          <p:cNvPicPr/>
          <p:nvPr/>
        </p:nvPicPr>
        <p:blipFill>
          <a:blip r:embed="rId1"/>
          <a:stretch/>
        </p:blipFill>
        <p:spPr>
          <a:xfrm>
            <a:off x="395280" y="189000"/>
            <a:ext cx="4448160" cy="5800680"/>
          </a:xfrm>
          <a:prstGeom prst="rect">
            <a:avLst/>
          </a:prstGeom>
          <a:ln w="0">
            <a:noFill/>
          </a:ln>
        </p:spPr>
      </p:pic>
      <p:cxnSp>
        <p:nvCxnSpPr>
          <p:cNvPr id="146" name="Łącznik prosty ze strzałką 8"/>
          <p:cNvCxnSpPr/>
          <p:nvPr/>
        </p:nvCxnSpPr>
        <p:spPr>
          <a:xfrm>
            <a:off x="2268000" y="1773000"/>
            <a:ext cx="3744360" cy="648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Łącznik prosty ze strzałką 9"/>
          <p:cNvCxnSpPr/>
          <p:nvPr/>
        </p:nvCxnSpPr>
        <p:spPr>
          <a:xfrm>
            <a:off x="1332000" y="836640"/>
            <a:ext cx="6193440" cy="1513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pole tekstowe 11"/>
          <p:cNvSpPr/>
          <p:nvPr/>
        </p:nvSpPr>
        <p:spPr>
          <a:xfrm>
            <a:off x="7596360" y="20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lszt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12"/>
          <p:cNvSpPr/>
          <p:nvPr/>
        </p:nvSpPr>
        <p:spPr>
          <a:xfrm>
            <a:off x="608472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r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79280" y="486288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Olszty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www.zamkipolskie.com/olsz/olsz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Documents and Settings\Grzes\Pulpit\nowaplyta\15_03_W9_Od_rozbicia_dzielnicowego\ilustracje1\IMG_7993.JPG"/>
          <p:cNvPicPr/>
          <p:nvPr/>
        </p:nvPicPr>
        <p:blipFill>
          <a:blip r:embed="rId2"/>
          <a:stretch/>
        </p:blipFill>
        <p:spPr>
          <a:xfrm>
            <a:off x="4788000" y="1341360"/>
            <a:ext cx="4138560" cy="2144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42606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79280" y="4496760"/>
            <a:ext cx="47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Mirow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zamkipolskie.com/mirow/mirow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780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8360" y="2852280"/>
            <a:ext cx="35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Lanckoro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ciekawe-miejsca.net/przewodnik/polska/lanckorona_czas_zatrzy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1036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97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awel Zaginiony i 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Grzes\Pulpit\nowaplyta\15_03_W9_Od_rozbicia_dzielnicowego\ilustracje1\IMG_0914.JPG"/>
          <p:cNvPicPr/>
          <p:nvPr/>
        </p:nvPicPr>
        <p:blipFill>
          <a:blip r:embed="rId1"/>
          <a:stretch/>
        </p:blipFill>
        <p:spPr>
          <a:xfrm>
            <a:off x="611280" y="227664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4"/>
          <p:cNvSpPr/>
          <p:nvPr/>
        </p:nvSpPr>
        <p:spPr>
          <a:xfrm>
            <a:off x="507672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kieta wzgórza Wawelskigo w XII 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dtytuł 2"/>
          <p:cNvSpPr/>
          <p:nvPr/>
        </p:nvSpPr>
        <p:spPr>
          <a:xfrm>
            <a:off x="250920" y="3789360"/>
            <a:ext cx="345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otunda i fragmenty starej kamieniar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Grzes\Pulpit\nowaplyta\15_03_W9_Od_rozbicia_dzielnicowego\ilustracje1\IMG_0913.JPG"/>
          <p:cNvPicPr/>
          <p:nvPr/>
        </p:nvPicPr>
        <p:blipFill>
          <a:blip r:embed="rId1"/>
          <a:stretch/>
        </p:blipFill>
        <p:spPr>
          <a:xfrm>
            <a:off x="395280" y="404640"/>
            <a:ext cx="451152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Grzes\Pulpit\nowaplyta\15_03_W9_Od_rozbicia_dzielnicowego\ilustracje1\IMG_1445.JPG"/>
          <p:cNvPicPr/>
          <p:nvPr/>
        </p:nvPicPr>
        <p:blipFill>
          <a:blip r:embed="rId2"/>
          <a:stretch/>
        </p:blipFill>
        <p:spPr>
          <a:xfrm>
            <a:off x="3708360" y="263700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521964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Grzes\Pulpit\nowaplyta\15_03_W9_Od_rozbicia_dzielnicowego\ilustracje1\IMG_1431.JPG"/>
          <p:cNvPicPr/>
          <p:nvPr/>
        </p:nvPicPr>
        <p:blipFill>
          <a:blip r:embed="rId1"/>
          <a:stretch/>
        </p:blipFill>
        <p:spPr>
          <a:xfrm>
            <a:off x="2340000" y="1341360"/>
            <a:ext cx="391788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900000" y="4585680"/>
            <a:ext cx="49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ły dodatkowe dostępne na stronach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katedra-wawelska.pl/zarys_dziejow_katedry,3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wawel.krakow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http://gfx.mmka.pl/newsph/338316/525668.3.jpg"/>
          <p:cNvPicPr/>
          <p:nvPr/>
        </p:nvPicPr>
        <p:blipFill>
          <a:blip r:embed="rId3"/>
          <a:stretch/>
        </p:blipFill>
        <p:spPr>
          <a:xfrm>
            <a:off x="6372360" y="1268280"/>
            <a:ext cx="246204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5"/>
          <p:cNvSpPr/>
          <p:nvPr/>
        </p:nvSpPr>
        <p:spPr>
          <a:xfrm>
            <a:off x="6875640" y="4797360"/>
            <a:ext cx="20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gfx.mmka.pl/newsph/338316/525668.3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C:\Documents and Settings\Grzes\Pulpit\nowaplyta\15_03_W9_Od_rozbicia_dzielnicowego\ilustracje1\IMG_1514.JPG"/>
          <p:cNvPicPr/>
          <p:nvPr/>
        </p:nvPicPr>
        <p:blipFill>
          <a:blip r:embed="rId5"/>
          <a:stretch/>
        </p:blipFill>
        <p:spPr>
          <a:xfrm>
            <a:off x="179280" y="1341360"/>
            <a:ext cx="2082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ściół św. Andrze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:\Documents and Settings\Grzes\Pulpit\nowaplyta\15_03_W9_Od_rozbicia_dzielnicowego\ilustracje1\kosciol romanski.jpg"/>
          <p:cNvPicPr/>
          <p:nvPr/>
        </p:nvPicPr>
        <p:blipFill>
          <a:blip r:embed="rId1"/>
          <a:stretch/>
        </p:blipFill>
        <p:spPr>
          <a:xfrm>
            <a:off x="2627280" y="1413000"/>
            <a:ext cx="345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kościół św. Wojcie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Grzes\Pulpit\nowaplyta\15_03_W9_Od_rozbicia_dzielnicowego\ilustracje1\HPIM1662.JPG"/>
          <p:cNvPicPr/>
          <p:nvPr/>
        </p:nvPicPr>
        <p:blipFill>
          <a:blip r:embed="rId1"/>
          <a:stretch/>
        </p:blipFill>
        <p:spPr>
          <a:xfrm>
            <a:off x="1547640" y="1341360"/>
            <a:ext cx="5732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podzi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rostokąt 4"/>
          <p:cNvSpPr/>
          <p:nvPr/>
        </p:nvSpPr>
        <p:spPr>
          <a:xfrm>
            <a:off x="1929240" y="378936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dziemiarynku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1493640" y="2492280"/>
            <a:ext cx="60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rostokąt 6"/>
          <p:cNvSpPr/>
          <p:nvPr/>
        </p:nvSpPr>
        <p:spPr>
          <a:xfrm>
            <a:off x="357156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ury miejskie Kra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K:\Foto\architektura\HPIM1680a.jpg"/>
          <p:cNvPicPr/>
          <p:nvPr/>
        </p:nvPicPr>
        <p:blipFill>
          <a:blip r:embed="rId1"/>
          <a:stretch/>
        </p:blipFill>
        <p:spPr>
          <a:xfrm>
            <a:off x="395280" y="1341360"/>
            <a:ext cx="1927080" cy="424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:\Foto\architektura\HPIM1690.JPG"/>
          <p:cNvPicPr/>
          <p:nvPr/>
        </p:nvPicPr>
        <p:blipFill>
          <a:blip r:embed="rId2"/>
          <a:stretch/>
        </p:blipFill>
        <p:spPr>
          <a:xfrm>
            <a:off x="2484360" y="1557360"/>
            <a:ext cx="2343240" cy="40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K:\Foto\architektura\HPIM1693.JPG"/>
          <p:cNvPicPr/>
          <p:nvPr/>
        </p:nvPicPr>
        <p:blipFill>
          <a:blip r:embed="rId3"/>
          <a:stretch/>
        </p:blipFill>
        <p:spPr>
          <a:xfrm>
            <a:off x="4932360" y="1557360"/>
            <a:ext cx="30243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324000" y="1628640"/>
            <a:ext cx="676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am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mnwr.art.pl/CMS/wystawy_stale/sztuka_slaska_XII-XVIw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n.wroclaw.pl/przewodnik/sredniowieczeRzezbaKamienna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mn.wroclaw.pl/przewodnik/sredniowieczeSala1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n.wroclaw.pl/przewodnik/sredniowieczeSala2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4"/>
          <p:cNvSpPr/>
          <p:nvPr/>
        </p:nvSpPr>
        <p:spPr>
          <a:xfrm>
            <a:off x="906840" y="5373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8:35:39Z</dcterms:modified>
  <cp:revision>25</cp:revision>
  <dc:subject/>
  <dc:title>Slajd 1</dc:title>
</cp:coreProperties>
</file>