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DB77-68DF-4F82-87D9-A958B3ACE7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7073-F885-4239-B55E-C98E28ED1F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06C5-9A48-40A6-BCB1-AD0ADD4C2E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3CD4-72EC-49F8-9C82-869E798251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281-B30E-4A10-8BCC-EAB4D7F0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B2A-1D1D-4E26-9DB0-7A985F1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376-0A4B-47F1-B885-22A8F31B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6E1-2027-40A1-BF24-45B8F4AE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4681-C846-44E2-91F9-017695D3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C15-869F-455B-BE8A-92DC62A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994-B316-497A-AE0C-620C55A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2C23-74BC-426A-98DA-A18206E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99A-3B93-43FF-9A27-C7AA168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AF6E-AC15-4852-AEF3-C2CC141D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4F50-FBCC-4789-9BEF-5CFA8CB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ABA-E7E8-402A-99ED-9A61AD1D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04B2-4B1A-4C33-ABF9-EDD6CF1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D85-C641-4761-A2F6-CA27DD35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4748-E2D0-4B98-9AD5-F4E4E3EC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91C3-77CB-4284-B0DA-0A844AED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70A2-2457-4252-8D21-B0296608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7F1-C1BB-40EC-B831-875F0596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1BC-C100-45EE-AB7F-1F2BB290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26A-D1CB-4762-B17B-725CDB5A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9E0-43A1-43D5-8634-6CAE8ED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D34-E307-4ABD-93B3-ADF0D46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AC7-6C5E-4FA4-AE27-884F492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0AC-CE65-4B6A-AD1B-F4F649B3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AD39-6434-435E-B02E-7C225F712E0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DEA-F1E8-4D67-BBAA-123B4E07D0F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dtytuł 2"/>
          <p:cNvSpPr/>
          <p:nvPr/>
        </p:nvSpPr>
        <p:spPr>
          <a:xfrm>
            <a:off x="1522440" y="4184640"/>
            <a:ext cx="61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ytuł 1"/>
          <p:cNvSpPr/>
          <p:nvPr/>
        </p:nvSpPr>
        <p:spPr>
          <a:xfrm>
            <a:off x="22320" y="1773360"/>
            <a:ext cx="91216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obec okupantów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okresie II wojny światow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12-05-24-822"/>
          <p:cNvPicPr/>
          <p:nvPr/>
        </p:nvPicPr>
        <p:blipFill>
          <a:blip r:embed="rId1"/>
          <a:stretch/>
        </p:blipFill>
        <p:spPr>
          <a:xfrm>
            <a:off x="920880" y="620640"/>
            <a:ext cx="4135320" cy="547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64000" y="1268280"/>
            <a:ext cx="338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formacja o przekazaniu 2 milionów marek niemieckich na rozbudowę obozu koncentracyjnego  Auschwi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Archiwum PMA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55640" y="692280"/>
            <a:ext cx="74883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adek militarny Polski w 1939 roku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yzantka powrześniowa np. oddział Majora Henryka Dobrzańskiego (pseudonim Hub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legalna emigracja do Francji w celu dołączenia do oddziałów formowanych przez Polski Rząd Emigracyjny generała Władysława Sikor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468360" y="333360"/>
            <a:ext cx="82072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atacja ekonomiczna kraju i społeczeństwa. Przymus pracy, obowiązkowe kontyngenty dostaw płodów rolnych dla rolników   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botaż w miejscach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pagowanie stylu pracy powolnego, niedbałego przynoszącego straty okupan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części plonów, hodowli zwierzą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legalne młyny, rzeźnie, przemyt,han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renaż sił roboczych poprzez wywózki do pracy w Niemczech (praca w rolnictwie lub przemyśle)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propagandowe nawołujące do unikania wyjaz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kanie stawiennictwa na punkty zbor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Bundesarchiv_Bild_101I_270_0298_07__Polen__Ghetto_Warschau__Mauer_jpg-seo"/>
          <p:cNvPicPr/>
          <p:nvPr/>
        </p:nvPicPr>
        <p:blipFill>
          <a:blip r:embed="rId1"/>
          <a:stretch/>
        </p:blipFill>
        <p:spPr>
          <a:xfrm>
            <a:off x="539640" y="476280"/>
            <a:ext cx="8002800" cy="463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79280" y="5376960"/>
            <a:ext cx="8964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ur graniczny oddzielający Polaków i Żydów w gettcie warszaw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Bundesarchiv_Bild_101I-270-0298-07,_Polen,_Ghetto_Warschau,_Mau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68360" y="620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szczenie edukacji, ograniczenie edukacji powszechnej, likwidacja szkolnictwa średniego i wyższego, aresztowania wśród nauczycieli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 w zakresie przedmiotów zakazanych przez okupanta (np. historia) prowadzone przez nauczyciel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ych mieszkaniach (tzw. komplet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kolnictwo średnie i wyższe mające na celu umożliwienie dalszej edukacji dla maturzystów i stud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óba zapobiegania demoralizacji i patologii wśród młodzież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765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cisk ideologiczny oraz niszczenie kultury polskiej poprzez system prasy polskojęzycznej cenzurowanej przez okupanta, skrajne ograniczenie dostępu do informacji radiowej, plakaty propagandowe, niskiej wartości sztuki teatralne oraz produkcje filmowe  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dukcja i kolportaż prasy konspiracyj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cje ulotkowe oraz malowanie znaków działalności konspiracyjnej na mur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piracyjne koncerty oraz przedstawienia teatral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39640" y="692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ie i eksterminacja ludności żydowskiej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krywanie pod groźbą śmierci Żydów zbiegłych z gett lub transportów do obozów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raźna pomoc w postaci pożywienia, lekarstw, jednorazowego nocleg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rganizowana akcja pomocy – Rada Pomocy Żydom „Żegota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dobywanie informacji na temat eksterminacji Ży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kazanie ich na Zach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95280" y="75096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gatywne postawy części społeczeństw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klaracja niemieckiej narodowości niepodyktowana groźbą deportacji z terenów III Rzeszy bądź innymi formami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z okupantami. Przekazywanie informacji na temat przedwojennych działaczy polit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dział w siatce donosicieli organizowanych przez Gestapo oraz NKWD mających na celu przeciwdziałanie sabotowaniu zarządzeń okupantów oraz wspomagających ich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podziemiem niepodległości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oc w tropieniu ukrywających się poza gettami Żydów lub szantażowanie w celu zagarnięcia ich kosztowności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lskaWalcz_ca"/>
          <p:cNvPicPr/>
          <p:nvPr/>
        </p:nvPicPr>
        <p:blipFill>
          <a:blip r:embed="rId1"/>
          <a:stretch/>
        </p:blipFill>
        <p:spPr>
          <a:xfrm>
            <a:off x="971640" y="628560"/>
            <a:ext cx="3409920" cy="5113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219640" y="1108080"/>
            <a:ext cx="30974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ymbol Polski Walczącej malowany na murach głównie przez harcerz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tzw. Szarych Szereg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osztuce.blogspot.com/2010/08/historia-pewnego-znaku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95280" y="333360"/>
            <a:ext cx="835344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awy społeczne wobec okupantów (akcja 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reakc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rror, egzekucje, łapanki, wysyłki do obozów koncentracyjnych, akcje pacyfikacyjne wsi 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wstanie zbrojnych organizacji podziemn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P (Służba Zwycięstwu Polski) od września 1939 do listopada 1939 przemianowana następnie w ZWZ  (Związek Walki Zbrojnej), w lutym 1942 w AK (Armię Krajową). Oddziały te były podporządkowane Polskiemu Rządowi Emigracyjne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Ch (Bataliony Chłopskie) istniały od połowy 1940 roku. Ich zadaniem była obrona mieszkańców wsi.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(Gwardia Ludowa) istniała od marca 1942 od początku 1944 roku przekształcone w AL (Armię Ludową). Oddziały były podporządkowane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L WRN (Gwardia Ludowa – Wolność Równość Niezawisłość). Oddziały współpracowały z 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SZ (Narodowe Siły Zbroj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OB i ŻOW (Żydowska Organizacja Bojowa i Żydowska Organizacja Wojskow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84360" y="1341360"/>
            <a:ext cx="8135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Skutki agresji III Rzeszy i Związku Radzieckiego na Polskę we wrześniu 1939 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nekscja ziem podbitych przez Związek Radzieck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III Rzeszę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stawy społeczne wobec okupantów (akcja – reakcja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zadania organizacji bojowy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dziemne Państwo Polsk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554040" y="692280"/>
            <a:ext cx="8339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zadania organizacji boj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partyzanckie skierowane przeciwko samowoli okup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abotaż polegający na niszczeniu systemów komunikacji, dezorganizacji szlaków kolejowych it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ywers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lnianie więźni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cje odwetowe wobec wysokich dowódców SS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Gesta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nia wywiadowcze i propagand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lakat Obwieszczenie"/>
          <p:cNvPicPr/>
          <p:nvPr/>
        </p:nvPicPr>
        <p:blipFill>
          <a:blip r:embed="rId1"/>
          <a:stretch/>
        </p:blipFill>
        <p:spPr>
          <a:xfrm>
            <a:off x="826920" y="549360"/>
            <a:ext cx="4248360" cy="5705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5537160" y="1628640"/>
            <a:ext cx="2851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wieszczenie władz hitlerowskich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 wykonaniu egzekucji jako odwet za akcje organizacji podziem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 : Główna Komisja  Badania  Zbrodni Hitlerowskich w Polsce (zbiory autor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404640"/>
            <a:ext cx="82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mimo okupacji na okupowanych terenach funkcjonowało tzw.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lskie Państwo Podziem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wstało ona na bazie ZWZ – AK obejmowało dwa pion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dległy one prezydentow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ojskowy podległy Naczelnemu Wodzowi zarządzany przez Dowódcę AK oraz Kierownictwo Walki Podziemnej składał się m.in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następujących komórek organizacyjny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wers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Łącznoś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watermistrzows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peracyjny i in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Cywilny podległy premierowi Rządu Emigracyjnego. Składał si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 komórek organizacyjnych typowych dla funkcjonowania organizmu państwowego czyli: skarbu, spraw wewnętrznych, oświaty, sprawiedliwości, komunikacji it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611280" y="5493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ć Polskiego Państwa Podziemnego podzielone było na obszary administracyj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 Mazows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 Białyst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II Lw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zar IV Zach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samodzielne okręgi: Warszawa-miasto, Kielce-Radom, Łódź, Kraków, Śląsk, Lublin, Woły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1128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jwybitniejszymi przywódcami Polskiego Państwa Podziemnego by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Michał Tokarzewski-Karaszewicz pierwszy dowódca SZ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Kazimierz Sosnkowski – Komendant ZW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Stefan Rowecki pseudonim „Grot” – Komendant AK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Tadeusz Komorowski pseudonim „Bór” 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ł Leopold Okulicki pseudonim „Niedźwiadek”– Komendant 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53964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nicze nurty postaw wśród społeczeństwa polskiego po zakończeniu II wojny świat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negacji dla władzy utworzonej przez ośrodki polityczne wspierane przez władze ZSR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erna (krytyka i nieufność wobec ośrodków władzy tymczasowej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tywna (kontynuacja działań konspiracyj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wyczekiwania (oczekiwanie rozstrzygnięć politycznych wynikająca z umów mocarstw w sprawie Pols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tawa akceptująca lub wspierająca ośrodki władzy, powstające w oparciu o rząd PKWN mający poparcie Józefa Sta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11280" y="4428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skutki II wojny światowej dla społeczeństwa polskie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sokie straty biologiczne (polegli w skutek działań wojennych, represji okupantów, w skutek ciężkich warunków bytowych, duża ilość inwalidów, rekonwalescentów i siero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uże straty w zasobach kulturalno-naukowych (śmierć wybitnych uczonych, inteligencji, dewastacja wyższych uczelni, archiwum, bibli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miany terytorialne skutkujące przesunięciem granic (utrata własności prywatnej, straty kulturaln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szczenie infrastruktury w skutek działań wojennych (zniszczone lub uszkodzone szlaki komunikacyjne, łączności, elektryczne it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rastyczne przemiany polityczne oraz w zakresie własności prywatnej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"/>
          <p:cNvSpPr/>
          <p:nvPr/>
        </p:nvSpPr>
        <p:spPr>
          <a:xfrm>
            <a:off x="82692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Brzoza - Polska w czasach niepodległości i drugiej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cek Chrobaczyński – Dramatyczny rok 1943, Rzeszów Kraków 20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Cyra, Wiesław J. Wysocki, Rotmistrz Witold Pilecki, Warszawa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portacje i przemieszczenia ludności polskiej w głąb ZSRR 1939 – 1945. Przegląd piśmiennictwa –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bara Engelking, Jolanta Żyndul, Feliks Tych, Andrzej Żbikowski – Historia Żydów Polskich przed, w czasie, i po Zagładzie – Warszaw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rzy Kobryń - Wspomnienia Sybiraków, Bystrzyca Kłodzka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erman Langbein – Ludzie w Auschwitz, Oświęcim 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sław Madajczyk - Polityka III Rzeszy w okupowanej Polsce, Warszawa 19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 - Dowódcy Armii Krajowej, RYTM 200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rek Ney-Krwawicz  - Armia Krajowa. Szkic historyczny, Warszawa 19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masz Szarota - Okupowanej Warszawy dzień powszedni, Warszawa 20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ie Wiesel – Noc, Oświęcim 200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11280" y="549360"/>
            <a:ext cx="7921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kutki agresji III Rzeszy i Związku Radziecki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Polskę we wrześniu 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Utrata dotychczasowej podmiotowości państwowe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i politycz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Zniszczenia infrastruktury przemysłowej, transportowej, energetycznej, wodociąg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Straty biologiczne w wyniku działań wojennych, akcji odwetowych, działalności plutonów egzekucyjnych i sądów specjalnych wyznaczonych do eliminacji warstw przywódczych państwa po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Sakkal Majalla"/>
              </a:rPr>
              <a:t>Na mocy tajnego protokołu paktu Ribbentrop – Mołotow zawartego 23.08.1939 roku terytorium Polski zostało podzielone pomiędzy dwa obce organizmy państw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95280" y="549360"/>
            <a:ext cx="8209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III Rzesz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ączenie do Niemiec terenów Górnego Śląska, Wielkopolski, Pomorza Gdańskiego (przedwojenne województwa: śląskie, łódzkie, poznańskie, pomorskie, a także część województw mazowieckiego, kieleckiego oraz część terenów Suwalszczyzny). Ogółem około 94 tys. k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kały przez 10 milionów lud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worzenie na pozostałych ziemiach podbitych organu administracyjno-terytorialnego o nazwie Generalne Gubernatorstwo z siedzibą w Krakowie. Był on bezpośrednio podległy zwierzchności III Rzeszy oraz obsadzony przez niemieckich urzę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539640" y="333360"/>
            <a:ext cx="8209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eksja ziem podbitych przez Związek Radzi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kroczenie na wschodnie tereny Polski Armii Czerwonej 17.01.1939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ał zajętych ziem na Zachodnią Białoruś (obejmowała dawne polskie województwa : białostockie, nowogródzkie, poleskie, wileńskie oraz część warszawskiego) oraz Zachodnią Ukrainę (obejmowała dawne polskie województwa: tarnopolskiego, stanisławowskiego, wołyńskiego, wschodnia część lwowskieg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ździerniku 1939 roku zorganizowano na anektowanych terytoriach wybory. Były one zaprzeczeniem demokratycznych reguł wyborczych. W ich wyniku utworzono Zgromadzenie Ludowe na Białorusi oraz Zgromadzenie Narodowe Zachodniej Ukrainy. Obydwie Rady przyjęły uchwały o przyłączeniu tych terenów do ZS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705px-28_Nazi_Germany_1940"/>
          <p:cNvPicPr/>
          <p:nvPr/>
        </p:nvPicPr>
        <p:blipFill>
          <a:blip r:embed="rId1"/>
          <a:stretch/>
        </p:blipFill>
        <p:spPr>
          <a:xfrm>
            <a:off x="468360" y="620640"/>
            <a:ext cx="6480000" cy="5504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199280" y="1844640"/>
            <a:ext cx="194472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pa obrazująca podział terytoriów Polski pomiędzy III Rzeszę i ZS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28_Nazi_Germany_194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549360"/>
            <a:ext cx="813600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 Rzesz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zczególnych obostrzeń wobec Polaków znajdujących się na terytorium Rzeszy (zakaz posiadania pojazdów mechanicznych, radioodbiorników, ograniczenie swobody przemieszczania się, ograniczenia w dostępie do miejsc publicznych, praktycznie całkowita likwidacja edukacji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śladowania ekonomiczne, ograniczenia w zakresie wykonywania usług, rugowanie z miejsc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kwirowanie mieszkań, domó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enie specjalnych przepisów sankcjonujących drakońskie kary za najdrobniejsze uchybien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prowadzenie masowych wysiedleń ludności polskiej (w tym także Żydów) do Generalnego Gubernator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cisk wobec części społeczeństwa prowadzący do zadeklarowania przez nią narodowości niemieckiej – tzw. podpisanie Volkslis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68360" y="476280"/>
            <a:ext cx="806436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śladowania Polaków na terenach anektowanych przez ZSR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ikwidacja wszelkich symboli państwa pol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śladowania kościoła i księż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właszczenia i deportacje Polaków (także Żydów obywateli polskich przed 1939 rokiem) w głąb ZSRR. Transporty kierowano do Kazachstanu lub w rejony dalekowschodnie. Ciężkie warunki transportu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miejscu deportacji przyczyniły się do bardzo dużej śmiertelnoś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84360" y="333360"/>
            <a:ext cx="8135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kcje eksterminacyjne podejmowane przez III Rzeszę i ZSRR wobec obywateli pol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ięzienie i likwidacja na mocy tajnych instrukcji Gestapo (Geheime Staatspolizei - Tajna Policja Państwowa) i NKWD (Ludowy Komisariat Spraw Wewnętrznych)  warstw przywódczych społeczeństwa polskiego: działaczy politycznych, społecznych, księży, naukowców, nauczyci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adzenie w/w w obozach koncentracyjnych na terenie III Rzeszy lub tzw. łagrach na terenie ZSR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Niemcy represje wobec ludności żydowskie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oznakowania w postaci opasek, naszywek itp., wyznaczenie specjalnych zamkniętych obszarów mieszkalnych tzw. get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terenach okupowanych przez ZSRR eksterminacja polskich oficerów (także policjantów, leśników, celników itd.) wziętych do niewoli w 1939 ro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ndrzej</cp:lastModifiedBy>
  <dcterms:modified xsi:type="dcterms:W3CDTF">2013-08-31T17:04:23Z</dcterms:modified>
  <cp:revision>30</cp:revision>
  <dc:subject>szablon prezentacji KPW</dc:subject>
  <dc:title>Zrównoważony rozwój</dc:title>
</cp:coreProperties>
</file>