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B56F-16BA-4822-BC2A-EC9C7DCC533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DDB5-D845-4B64-BC4C-D45EA6FA38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D9B-9674-4BEB-B716-00CB75A2D3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4062-60FC-401C-B17A-3C839CC673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87B-8B54-4DFA-AD1D-823DDFDEEF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D7C6-CD5B-4D2D-9F49-E27978C331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178-3259-4D94-990B-220BBDEB7F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C615-0AAD-4F65-83F8-20FF9CFED8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B2E-CAAB-4E24-878D-1663E01BF9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32B6-9738-4BDA-B501-0502CFFF1D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A56F-C619-4CD7-AD32-1E8E9C89E9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AD92-96E2-40DC-8D25-F18688DBFE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DA9D-7F30-4429-9CF4-6722B8979D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87C-618B-410A-BA13-95B81C4716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3812-78C7-4801-B718-B60C11F5B3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F50-F62A-4ABF-8F3E-F6B517F6A93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226C-588C-4FF2-8D66-D9B4C33BA6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5139-E001-4F54-B68B-33EE2B555D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08E8-73FA-44A9-8FFD-00F033A03F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52F5-4356-464B-950E-384F431233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85A-CFE3-4C60-A5F4-20317752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5B7-D47A-4E38-892F-6C95234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3C4-312C-40C2-BC88-C5E95DA9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5D2-98CA-4F66-859E-788B7420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7E71-5EAB-425C-A87C-FB581D8A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ADC6-6483-4BF1-9D40-184E1A54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276E-F642-4531-898A-178FF4A4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B276-2FB4-4EB9-8141-56A2913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917C-179A-43AE-9A57-FB0CD9A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02E-5BBF-43B2-854D-C93B1687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60A7-CB2A-4E21-A595-D1A025D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4E0-F448-4284-895D-BBF020CD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EAC5-4499-40E1-B56C-C77E7BE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199F-18BD-4B7E-9DF5-B82F626C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2560-6EF0-47DB-8B5A-DF4FA864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06F4-F614-494C-A921-ABB48471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EF65-3999-44AF-909F-8F138062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503-9E6D-43EA-9DCF-6415906B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742-C1C1-458B-A110-9A3D760A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B3A-29B4-45A0-BBED-074AE81E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586-52F1-4D3C-B589-9B328E4B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7CA-B275-47E8-8173-8CDBDCA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1CF-FBDB-46CE-9516-38B1514D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D55-7E15-425F-964B-C582748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E104-3046-45AE-A760-51BFA11D50D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36B8-A776-46B1-80D2-230B3610755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zeum.archidiecezja.wroc.pl/" TargetMode="External"/><Relationship Id="rId2" Type="http://schemas.openxmlformats.org/officeDocument/2006/relationships/hyperlink" Target="http://www.katedra.archidiecezja.wroc.pl/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2/22/Poland_Wroclaw_Cathedral_2007.jpg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Ratusz_wroclaw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waloryzacja.com/pracownia/projekty/bedzin_koncepcja/prezentacja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amkipolskie.com/olsz/olsz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awel.krakow.pl/pl/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gfx.mmka.pl/newsph/338316/525668.3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dziemiarynku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n.wroclaw.pl/przewodnik/sredniowieczeRzezbaKamienna.pdf" TargetMode="External"/><Relationship Id="rId2" Type="http://schemas.openxmlformats.org/officeDocument/2006/relationships/hyperlink" Target="http://mn.wroclaw.pl/przewodnik/sredniowieczeSala2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irtualne zwiedzani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czego na Śląsku wyjątkowa była pozycja wrocławskiego biskup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ie znaczenie na ówczesnym Śląsku miała kultura niemiecka? Czy mogło być to przeszkodą w uzyskaniu tronu w Kra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m był Henryk IV Prob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wygląda sarkofag Henryka Probusa? Czy książę został przedstawiony jako władca, czy jako rycerz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o możemy powiedzieć o przedmiotach codziennego użytku zgromadzonych na wysta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Archidiecezjalne, Ka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1403280" y="170028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uzeum.archidiecezja.wroc.pl/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www.katedra.archidiecezja.wroc.p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6"/>
          <p:cNvSpPr/>
          <p:nvPr/>
        </p:nvSpPr>
        <p:spPr>
          <a:xfrm>
            <a:off x="2850840" y="2565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upload.wikimedia.org/wikipedia/commons/2/22/Poland_Wroclaw_Cathedral_2007.jpg"/>
          <p:cNvPicPr/>
          <p:nvPr/>
        </p:nvPicPr>
        <p:blipFill>
          <a:blip r:embed="rId3"/>
          <a:stretch/>
        </p:blipFill>
        <p:spPr>
          <a:xfrm>
            <a:off x="5724360" y="1628640"/>
            <a:ext cx="2948040" cy="415296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9"/>
          <p:cNvSpPr/>
          <p:nvPr/>
        </p:nvSpPr>
        <p:spPr>
          <a:xfrm>
            <a:off x="111600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pload.wikimedia.org/wikipedia/commons/2/22/Poland_Wroclaw_Cathedral_2007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321120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9"/>
          <p:cNvSpPr/>
          <p:nvPr/>
        </p:nvSpPr>
        <p:spPr>
          <a:xfrm>
            <a:off x="17928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Plik:Ratusz_wroclaw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0"/>
          <p:cNvSpPr/>
          <p:nvPr/>
        </p:nvSpPr>
        <p:spPr>
          <a:xfrm>
            <a:off x="402840" y="30686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Plik:Ratusz wroclaw.JPG"/>
          <p:cNvPicPr/>
          <p:nvPr/>
        </p:nvPicPr>
        <p:blipFill>
          <a:blip r:embed="rId2"/>
          <a:stretch/>
        </p:blipFill>
        <p:spPr>
          <a:xfrm>
            <a:off x="3348000" y="1773360"/>
            <a:ext cx="55404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Ratu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3942720" y="-69480"/>
            <a:ext cx="1258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arta pracy uczni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7"/>
          <p:cNvSpPr/>
          <p:nvPr/>
        </p:nvSpPr>
        <p:spPr>
          <a:xfrm>
            <a:off x="684360" y="1773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a pracy ucz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możemy sądzić o kulturze Wrocławia, obserwując zabytk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kład urbanistyczny – czy miasto rozrastało się planowo, czy chaotyczni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ronność miasta – czy było obronne w sposób natural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stytucje miejskie – gdzie były położ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429912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Będzi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miasto.org.pl/index.php?option=com_content&amp;task=view&amp;id=39&amp;Itemid=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rewaloryzacja.com/pracownia/projekty/bedzin_koncepcja/prezentacja.ht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Image"/>
          <p:cNvPicPr/>
          <p:nvPr/>
        </p:nvPicPr>
        <p:blipFill>
          <a:blip r:embed="rId2"/>
          <a:stretch/>
        </p:blipFill>
        <p:spPr>
          <a:xfrm>
            <a:off x="2268360" y="1125360"/>
            <a:ext cx="42865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0" y="836280"/>
            <a:ext cx="421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6659640" y="3645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smycki P. 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odnik po Krakowsko-Wieluńskim paśmie gór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Kielce 19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Grzes\Moje dokumenty\Downloads\orlegniazda przesmycki.jpg"/>
          <p:cNvPicPr/>
          <p:nvPr/>
        </p:nvPicPr>
        <p:blipFill>
          <a:blip r:embed="rId1"/>
          <a:stretch/>
        </p:blipFill>
        <p:spPr>
          <a:xfrm>
            <a:off x="395280" y="189000"/>
            <a:ext cx="4448160" cy="5800680"/>
          </a:xfrm>
          <a:prstGeom prst="rect">
            <a:avLst/>
          </a:prstGeom>
          <a:ln w="0">
            <a:noFill/>
          </a:ln>
        </p:spPr>
      </p:pic>
      <p:cxnSp>
        <p:nvCxnSpPr>
          <p:cNvPr id="146" name="Łącznik prosty ze strzałką 8"/>
          <p:cNvCxnSpPr/>
          <p:nvPr/>
        </p:nvCxnSpPr>
        <p:spPr>
          <a:xfrm>
            <a:off x="2268000" y="1773000"/>
            <a:ext cx="374436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Łącznik prosty ze strzałką 9"/>
          <p:cNvCxnSpPr/>
          <p:nvPr/>
        </p:nvCxnSpPr>
        <p:spPr>
          <a:xfrm>
            <a:off x="1332000" y="836640"/>
            <a:ext cx="6193440" cy="1513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pole tekstowe 11"/>
          <p:cNvSpPr/>
          <p:nvPr/>
        </p:nvSpPr>
        <p:spPr>
          <a:xfrm>
            <a:off x="759636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lszt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2"/>
          <p:cNvSpPr/>
          <p:nvPr/>
        </p:nvSpPr>
        <p:spPr>
          <a:xfrm>
            <a:off x="608472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48628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Olszty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zamkipolskie.com/olsz/olsz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Documents and Settings\Grzes\Pulpit\nowaplyta\15_03_W9_Od_rozbicia_dzielnicowego\ilustracje1\IMG_7993.JPG"/>
          <p:cNvPicPr/>
          <p:nvPr/>
        </p:nvPicPr>
        <p:blipFill>
          <a:blip r:embed="rId2"/>
          <a:stretch/>
        </p:blipFill>
        <p:spPr>
          <a:xfrm>
            <a:off x="4788000" y="1341360"/>
            <a:ext cx="4138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4260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4496760"/>
            <a:ext cx="47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Mirow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zamkipolskie.com/mirow/mirow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khit.pttk.pl/index.php?co=tx_kkms_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8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mki królew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rostokąt 10"/>
          <p:cNvSpPr/>
          <p:nvPr/>
        </p:nvSpPr>
        <p:spPr>
          <a:xfrm>
            <a:off x="6308280" y="5589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285228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zczegóły dotyczące zamku w Lanckoro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ciekawe-miejsca.net/przewodnik/polska/lanckorona_czas_zatrzy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1036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97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awel Zaginiony i 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Grzes\Pulpit\nowaplyta\15_03_W9_Od_rozbicia_dzielnicowego\ilustracje1\IMG_0914.JPG"/>
          <p:cNvPicPr/>
          <p:nvPr/>
        </p:nvPicPr>
        <p:blipFill>
          <a:blip r:embed="rId1"/>
          <a:stretch/>
        </p:blipFill>
        <p:spPr>
          <a:xfrm>
            <a:off x="611280" y="2276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507672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ieta wzgórza Wawelskigo w XII 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dtytuł 2"/>
          <p:cNvSpPr/>
          <p:nvPr/>
        </p:nvSpPr>
        <p:spPr>
          <a:xfrm>
            <a:off x="250920" y="3789360"/>
            <a:ext cx="345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otunda i fragmenty starej kamieniar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Grzes\Pulpit\nowaplyta\15_03_W9_Od_rozbicia_dzielnicowego\ilustracje1\IMG_0913.JPG"/>
          <p:cNvPicPr/>
          <p:nvPr/>
        </p:nvPicPr>
        <p:blipFill>
          <a:blip r:embed="rId1"/>
          <a:stretch/>
        </p:blipFill>
        <p:spPr>
          <a:xfrm>
            <a:off x="395280" y="40464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Grzes\Pulpit\nowaplyta\15_03_W9_Od_rozbicia_dzielnicowego\ilustracje1\IMG_1445.JPG"/>
          <p:cNvPicPr/>
          <p:nvPr/>
        </p:nvPicPr>
        <p:blipFill>
          <a:blip r:embed="rId2"/>
          <a:stretch/>
        </p:blipFill>
        <p:spPr>
          <a:xfrm>
            <a:off x="3708360" y="2637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21964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atedr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Grzes\Pulpit\nowaplyta\15_03_W9_Od_rozbicia_dzielnicowego\ilustracje1\IMG_1431.JPG"/>
          <p:cNvPicPr/>
          <p:nvPr/>
        </p:nvPicPr>
        <p:blipFill>
          <a:blip r:embed="rId1"/>
          <a:stretch/>
        </p:blipFill>
        <p:spPr>
          <a:xfrm>
            <a:off x="2340000" y="1341360"/>
            <a:ext cx="39178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900000" y="45856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ły dodatkowe dostępne na strona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katedra-wawelska.pl/zarys_dziejow_katedry,3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wawel.krakow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http://gfx.mmka.pl/newsph/338316/525668.3.jpg"/>
          <p:cNvPicPr/>
          <p:nvPr/>
        </p:nvPicPr>
        <p:blipFill>
          <a:blip r:embed="rId3"/>
          <a:stretch/>
        </p:blipFill>
        <p:spPr>
          <a:xfrm>
            <a:off x="6372360" y="1268280"/>
            <a:ext cx="2462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5"/>
          <p:cNvSpPr/>
          <p:nvPr/>
        </p:nvSpPr>
        <p:spPr>
          <a:xfrm>
            <a:off x="6875640" y="479736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fx.mmka.pl/newsph/338316/525668.3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C:\Documents and Settings\Grzes\Pulpit\nowaplyta\15_03_W9_Od_rozbicia_dzielnicowego\ilustracje1\IMG_1514.JPG"/>
          <p:cNvPicPr/>
          <p:nvPr/>
        </p:nvPicPr>
        <p:blipFill>
          <a:blip r:embed="rId5"/>
          <a:stretch/>
        </p:blipFill>
        <p:spPr>
          <a:xfrm>
            <a:off x="179280" y="1341360"/>
            <a:ext cx="2082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ściół św. Andrze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:\Documents and Settings\Grzes\Pulpit\nowaplyta\15_03_W9_Od_rozbicia_dzielnicowego\ilustracje1\kosciol romanski.jpg"/>
          <p:cNvPicPr/>
          <p:nvPr/>
        </p:nvPicPr>
        <p:blipFill>
          <a:blip r:embed="rId1"/>
          <a:stretch/>
        </p:blipFill>
        <p:spPr>
          <a:xfrm>
            <a:off x="2627280" y="1413000"/>
            <a:ext cx="345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kościół św. Wojci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Grzes\Pulpit\nowaplyta\15_03_W9_Od_rozbicia_dzielnicowego\ilustracje1\HPIM1662.JPG"/>
          <p:cNvPicPr/>
          <p:nvPr/>
        </p:nvPicPr>
        <p:blipFill>
          <a:blip r:embed="rId1"/>
          <a:stretch/>
        </p:blipFill>
        <p:spPr>
          <a:xfrm>
            <a:off x="1547640" y="1341360"/>
            <a:ext cx="5732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nek, podzi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929240" y="378936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dziemiarynk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1493640" y="2492280"/>
            <a:ext cx="60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6"/>
          <p:cNvSpPr/>
          <p:nvPr/>
        </p:nvSpPr>
        <p:spPr>
          <a:xfrm>
            <a:off x="357156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ry miejskie Kra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:\Foto\architektura\HPIM1680a.jpg"/>
          <p:cNvPicPr/>
          <p:nvPr/>
        </p:nvPicPr>
        <p:blipFill>
          <a:blip r:embed="rId1"/>
          <a:stretch/>
        </p:blipFill>
        <p:spPr>
          <a:xfrm>
            <a:off x="395280" y="1341360"/>
            <a:ext cx="1927080" cy="424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Foto\architektura\HPIM1690.JPG"/>
          <p:cNvPicPr/>
          <p:nvPr/>
        </p:nvPicPr>
        <p:blipFill>
          <a:blip r:embed="rId2"/>
          <a:stretch/>
        </p:blipFill>
        <p:spPr>
          <a:xfrm>
            <a:off x="2484360" y="1557360"/>
            <a:ext cx="2343240" cy="40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:\Foto\architektura\HPIM1693.JPG"/>
          <p:cNvPicPr/>
          <p:nvPr/>
        </p:nvPicPr>
        <p:blipFill>
          <a:blip r:embed="rId3"/>
          <a:stretch/>
        </p:blipFill>
        <p:spPr>
          <a:xfrm>
            <a:off x="4932360" y="1557360"/>
            <a:ext cx="30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lternatywa-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rocław – Muzeum Narod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24000" y="1628640"/>
            <a:ext cx="676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czegółowy plan i wirtualne zwiedzan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znaleźć pod adresa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mnwr.art.pl/CMS/wystawy_stale/sztuka_slaska_XII-XVI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n.wroclaw.pl/przewodnik/sredniowieczeRzezbaKamienna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n.wroclaw.pl/przewodnik/sredniowieczeSala1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n.wroclaw.pl/przewodnik/sredniowieczeSala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4"/>
          <p:cNvSpPr/>
          <p:nvPr/>
        </p:nvSpPr>
        <p:spPr>
          <a:xfrm>
            <a:off x="906840" y="537372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7.03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8:35:39Z</dcterms:modified>
  <cp:revision>25</cp:revision>
  <dc:subject/>
  <dc:title>Slajd 1</dc:title>
</cp:coreProperties>
</file>