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C627-3B2A-438D-A689-C0E16A73A91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73F7-619B-4D6B-A4ED-A66AA76B02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3E19-2103-4753-9EA7-3ED0C1F447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FBF3-432F-464C-81C1-C683341F84A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0C7-899B-41AA-AB15-14FB001540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926-0926-427C-89B2-83D590C316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63D3-BC96-4E1A-8645-4065609034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E73-1B6A-494F-8896-0E9DD87335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8226-9BA8-4C2B-8DE1-F175B1B0B5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F46C-F1AF-4803-93A0-4ACC2A03896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19DD-25DB-4224-99AA-EE8547120A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51F0-E616-4B31-B860-42283DC9F6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99C4-79A2-4BBE-9F74-D9DA66B258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96E-3391-426F-9CE9-48FB73D40A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054-DE2A-40C3-B095-42779D17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BC9-D512-4112-82CC-33CC8A88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E93-77D5-43F5-9DA5-45D63E30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011-283A-4E98-BCE2-30815814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09B5-5951-447F-A39A-71A627C5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2FA6-A4F0-45CB-AB28-E2717DA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0000-D257-411F-B9D0-E24D4E02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13F7-3B91-43B0-A398-F9B03533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B2F1-2777-4C9C-9F31-CB8D3E78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EFA9-E2D7-411E-AAB7-5FDFCED8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5C7-BD68-4A82-9000-FF57483D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150-B34E-4EF1-86D3-AFD003C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36F7-4A34-4185-B7CA-ADFCD34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871C-1665-461D-ADFF-4DBE9AA1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D9A4-21F0-4C57-B95B-124FFE1B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2EEE-DB9E-46FD-8FCC-904248B1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833B-986B-4BC8-8A92-35D783EE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F70-78F5-4775-B5F3-F66128A2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63C-B8C9-43D2-AF76-5A603671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178-E6D4-42D3-B005-826A8B88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7ED-457B-46D2-AAD8-FCB2C2A5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B17-42AF-4197-851B-C362C9D5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052-99CE-4106-97D5-00EAC61F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E07-EBCE-4ABE-AA4B-D91DBBE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B2DD-383B-4D75-A74A-3ECC777CD5C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7704-E8EF-4E5E-9A7F-07F923F566A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Sarkofag_&#346;w._Stanis&#322;awa_w_Katedrze_na_Wawelu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95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Dwie wizje sprawowania władzy – papiestwo a cesarstwo. Miecz czy pastorał?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dtytuł 2"/>
          <p:cNvSpPr/>
          <p:nvPr/>
        </p:nvSpPr>
        <p:spPr>
          <a:xfrm>
            <a:off x="3564000" y="1197000"/>
            <a:ext cx="5321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fesja św. Stanisław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: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Sarkofag_%C5%9Aw._Stanis%C5%82awa_w_Katedrze_na_Wawelu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" descr="Plik:Sarkofag Św. Stanisława w Katedrze na Wawelu.jpg"/>
          <p:cNvPicPr/>
          <p:nvPr/>
        </p:nvPicPr>
        <p:blipFill>
          <a:blip r:embed="rId2"/>
          <a:srcRect l="11339" t="0" r="11339" b="6299"/>
          <a:stretch/>
        </p:blipFill>
        <p:spPr>
          <a:xfrm>
            <a:off x="611280" y="404640"/>
            <a:ext cx="29527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dtytuł 2"/>
          <p:cNvSpPr/>
          <p:nvPr/>
        </p:nvSpPr>
        <p:spPr>
          <a:xfrm>
            <a:off x="4427640" y="1341360"/>
            <a:ext cx="337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kordat wormac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" descr="3662000_orig"/>
          <p:cNvPicPr/>
          <p:nvPr/>
        </p:nvPicPr>
        <p:blipFill>
          <a:blip r:embed="rId1"/>
          <a:stretch/>
        </p:blipFill>
        <p:spPr>
          <a:xfrm>
            <a:off x="826920" y="404640"/>
            <a:ext cx="33134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4"/>
          <p:cNvSpPr/>
          <p:nvPr/>
        </p:nvSpPr>
        <p:spPr>
          <a:xfrm>
            <a:off x="468360" y="105264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ibat – zasada bezżenności duchownych. Wprowadzony w Europie w XII/XIII w., utrwalony w wieku XVI. Walczono też z symonią (zakupem sakramentów kościelnych). Opornych duchownych suspendow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ężem w walce z cesarstwem była ekskomunika – kara pozbawiająca praw w życiu kościoła (np. niemożność przyjmowania lub udzielania sakramentów, uczestnictwa w liturg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dtytuł 2"/>
          <p:cNvSpPr/>
          <p:nvPr/>
        </p:nvSpPr>
        <p:spPr>
          <a:xfrm>
            <a:off x="5292720" y="1989000"/>
            <a:ext cx="3851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czątki sporu związane są z rokiem 800 i koronacją cesarską Karola Wielkiego. Karol chciał koronować się sam, tymczasem koronacji dokonał papież. Jak sądzisz, dlaczego ten fakt uraził cesarz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koronacja+karola+wielkiego"/>
          <p:cNvPicPr/>
          <p:nvPr/>
        </p:nvPicPr>
        <p:blipFill>
          <a:blip r:embed="rId1"/>
          <a:stretch/>
        </p:blipFill>
        <p:spPr>
          <a:xfrm>
            <a:off x="539640" y="549360"/>
            <a:ext cx="47689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dtytuł 2"/>
          <p:cNvSpPr/>
          <p:nvPr/>
        </p:nvSpPr>
        <p:spPr>
          <a:xfrm>
            <a:off x="5435640" y="1557360"/>
            <a:ext cx="337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westytura bisku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inwestytura"/>
          <p:cNvPicPr/>
          <p:nvPr/>
        </p:nvPicPr>
        <p:blipFill>
          <a:blip r:embed="rId1"/>
          <a:stretch/>
        </p:blipFill>
        <p:spPr>
          <a:xfrm>
            <a:off x="684360" y="620640"/>
            <a:ext cx="4095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dtytuł 2"/>
          <p:cNvSpPr/>
          <p:nvPr/>
        </p:nvSpPr>
        <p:spPr>
          <a:xfrm>
            <a:off x="5364000" y="1268280"/>
            <a:ext cx="3168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ól błaga opata Cluny i hrabinę Matyldę o wstawiennictwo u papieża. Canossa 107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anossa"/>
          <p:cNvPicPr/>
          <p:nvPr/>
        </p:nvPicPr>
        <p:blipFill>
          <a:blip r:embed="rId1"/>
          <a:stretch/>
        </p:blipFill>
        <p:spPr>
          <a:xfrm>
            <a:off x="826920" y="476280"/>
            <a:ext cx="43927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dtytuł 2"/>
          <p:cNvSpPr/>
          <p:nvPr/>
        </p:nvSpPr>
        <p:spPr>
          <a:xfrm>
            <a:off x="1187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olesław II Szczodry, mal. J. Matej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200px-Boleslaw_Smialy"/>
          <p:cNvPicPr/>
          <p:nvPr/>
        </p:nvPicPr>
        <p:blipFill>
          <a:blip r:embed="rId1"/>
          <a:stretch/>
        </p:blipFill>
        <p:spPr>
          <a:xfrm>
            <a:off x="2843280" y="692280"/>
            <a:ext cx="26654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dtytuł 2"/>
          <p:cNvSpPr/>
          <p:nvPr/>
        </p:nvSpPr>
        <p:spPr>
          <a:xfrm>
            <a:off x="4859280" y="1557360"/>
            <a:ext cx="3673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olesław II Szczodry podczas sporu z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. Stanisław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karanie niewiernych ż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2"/>
          <p:cNvPicPr/>
          <p:nvPr/>
        </p:nvPicPr>
        <p:blipFill>
          <a:blip r:embed="rId1"/>
          <a:stretch/>
        </p:blipFill>
        <p:spPr>
          <a:xfrm>
            <a:off x="539640" y="260280"/>
            <a:ext cx="40323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dtytuł 2"/>
          <p:cNvSpPr/>
          <p:nvPr/>
        </p:nvSpPr>
        <p:spPr>
          <a:xfrm>
            <a:off x="5508720" y="1413000"/>
            <a:ext cx="22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IMG_1677"/>
          <p:cNvPicPr/>
          <p:nvPr/>
        </p:nvPicPr>
        <p:blipFill>
          <a:blip r:embed="rId1"/>
          <a:stretch/>
        </p:blipFill>
        <p:spPr>
          <a:xfrm>
            <a:off x="1403280" y="476280"/>
            <a:ext cx="330192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5364000" y="1360080"/>
            <a:ext cx="341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Biskup krakowski Stanisła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(XI w.), z jego postacią związany jest najbardziej tajemniczy konflikt w średniowiecznej Polsce. Mamy mało źródeł, wiemy tylko że konflikt biskup przypłacił życiem, a król – wygn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i rychłą śmiercią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. Stanisław przed ołtarzem. Barokowy obraz z sanktuarium na Skałce. Fot. Grzegorz Szyman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dtytuł 2"/>
          <p:cNvSpPr/>
          <p:nvPr/>
        </p:nvSpPr>
        <p:spPr>
          <a:xfrm>
            <a:off x="4284720" y="1197000"/>
            <a:ext cx="4600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. Stanisław ze wskrzeszonym Piotrem z Piotrawina. Barokowa rzeźba z z sanktuarium na Skałce. Fot. Grzegorz Szyman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zależnie od tego, jaki był prawdziwy przebieg konfliktu, św. Stanisław stał się symbolem konieczności oporu wobec niesprawiedliwej władzy. Każdorazowy hołd każdego nowo koronowanego króla polskiego u grobu św. Stanisława miał przypominać królowi, by rządził sprawiedliw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IMG_1671"/>
          <p:cNvPicPr/>
          <p:nvPr/>
        </p:nvPicPr>
        <p:blipFill>
          <a:blip r:embed="rId1"/>
          <a:srcRect l="0" t="16040" r="0" b="21874"/>
          <a:stretch/>
        </p:blipFill>
        <p:spPr>
          <a:xfrm>
            <a:off x="611280" y="404640"/>
            <a:ext cx="34812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dtytuł 2"/>
          <p:cNvSpPr/>
          <p:nvPr/>
        </p:nvSpPr>
        <p:spPr>
          <a:xfrm>
            <a:off x="1116000" y="39337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eden z czterech orłów, strzegących ciała męczennika. Barokowa rzeźb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  sanktuarium na Skałce.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ot. 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IMG_1666"/>
          <p:cNvPicPr/>
          <p:nvPr/>
        </p:nvPicPr>
        <p:blipFill>
          <a:blip r:embed="rId1"/>
          <a:srcRect l="19689" t="0" r="19689" b="0"/>
          <a:stretch/>
        </p:blipFill>
        <p:spPr>
          <a:xfrm>
            <a:off x="2411280" y="765000"/>
            <a:ext cx="29322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01:30:54Z</dcterms:modified>
  <cp:revision>11</cp:revision>
  <dc:subject/>
  <dc:title>Slajd 1</dc:title>
</cp:coreProperties>
</file>