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4878D-2283-4EE3-977C-39294130F094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5346C-ED55-4C00-8DDB-7B6851C1B23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4374A-4CE9-4C2D-A052-05F8E8E816B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3347-A1F1-48FD-B8FB-7E6423909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4F6F-A259-4D52-9B15-83A7779D9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27C7-11E9-44A2-8B75-F2955A41F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9539-5513-4D19-B3E5-797F7E12B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563B3-044D-4B83-98BC-C229433AE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E6594-28DC-4124-B5B6-A2278062F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FE58A-69F8-4DE5-B206-610C898A4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0FBE2-F594-43F8-B9FE-8648B9D79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969A2-66F0-4C25-91CA-682392C10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E2D1D-D304-49AC-AF0C-676D54AEE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74763-1D9C-4E68-B35B-850FBA0C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2972-CE68-485E-B73C-2DE4B309B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51491-988F-405F-97D4-03528502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95A78-0B50-4AD8-8623-89C153493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F43ED-595D-452A-9D5C-6B4C706AF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5C01B-549A-40D0-A36F-E6BC4F52B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7650D-5E5A-4C28-AAB8-87956DBEB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49E3-7786-46FF-BC8B-6D6CEE525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DD4E-597C-4871-AACA-203D00F2C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39F4-FA63-4831-8ECF-1C7081713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AEA2-DE54-40FD-82B5-1B90AE970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0A65-09DA-4A79-B62E-11FF6FE1A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34C3-F042-4406-A475-D16F39248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C975-1C2E-4514-BD5A-A3F25A349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4A0FC-E656-41A7-A927-C89788CD5396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882A0-A786-4F4D-AB6F-C84AAAFB8E66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presscafe.eu/archives/2252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ypracowania24.pl/historia/7005/feudalizm-drabina-feudalna-syste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historiaokiemucznia.pl.tl/Ustr%F3j-feudalny.htm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pl.wikipedia.org/wiki/Plik:Reeve_and_Serfs.jpg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upload.wikimedia.org/wikipedia/commons/thumb/a/a3/Sark-aerial.jpg/800px-Sark-aerial.jpg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pl.wikipedia.org/wiki/Plik:Flag_of_Sark.svg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6000" y="159192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Relikty świata feudalnego </a:t>
            </a:r>
            <a:br>
              <a:rPr sz="4900"/>
            </a:b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w późniejszych epokach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Bartosz Rzoń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Czy wiesz, ż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09520" y="1534680"/>
            <a:ext cx="692496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Na wyspie Sark zachowały się przykłady prawa średniowieczne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 Sarku wciąż formalnie istnieje (choć od dawna nie jest stosowana) instytucja "prawa pierwszej nocy" przysługująca seniorowi wysp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enior Sarku ma prawo egzekwować od każdego dzierżawcy posiadanie muszkietu na wypadek konieczności obrony wysp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ark jako ostatni kraj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Europie zrównał prawa kobiet i mężczyzn w zakresie dziedziczenia; wcześniej pierwszeństwo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dziedziczeniu mieli synowie (w 1999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Czy w świecie polityki mamy jakieś elementy systemu feudalneg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D:\scenariusze lekcji do przetargu\do realizacji\Relikty swiata feudalnego\grafika\Rys_6_T07_9_polskie_partie.jpg"/>
          <p:cNvPicPr/>
          <p:nvPr/>
        </p:nvPicPr>
        <p:blipFill>
          <a:blip r:embed="rId1"/>
          <a:stretch/>
        </p:blipFill>
        <p:spPr>
          <a:xfrm>
            <a:off x="2112840" y="476280"/>
            <a:ext cx="4918320" cy="4917960"/>
          </a:xfrm>
          <a:prstGeom prst="rect">
            <a:avLst/>
          </a:prstGeom>
          <a:ln w="0">
            <a:noFill/>
          </a:ln>
        </p:spPr>
      </p:pic>
      <p:sp>
        <p:nvSpPr>
          <p:cNvPr id="129" name="pole tekstowe 3"/>
          <p:cNvSpPr/>
          <p:nvPr/>
        </p:nvSpPr>
        <p:spPr>
          <a:xfrm>
            <a:off x="2138040" y="5589720"/>
            <a:ext cx="192132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6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presscafe.eu/archives/2252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A jak to wygląda dzisiaj?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Mamy pozostałości obyczajowości feudalnej w kulturze społecznej? </a:t>
            </a: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ole tekstowe 5"/>
          <p:cNvSpPr/>
          <p:nvPr/>
        </p:nvSpPr>
        <p:spPr>
          <a:xfrm>
            <a:off x="4643280" y="4653000"/>
            <a:ext cx="3241800" cy="6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8 Kardynałowi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http://www.tokfm.pl/Tokfm/5,102433,13545992,Kardynalowie_w_bazylice__a_przed_nia_tlum_reporterow.html?i=9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ole tekstowe 11"/>
          <p:cNvSpPr/>
          <p:nvPr/>
        </p:nvSpPr>
        <p:spPr>
          <a:xfrm>
            <a:off x="468360" y="4724280"/>
            <a:ext cx="3240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7 Sej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http://www.rzeszow4u.pl/polska/minister-sprawiedliwosci-nie-bedzie-prokuratorem-generalnym---sejm-odrzucil-weto-prezydenta.htm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2" descr="D:\scenariusze lekcji do przetargu\do realizacji\Relikty swiata feudalnego\grafika\Rys_7_T07_9_sejm.jpg"/>
          <p:cNvPicPr/>
          <p:nvPr/>
        </p:nvPicPr>
        <p:blipFill>
          <a:blip r:embed="rId1"/>
          <a:stretch/>
        </p:blipFill>
        <p:spPr>
          <a:xfrm>
            <a:off x="468360" y="2060640"/>
            <a:ext cx="3821040" cy="2547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D:\scenariusze lekcji do przetargu\do realizacji\Relikty swiata feudalnego\grafika\Rys_8_T07_9_kardynalowie.jpg"/>
          <p:cNvPicPr/>
          <p:nvPr/>
        </p:nvPicPr>
        <p:blipFill>
          <a:blip r:embed="rId2"/>
          <a:stretch/>
        </p:blipFill>
        <p:spPr>
          <a:xfrm>
            <a:off x="4811760" y="2060640"/>
            <a:ext cx="379872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D:\scenariusze lekcji do przetargu\do realizacji\Relikty swiata feudalnego\grafika\Rys_9_T07_9_Korporacja.jpg"/>
          <p:cNvPicPr/>
          <p:nvPr/>
        </p:nvPicPr>
        <p:blipFill>
          <a:blip r:embed="rId1"/>
          <a:stretch/>
        </p:blipFill>
        <p:spPr>
          <a:xfrm>
            <a:off x="539640" y="907920"/>
            <a:ext cx="4038840" cy="3767400"/>
          </a:xfrm>
          <a:prstGeom prst="rect">
            <a:avLst/>
          </a:prstGeom>
          <a:ln w="0">
            <a:noFill/>
          </a:ln>
        </p:spPr>
      </p:pic>
      <p:sp>
        <p:nvSpPr>
          <p:cNvPr id="136" name="pole tekstowe 5"/>
          <p:cNvSpPr/>
          <p:nvPr/>
        </p:nvSpPr>
        <p:spPr>
          <a:xfrm>
            <a:off x="480960" y="4797360"/>
            <a:ext cx="21574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9 Korporacj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http://www.zboku.pl/zdjecie,iId,36646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D:\scenariusze lekcji do przetargu\do realizacji\Relikty swiata feudalnego\grafika\Rys_10_T07_9_uczelnia.jpg"/>
          <p:cNvPicPr/>
          <p:nvPr/>
        </p:nvPicPr>
        <p:blipFill>
          <a:blip r:embed="rId2"/>
          <a:stretch/>
        </p:blipFill>
        <p:spPr>
          <a:xfrm>
            <a:off x="5003640" y="836640"/>
            <a:ext cx="3357720" cy="4525920"/>
          </a:xfrm>
          <a:prstGeom prst="rect">
            <a:avLst/>
          </a:prstGeom>
          <a:ln w="0">
            <a:noFill/>
          </a:ln>
        </p:spPr>
      </p:pic>
      <p:sp>
        <p:nvSpPr>
          <p:cNvPr id="138" name="pole tekstowe 7"/>
          <p:cNvSpPr/>
          <p:nvPr/>
        </p:nvSpPr>
        <p:spPr>
          <a:xfrm>
            <a:off x="4932360" y="5445000"/>
            <a:ext cx="39607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10 Uczelni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Źródło: http://3obieg.pl/poradnik-dla-przyszlych-studentow-warszawskich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C:\Users\Bartek\Downloads\rodzina.jpg"/>
          <p:cNvPicPr/>
          <p:nvPr/>
        </p:nvPicPr>
        <p:blipFill>
          <a:blip r:embed="rId1"/>
          <a:stretch/>
        </p:blipFill>
        <p:spPr>
          <a:xfrm>
            <a:off x="1692360" y="620640"/>
            <a:ext cx="5715000" cy="4657680"/>
          </a:xfrm>
          <a:prstGeom prst="rect">
            <a:avLst/>
          </a:prstGeom>
          <a:ln w="0">
            <a:noFill/>
          </a:ln>
        </p:spPr>
      </p:pic>
      <p:sp>
        <p:nvSpPr>
          <p:cNvPr id="140" name="pole tekstowe 8"/>
          <p:cNvSpPr/>
          <p:nvPr/>
        </p:nvSpPr>
        <p:spPr>
          <a:xfrm>
            <a:off x="1707480" y="5589720"/>
            <a:ext cx="2326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11 Rodzin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http://sp2nowe.edupage.org/news/?zac=8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A w innych sferach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2" descr="D:\scenariusze lekcji do przetargu\do realizacji\Relikty swiata feudalnego\grafika\Rys_12_T07_9_don_corleone.jpg"/>
          <p:cNvPicPr/>
          <p:nvPr/>
        </p:nvPicPr>
        <p:blipFill>
          <a:blip r:embed="rId1"/>
          <a:stretch/>
        </p:blipFill>
        <p:spPr>
          <a:xfrm>
            <a:off x="1332000" y="1700280"/>
            <a:ext cx="6302160" cy="42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http://www.youtube.com/watch?v=FetPfbmy4P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lan prezentacj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rótkie przypomnieni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Relikty feudalne w późniejszych epokach – „czy wiesz, że”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Świat polityki a prawa feudal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zisiejsza kultura społeczna a feudaliz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Inne sfe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Krótka powtór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Feudalizm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-  formacja społeczno-gospodarcza,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której dominowała wielka własność ziemska. Własność ziemi dawała władzę nad chłopami, którzy utrzymywali i dostarczali dochody swemu panu. Był to również ustrój prawny, oparty na więziach między seniorem i wasalem oraz nadaniu lenna. Dominował w Europie Zachodniej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D:\scenariusze lekcji do przetargu\do realizacji\Relikty swiata feudalnego\grafika\Rys_1_T07_9_danina.jpg"/>
          <p:cNvPicPr/>
          <p:nvPr/>
        </p:nvPicPr>
        <p:blipFill>
          <a:blip r:embed="rId1"/>
          <a:stretch/>
        </p:blipFill>
        <p:spPr>
          <a:xfrm>
            <a:off x="4648320" y="2516040"/>
            <a:ext cx="4038480" cy="2694240"/>
          </a:xfrm>
          <a:prstGeom prst="rect">
            <a:avLst/>
          </a:prstGeom>
          <a:ln w="0">
            <a:noFill/>
          </a:ln>
        </p:spPr>
      </p:pic>
      <p:sp>
        <p:nvSpPr>
          <p:cNvPr id="102" name="pole tekstowe 6"/>
          <p:cNvSpPr/>
          <p:nvPr/>
        </p:nvSpPr>
        <p:spPr>
          <a:xfrm>
            <a:off x="4600440" y="5300640"/>
            <a:ext cx="368460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ypracowania24.pl/historia/7005/feudalizm-drabina-feudalna-syste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Krótka powtór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Wasal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- człowiek wolny, który przysięgał wierność człowiekowi możnemu- swojemu seniorowi.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zamian otrzymywał opiekę i utrzymanie, najczęściej w formie nadania ziemi, zobowiązując się służyć seniorowi radą i pomocą wojskową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D:\scenariusze lekcji do przetargu\do realizacji\Relikty swiata feudalnego\grafika\Rys_2_T07_9_hold_lenny.jpg"/>
          <p:cNvPicPr/>
          <p:nvPr/>
        </p:nvPicPr>
        <p:blipFill>
          <a:blip r:embed="rId1"/>
          <a:stretch/>
        </p:blipFill>
        <p:spPr>
          <a:xfrm>
            <a:off x="457200" y="2475000"/>
            <a:ext cx="4038480" cy="2776320"/>
          </a:xfrm>
          <a:prstGeom prst="rect">
            <a:avLst/>
          </a:prstGeom>
          <a:ln w="0">
            <a:noFill/>
          </a:ln>
        </p:spPr>
      </p:pic>
      <p:sp>
        <p:nvSpPr>
          <p:cNvPr id="106" name="pole tekstowe 5"/>
          <p:cNvSpPr/>
          <p:nvPr/>
        </p:nvSpPr>
        <p:spPr>
          <a:xfrm>
            <a:off x="416880" y="5300640"/>
            <a:ext cx="278064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historiaokiemucznia.pl.tl/Ustr%F3j-feudalny.ht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Krótka powtór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Poddaństwo -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łożenie prawne i ekonomiczne chłopów w średniowieczu, wyrażające ich zależność od feudała. Poddani chłopi byli zobowiązani do pracy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 różnego rodzaju danin na rzecz pana, musieli uzyskać jego zgodę na zawarcie małżeństwa, mieli także ograniczona swobodę opuszczania gospodarst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D:\scenariusze lekcji do przetargu\do realizacji\Relikty swiata feudalnego\grafika\Rys_3_T07_9_poddani.jpg"/>
          <p:cNvPicPr/>
          <p:nvPr/>
        </p:nvPicPr>
        <p:blipFill>
          <a:blip r:embed="rId1"/>
          <a:stretch/>
        </p:blipFill>
        <p:spPr>
          <a:xfrm>
            <a:off x="4572000" y="2205000"/>
            <a:ext cx="3971880" cy="2289240"/>
          </a:xfrm>
          <a:prstGeom prst="rect">
            <a:avLst/>
          </a:prstGeom>
          <a:ln w="0">
            <a:noFill/>
          </a:ln>
        </p:spPr>
      </p:pic>
      <p:sp>
        <p:nvSpPr>
          <p:cNvPr id="110" name="pole tekstowe 5"/>
          <p:cNvSpPr/>
          <p:nvPr/>
        </p:nvSpPr>
        <p:spPr>
          <a:xfrm>
            <a:off x="4594680" y="4581360"/>
            <a:ext cx="271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pl.wikipedia.org/wiki/Plik:Reeve_and_Serfs.jp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Czy odnajdujemy relikty świata feudalnego w późniejszych epokach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Czy wiesz, ż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yspa Sark to </a:t>
            </a:r>
            <a:r>
              <a:rPr b="0" i="1" lang="pl-PL" sz="2800" spc="-1" strike="noStrike">
                <a:solidFill>
                  <a:srgbClr val="000000"/>
                </a:solidFill>
                <a:latin typeface="Calibri"/>
              </a:rPr>
              <a:t>de facto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 feudalna monarchia dziedziczna pod władzą seniora, uznająca zwierzchność króla Angli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D:\scenariusze lekcji do przetargu\do realizacji\Relikty swiata feudalnego\grafika\Rys_4_T07_9wyspa_Sark.jpg"/>
          <p:cNvPicPr/>
          <p:nvPr/>
        </p:nvPicPr>
        <p:blipFill>
          <a:blip r:embed="rId1"/>
          <a:stretch/>
        </p:blipFill>
        <p:spPr>
          <a:xfrm>
            <a:off x="4572000" y="1700280"/>
            <a:ext cx="4037040" cy="2665440"/>
          </a:xfrm>
          <a:prstGeom prst="rect">
            <a:avLst/>
          </a:prstGeom>
          <a:ln w="0">
            <a:noFill/>
          </a:ln>
        </p:spPr>
      </p:pic>
      <p:sp>
        <p:nvSpPr>
          <p:cNvPr id="115" name="pole tekstowe 5"/>
          <p:cNvSpPr/>
          <p:nvPr/>
        </p:nvSpPr>
        <p:spPr>
          <a:xfrm>
            <a:off x="4472640" y="4437000"/>
            <a:ext cx="464004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4 Wyspa Sark z lotu ptak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upload.wikimedia.org/wikipedia/commons/thumb/a/a3/Sark-aerial.jpg/800px-Sark-aerial.jp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Flaga Sark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D:\scenariusze lekcji do przetargu\do realizacji\Relikty swiata feudalnego\grafika\Rys_5_T07_9_Flaga_Sarku.png"/>
          <p:cNvPicPr/>
          <p:nvPr/>
        </p:nvPicPr>
        <p:blipFill>
          <a:blip r:embed="rId1"/>
          <a:stretch/>
        </p:blipFill>
        <p:spPr>
          <a:xfrm>
            <a:off x="1116000" y="1268280"/>
            <a:ext cx="6905520" cy="4143600"/>
          </a:xfrm>
          <a:prstGeom prst="rect">
            <a:avLst/>
          </a:prstGeom>
          <a:ln w="0">
            <a:noFill/>
          </a:ln>
        </p:spPr>
      </p:pic>
      <p:sp>
        <p:nvSpPr>
          <p:cNvPr id="118" name="pole tekstowe 8"/>
          <p:cNvSpPr/>
          <p:nvPr/>
        </p:nvSpPr>
        <p:spPr>
          <a:xfrm>
            <a:off x="1135440" y="5516640"/>
            <a:ext cx="256284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pl.wikipedia.org/wiki/Plik:Flag_of_Sark.svg</a:t>
            </a: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Czy wiesz, ż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01880" y="1534680"/>
            <a:ext cx="714024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Na wyspie Sark zachowały się przykłady prawa średniowieczne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rawo męża do wychłostania żo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średniowieczny zwyczaj </a:t>
            </a: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Clameur de Haro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, który pozwala obywatelowi na zwołanie sądu do rozpatrzenia sprawy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sytuacji, gdy uważa on, że jego prawa zostały naruszo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ark, jako ostatni kraj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Europie zachodniej usunął karę śmierci ze swojego ustawodawstwa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czasach pokoju (w 2004 r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Bartek</cp:lastModifiedBy>
  <dcterms:modified xsi:type="dcterms:W3CDTF">2013-06-12T19:59:16Z</dcterms:modified>
  <cp:revision>44</cp:revision>
  <dc:subject/>
  <dc:title>Slajd 1</dc:title>
</cp:coreProperties>
</file>