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6669-EE53-4D5E-8B52-47CA616287C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483B-69BE-4A03-8706-9A8871DA25F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0EE4-846F-4B06-A726-2535411C779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4E67-FEC4-42FB-8155-063A520D61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EB9E-984E-472B-B4B7-2FB69C9F9D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3993-2C5C-4BC4-A21C-A57DDB99B2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484A-3A43-4E16-BAD3-A56DADFFC94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DAD2-46A2-435D-ACCE-BEC3A4440F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9184-A62F-4F19-A05B-0D4DA34476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92E6-4743-45F6-9BAC-6920C0BA0A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52B0-24B8-4EA1-A8C2-C8BFF26D01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EC9C-7316-4C0B-93C2-8E1505BF30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BE3A-5103-4970-86EC-31F9BB990E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CCF1-0A99-4546-987F-F3B331A61B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A3BD-B564-4B2B-8B75-ECC3E1B5FB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276A-48B0-4EAF-BB09-162023C3D9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CEFC-E74E-4B1E-9F9F-7F769BC5704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8A08-4F55-4952-BD6A-F836806E40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EA38-3B54-4798-8002-D84D53FE07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BB55-1E19-455C-B637-3B1C24136F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FA9-EF38-4AEB-80C0-1A8B3599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37C-5650-4B6E-8C58-7DF233E3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8A2-2745-4AA3-8D54-CABDA437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F11-EA05-48C3-8ECB-684BA9B3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2A98-F08E-4C7C-843E-5C4FA74F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ACE-0E70-4500-9010-EDD7D580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5C81-D7A3-497A-BE0A-FC7249AC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AB2E-B4B0-46FC-B417-81F23969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AA89-E5CD-4C28-B83F-90F5B050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F7DD-FBE2-461E-A8E9-A123D880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B59F-8B3A-41E2-9E22-BBFDFD0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0B5-C841-4C6F-99B8-648EE05B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25F3-414D-42E1-B0B7-0D9BA29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EAE8-AE06-4E48-AF2F-506199E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C5C6-D90B-4681-A44F-9ADD8F9B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45D8-3700-4F4D-9020-377687A8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F4F8-D42A-4316-BAC7-6C054705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9B2-2F23-40AF-989D-C79FEA88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4F9-7207-45EC-B83C-DF8B8698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ECA-AC78-47C6-818E-9C8CE2DF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716-3C7C-4E64-9356-EACFF224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AFE-E5D8-4CF6-B055-3B00CACC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F85-ACFE-4FC7-8911-B7052778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ADE-B168-4448-8BA5-BF40449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08FE-F317-4BEF-AFF5-C345B4B8E16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860D-DB81-4FC8-BD97-AB59B4D9BFB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zeum.archidiecezja.wroc.pl/" TargetMode="External"/><Relationship Id="rId2" Type="http://schemas.openxmlformats.org/officeDocument/2006/relationships/hyperlink" Target="http://www.katedra.archidiecezja.wroc.pl/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2/22/Poland_Wroclaw_Cathedral_2007.jpg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Ratusz_wroclaw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waloryzacja.com/pracownia/projekty/bedzin_koncepcja/prezentacja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zamkipolskie.com/olsz/olsz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awel.krakow.pl/pl/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gfx.mmka.pl/newsph/338316/525668.3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dziemiarynku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n.wroclaw.pl/przewodnik/sredniowieczeRzezbaKamienna.pdf" TargetMode="External"/><Relationship Id="rId2" Type="http://schemas.openxmlformats.org/officeDocument/2006/relationships/hyperlink" Target="http://mn.wroclaw.pl/przewodnik/sredniowieczeSala2.pd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irtualne zwiedzani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czego na Śląsku wyjątkowa była pozycja wrocławskiego biskup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ie znaczenie na ówczesnym Śląsku miała kultura niemiecka? Czy mogło być to przeszkodą w uzyskaniu tronu w Kra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m był Henryk IV Prob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wygląda sarkofag Henryka Probusa? Czy książę został przedstawiony jako władca, czy jako rycerz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powiedzieć o przedmiotach codziennego użytku zgromadzonych na wysta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Archidiecezjalne, Ka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2"/>
          <p:cNvSpPr/>
          <p:nvPr/>
        </p:nvSpPr>
        <p:spPr>
          <a:xfrm>
            <a:off x="1403280" y="1700280"/>
            <a:ext cx="44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uzeum.archidiecezja.wroc.pl/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www.katedra.archidiecezja.wroc.p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6"/>
          <p:cNvSpPr/>
          <p:nvPr/>
        </p:nvSpPr>
        <p:spPr>
          <a:xfrm>
            <a:off x="2850840" y="2565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upload.wikimedia.org/wikipedia/commons/2/22/Poland_Wroclaw_Cathedral_2007.jpg"/>
          <p:cNvPicPr/>
          <p:nvPr/>
        </p:nvPicPr>
        <p:blipFill>
          <a:blip r:embed="rId3"/>
          <a:stretch/>
        </p:blipFill>
        <p:spPr>
          <a:xfrm>
            <a:off x="5724360" y="1628640"/>
            <a:ext cx="2948040" cy="415296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9"/>
          <p:cNvSpPr/>
          <p:nvPr/>
        </p:nvSpPr>
        <p:spPr>
          <a:xfrm>
            <a:off x="111600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upload.wikimedia.org/wikipedia/commons/2/22/Poland_Wroclaw_Cathedral_2007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321120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9"/>
          <p:cNvSpPr/>
          <p:nvPr/>
        </p:nvSpPr>
        <p:spPr>
          <a:xfrm>
            <a:off x="17928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Ratusz_wroclaw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0"/>
          <p:cNvSpPr/>
          <p:nvPr/>
        </p:nvSpPr>
        <p:spPr>
          <a:xfrm>
            <a:off x="402840" y="306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Plik:Ratusz wroclaw.JPG"/>
          <p:cNvPicPr/>
          <p:nvPr/>
        </p:nvPicPr>
        <p:blipFill>
          <a:blip r:embed="rId2"/>
          <a:stretch/>
        </p:blipFill>
        <p:spPr>
          <a:xfrm>
            <a:off x="3348000" y="1773360"/>
            <a:ext cx="55404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3942720" y="-69480"/>
            <a:ext cx="1258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arta pracy ucznia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7"/>
          <p:cNvSpPr/>
          <p:nvPr/>
        </p:nvSpPr>
        <p:spPr>
          <a:xfrm>
            <a:off x="684360" y="1773360"/>
            <a:ext cx="7920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kład urbanistyczny – czy miasto rozrastało się planowo, czy chaotyczni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ronność miasta – czy było obronne w sposób natural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stytucje miejskie – gdzie były położ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429912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Będzi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miasto.org.pl/index.php?option=com_content&amp;task=view&amp;id=39&amp;Itemid=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rewaloryzacja.com/pracownia/projekty/bedzin_koncepcja/prezentacja.ht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Image"/>
          <p:cNvPicPr/>
          <p:nvPr/>
        </p:nvPicPr>
        <p:blipFill>
          <a:blip r:embed="rId2"/>
          <a:stretch/>
        </p:blipFill>
        <p:spPr>
          <a:xfrm>
            <a:off x="2268360" y="1125360"/>
            <a:ext cx="42865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0" y="836280"/>
            <a:ext cx="421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6659640" y="3645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smycki P. 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odnik po Krakowsko-Wieluńskim paśmie gór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Kielce 19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Grzes\Moje dokumenty\Downloads\orlegniazda przesmycki.jpg"/>
          <p:cNvPicPr/>
          <p:nvPr/>
        </p:nvPicPr>
        <p:blipFill>
          <a:blip r:embed="rId1"/>
          <a:stretch/>
        </p:blipFill>
        <p:spPr>
          <a:xfrm>
            <a:off x="395280" y="189000"/>
            <a:ext cx="4448160" cy="5800680"/>
          </a:xfrm>
          <a:prstGeom prst="rect">
            <a:avLst/>
          </a:prstGeom>
          <a:ln w="0">
            <a:noFill/>
          </a:ln>
        </p:spPr>
      </p:pic>
      <p:cxnSp>
        <p:nvCxnSpPr>
          <p:cNvPr id="146" name="Łącznik prosty ze strzałką 8"/>
          <p:cNvCxnSpPr/>
          <p:nvPr/>
        </p:nvCxnSpPr>
        <p:spPr>
          <a:xfrm>
            <a:off x="2268000" y="1773000"/>
            <a:ext cx="374436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Łącznik prosty ze strzałką 9"/>
          <p:cNvCxnSpPr/>
          <p:nvPr/>
        </p:nvCxnSpPr>
        <p:spPr>
          <a:xfrm>
            <a:off x="1332000" y="836640"/>
            <a:ext cx="6193440" cy="1513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pole tekstowe 11"/>
          <p:cNvSpPr/>
          <p:nvPr/>
        </p:nvSpPr>
        <p:spPr>
          <a:xfrm>
            <a:off x="759636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lszt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2"/>
          <p:cNvSpPr/>
          <p:nvPr/>
        </p:nvSpPr>
        <p:spPr>
          <a:xfrm>
            <a:off x="6084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48628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Olszty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zamkipolskie.com/olsz/olsz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Documents and Settings\Grzes\Pulpit\nowaplyta\15_03_W9_Od_rozbicia_dzielnicowego\ilustracje1\IMG_7993.JPG"/>
          <p:cNvPicPr/>
          <p:nvPr/>
        </p:nvPicPr>
        <p:blipFill>
          <a:blip r:embed="rId2"/>
          <a:stretch/>
        </p:blipFill>
        <p:spPr>
          <a:xfrm>
            <a:off x="4788000" y="1341360"/>
            <a:ext cx="4138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260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4496760"/>
            <a:ext cx="47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Mirow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zamkipolskie.com/mirow/mirow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8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2852280"/>
            <a:ext cx="35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Lanckoro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ciekawe-miejsca.net/przewodnik/polska/lanckorona_czas_zatrzy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1036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97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awel Zaginiony i 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Grzes\Pulpit\nowaplyta\15_03_W9_Od_rozbicia_dzielnicowego\ilustracje1\IMG_0914.JPG"/>
          <p:cNvPicPr/>
          <p:nvPr/>
        </p:nvPicPr>
        <p:blipFill>
          <a:blip r:embed="rId1"/>
          <a:stretch/>
        </p:blipFill>
        <p:spPr>
          <a:xfrm>
            <a:off x="611280" y="2276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507672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ieta wzgórza Wawelskigo w XII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dtytuł 2"/>
          <p:cNvSpPr/>
          <p:nvPr/>
        </p:nvSpPr>
        <p:spPr>
          <a:xfrm>
            <a:off x="250920" y="3789360"/>
            <a:ext cx="345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otunda i fragmenty starej kamieniar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Grzes\Pulpit\nowaplyta\15_03_W9_Od_rozbicia_dzielnicowego\ilustracje1\IMG_0913.JPG"/>
          <p:cNvPicPr/>
          <p:nvPr/>
        </p:nvPicPr>
        <p:blipFill>
          <a:blip r:embed="rId1"/>
          <a:stretch/>
        </p:blipFill>
        <p:spPr>
          <a:xfrm>
            <a:off x="395280" y="40464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Grzes\Pulpit\nowaplyta\15_03_W9_Od_rozbicia_dzielnicowego\ilustracje1\IMG_1445.JPG"/>
          <p:cNvPicPr/>
          <p:nvPr/>
        </p:nvPicPr>
        <p:blipFill>
          <a:blip r:embed="rId2"/>
          <a:stretch/>
        </p:blipFill>
        <p:spPr>
          <a:xfrm>
            <a:off x="3708360" y="2637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21964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Grzes\Pulpit\nowaplyta\15_03_W9_Od_rozbicia_dzielnicowego\ilustracje1\IMG_1431.JPG"/>
          <p:cNvPicPr/>
          <p:nvPr/>
        </p:nvPicPr>
        <p:blipFill>
          <a:blip r:embed="rId1"/>
          <a:stretch/>
        </p:blipFill>
        <p:spPr>
          <a:xfrm>
            <a:off x="2340000" y="1341360"/>
            <a:ext cx="391788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900000" y="4585680"/>
            <a:ext cx="49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ły dodatkowe dostępne na strona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katedra-wawelska.pl/zarys_dziejow_katedry,3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wawel.krakow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http://gfx.mmka.pl/newsph/338316/525668.3.jpg"/>
          <p:cNvPicPr/>
          <p:nvPr/>
        </p:nvPicPr>
        <p:blipFill>
          <a:blip r:embed="rId3"/>
          <a:stretch/>
        </p:blipFill>
        <p:spPr>
          <a:xfrm>
            <a:off x="6372360" y="1268280"/>
            <a:ext cx="246204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5"/>
          <p:cNvSpPr/>
          <p:nvPr/>
        </p:nvSpPr>
        <p:spPr>
          <a:xfrm>
            <a:off x="6875640" y="479736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fx.mmka.pl/newsph/338316/525668.3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C:\Documents and Settings\Grzes\Pulpit\nowaplyta\15_03_W9_Od_rozbicia_dzielnicowego\ilustracje1\IMG_1514.JPG"/>
          <p:cNvPicPr/>
          <p:nvPr/>
        </p:nvPicPr>
        <p:blipFill>
          <a:blip r:embed="rId5"/>
          <a:stretch/>
        </p:blipFill>
        <p:spPr>
          <a:xfrm>
            <a:off x="179280" y="1341360"/>
            <a:ext cx="2082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ściół św. Andrze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Documents and Settings\Grzes\Pulpit\nowaplyta\15_03_W9_Od_rozbicia_dzielnicowego\ilustracje1\kosciol romanski.jpg"/>
          <p:cNvPicPr/>
          <p:nvPr/>
        </p:nvPicPr>
        <p:blipFill>
          <a:blip r:embed="rId1"/>
          <a:stretch/>
        </p:blipFill>
        <p:spPr>
          <a:xfrm>
            <a:off x="2627280" y="1413000"/>
            <a:ext cx="345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kościół św. Wojcie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Grzes\Pulpit\nowaplyta\15_03_W9_Od_rozbicia_dzielnicowego\ilustracje1\HPIM1662.JPG"/>
          <p:cNvPicPr/>
          <p:nvPr/>
        </p:nvPicPr>
        <p:blipFill>
          <a:blip r:embed="rId1"/>
          <a:stretch/>
        </p:blipFill>
        <p:spPr>
          <a:xfrm>
            <a:off x="1547640" y="1341360"/>
            <a:ext cx="5732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podzi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rostokąt 4"/>
          <p:cNvSpPr/>
          <p:nvPr/>
        </p:nvSpPr>
        <p:spPr>
          <a:xfrm>
            <a:off x="1929240" y="378936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dziemiarynk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1493640" y="2492280"/>
            <a:ext cx="60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6"/>
          <p:cNvSpPr/>
          <p:nvPr/>
        </p:nvSpPr>
        <p:spPr>
          <a:xfrm>
            <a:off x="357156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ry miejskie Kra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:\Foto\architektura\HPIM1680a.jpg"/>
          <p:cNvPicPr/>
          <p:nvPr/>
        </p:nvPicPr>
        <p:blipFill>
          <a:blip r:embed="rId1"/>
          <a:stretch/>
        </p:blipFill>
        <p:spPr>
          <a:xfrm>
            <a:off x="395280" y="1341360"/>
            <a:ext cx="1927080" cy="424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Foto\architektura\HPIM1690.JPG"/>
          <p:cNvPicPr/>
          <p:nvPr/>
        </p:nvPicPr>
        <p:blipFill>
          <a:blip r:embed="rId2"/>
          <a:stretch/>
        </p:blipFill>
        <p:spPr>
          <a:xfrm>
            <a:off x="2484360" y="1557360"/>
            <a:ext cx="2343240" cy="40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:\Foto\architektura\HPIM1693.JPG"/>
          <p:cNvPicPr/>
          <p:nvPr/>
        </p:nvPicPr>
        <p:blipFill>
          <a:blip r:embed="rId3"/>
          <a:stretch/>
        </p:blipFill>
        <p:spPr>
          <a:xfrm>
            <a:off x="4932360" y="1557360"/>
            <a:ext cx="30243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24000" y="1628640"/>
            <a:ext cx="676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am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mnwr.art.pl/CMS/wystawy_stale/sztuka_slaska_XII-XVIw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n.wroclaw.pl/przewodnik/sredniowieczeRzezbaKamienna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mn.wroclaw.pl/przewodnik/sredniowieczeSala1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n.wroclaw.pl/przewodnik/sredniowieczeSala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4"/>
          <p:cNvSpPr/>
          <p:nvPr/>
        </p:nvSpPr>
        <p:spPr>
          <a:xfrm>
            <a:off x="906840" y="5373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8:35:39Z</dcterms:modified>
  <cp:revision>25</cp:revision>
  <dc:subject/>
  <dc:title>Slajd 1</dc:title>
</cp:coreProperties>
</file>