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6F5BE-E7FB-4DAD-965D-D96E3B8FBEAB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2D42C-1216-4874-86B4-A0667DBB414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51961-6E9A-4C0B-98A9-2C42426FC1C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21B61-2729-40FA-8ECF-94AEFCA192B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5ECC-9A14-4C38-BB10-5B7F52B2A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0055-3F9A-45C2-9C28-61C53297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3B25-60E0-4B2F-8940-B52F8C410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F1C6-C8BF-4B07-949B-1F0BB9DA7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7BC48-82E5-4331-BD27-B67EABB51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E055E-C6CA-4076-8BA6-1E5A69EA3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38BA5-2775-4507-99CA-E25538D8A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BEA82-D4F3-4F51-BC0E-C8D0CEF94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328FE-094D-499B-9640-6CFEE0D85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55280" y="274320"/>
            <a:ext cx="79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63B89-BB86-4C56-8DDE-194511308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9D799-F031-418E-B1E6-08B1D2E3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C12D-3436-414F-BFB0-79BDC2070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58A35-A8CF-45CD-9A40-28F0A3AB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B2322-EDC4-4A14-9628-62844B3F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3FEE8-5D59-49B4-BD80-87C8746B8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BFAFA-F8D1-4138-B7CC-22339866C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C7A23-11BC-4592-914F-8EB723F2F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2C3B-C312-4D9F-8454-E533191DE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D658-8851-445E-9931-5CD0480E3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ACD2-EC13-4082-AB2D-F78A94E5A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280" y="274320"/>
            <a:ext cx="79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6248-AA4E-4FB5-BE69-8ED35BE12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3BE1-CCF3-4BDA-B482-F766CD7F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1A00-5055-4231-9420-ED9BBF1E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D949-2298-4E8F-8CED-C78F80CF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76108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-4680" y="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8198A-0757-4D85-A8EE-8AA5FBC6EDF2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76108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-4680" y="0"/>
            <a:ext cx="9144000" cy="1628640"/>
          </a:xfrm>
          <a:prstGeom prst="rect">
            <a:avLst/>
          </a:prstGeom>
          <a:ln w="0">
            <a:noFill/>
          </a:ln>
        </p:spPr>
      </p:pic>
      <p:pic>
        <p:nvPicPr>
          <p:cNvPr id="45" name="Obraz 8" descr="stopka_cz_b_pion.gif"/>
          <p:cNvPicPr/>
          <p:nvPr/>
        </p:nvPicPr>
        <p:blipFill>
          <a:blip r:embed="rId4"/>
          <a:stretch/>
        </p:blipFill>
        <p:spPr>
          <a:xfrm>
            <a:off x="0" y="5877000"/>
            <a:ext cx="9144000" cy="112536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cz_b_pion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29077-ADF4-4613-B354-CE932042CB05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odtytuł 2"/>
          <p:cNvSpPr/>
          <p:nvPr/>
        </p:nvSpPr>
        <p:spPr>
          <a:xfrm>
            <a:off x="1522440" y="4184640"/>
            <a:ext cx="6121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Igor Bartosi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ytuł 1"/>
          <p:cNvSpPr/>
          <p:nvPr/>
        </p:nvSpPr>
        <p:spPr>
          <a:xfrm>
            <a:off x="22320" y="1773360"/>
            <a:ext cx="912168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Społeczeństwo polskie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wobec okupantów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w okresie II wojny światowej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2012-05-24-822"/>
          <p:cNvPicPr/>
          <p:nvPr/>
        </p:nvPicPr>
        <p:blipFill>
          <a:blip r:embed="rId1"/>
          <a:stretch/>
        </p:blipFill>
        <p:spPr>
          <a:xfrm>
            <a:off x="920880" y="620640"/>
            <a:ext cx="4135320" cy="54723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6"/>
          <p:cNvSpPr/>
          <p:nvPr/>
        </p:nvSpPr>
        <p:spPr>
          <a:xfrm>
            <a:off x="5364000" y="1268280"/>
            <a:ext cx="338472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Informacja o przekazaniu 2 milionów marek niemieckich na rozbudowę obozu koncentracyjnego  Auschwit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Archiwum PMA-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755640" y="692280"/>
            <a:ext cx="7488360" cy="53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Postawy społeczne wobec okupantów (akcja </a:t>
            </a:r>
            <a:r>
              <a:rPr b="1" lang="pl-P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 reakcj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padek militarny Polski w 1939 roku </a:t>
            </a:r>
            <a:r>
              <a:rPr b="0" lang="pl-P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artyzantka powrześniowa np. oddział Majora Henryka Dobrzańskiego (pseudonim Hubal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ielegalna emigracja do Francji w celu dołączenia do oddziałów formowanych przez Polski Rząd Emigracyjny generała Władysława Sikorskieg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468360" y="333360"/>
            <a:ext cx="8207280" cy="55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ostawy społeczne wobec okupantów (akcja </a:t>
            </a:r>
            <a:r>
              <a:rPr b="1" lang="pl-P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reakcj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Eksploatacja ekonomiczna kraju i społeczeństwa. Przymus pracy, obowiązkowe kontyngenty dostaw płodów rolnych dla rolników     </a:t>
            </a:r>
            <a:r>
              <a:rPr b="0" lang="pl-P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abotaż w miejscach prac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opagowanie stylu pracy powolnego, niedbałego przynoszącego straty okupanto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krywanie części plonów, hodowli zwierzą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ielegalne młyny, rzeźnie, przemyt,hande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renaż sił roboczych poprzez wywózki do pracy w Niemczech (praca w rolnictwie lub przemyśle) </a:t>
            </a:r>
            <a:r>
              <a:rPr b="0" lang="pl-P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Akcje propagandowe nawołujące do unikania wyjazd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nikanie stawiennictwa na punkty zbor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7" descr="Bundesarchiv_Bild_101I_270_0298_07__Polen__Ghetto_Warschau__Mauer_jpg-seo"/>
          <p:cNvPicPr/>
          <p:nvPr/>
        </p:nvPicPr>
        <p:blipFill>
          <a:blip r:embed="rId1"/>
          <a:stretch/>
        </p:blipFill>
        <p:spPr>
          <a:xfrm>
            <a:off x="539640" y="476280"/>
            <a:ext cx="8002800" cy="46353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8"/>
          <p:cNvSpPr/>
          <p:nvPr/>
        </p:nvSpPr>
        <p:spPr>
          <a:xfrm>
            <a:off x="179280" y="5376960"/>
            <a:ext cx="89647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Mur graniczny oddzielający Polaków i Żydów w gettcie warszawski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Źródło: http://pl.wikipedia.org/wiki/Plik:Bundesarchiv_Bild_101I-270-0298-07,_Polen,_Ghetto_Warschau,_Mauer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468360" y="620640"/>
            <a:ext cx="828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ostawy społeczne wobec okupantów (akcja </a:t>
            </a:r>
            <a:r>
              <a:rPr b="1" lang="pl-P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reakcj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iszczenie edukacji, ograniczenie edukacji powszechnej, likwidacja szkolnictwa średniego i wyższego, aresztowania wśród nauczycieli </a:t>
            </a:r>
            <a:r>
              <a:rPr b="0" lang="pl-P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Tajne nauczanie w zakresie przedmiotów zakazanych przez okupanta (np. historia) prowadzone przez nauczycieli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prywatnych mieszkaniach (tzw. komplety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zkolnictwo średnie i wyższe mające na celu umożliwienie dalszej edukacji dla maturzystów i studentów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óba zapobiegania demoralizacji i patologii wśród młodzież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395280" y="765000"/>
            <a:ext cx="842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ostawy społeczne wobec okupantów (akcja </a:t>
            </a:r>
            <a:r>
              <a:rPr b="1" lang="pl-P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reakcj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cisk ideologiczny oraz niszczenie kultury polskiej poprzez system prasy polskojęzycznej cenzurowanej przez okupanta, skrajne ograniczenie dostępu do informacji radiowej, plakaty propagandowe, niskiej wartości sztuki teatralne oraz produkcje filmowe  </a:t>
            </a:r>
            <a:r>
              <a:rPr b="0" lang="pl-P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odukcja i kolportaż prasy konspiracyjnej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Akcje ulotkowe oraz malowanie znaków działalności konspiracyjnej na mura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onspiracyjne koncerty oraz przedstawienia teatral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539640" y="692280"/>
            <a:ext cx="8280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ostawy społeczne wobec okupantów (akcja </a:t>
            </a:r>
            <a:r>
              <a:rPr b="1" lang="pl-P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reakcj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ześladowanie i eksterminacja ludności żydowskiej</a:t>
            </a:r>
            <a:r>
              <a:rPr b="0" lang="pl-P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krywanie pod groźbą śmierci Żydów zbiegłych z gett lub transportów do obozów śmierc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oraźna pomoc w postaci pożywienia, lekarstw, jednorazowego nocleg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organizowana akcja pomocy – Rada Pomocy Żydom „Żegota”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dobywanie informacji na temat eksterminacji Żydów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 przekazanie ich na Zachó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"/>
          <p:cNvSpPr/>
          <p:nvPr/>
        </p:nvSpPr>
        <p:spPr>
          <a:xfrm>
            <a:off x="395280" y="750960"/>
            <a:ext cx="8064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ostawy społeczne wobec okupantó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egatywne postawy części społeczeństw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eklaracja niemieckiej narodowości niepodyktowana groźbą deportacji z terenów III Rzeszy bądź innymi formami represj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spółpraca z okupantami. Przekazywanie informacji na temat przedwojennych działaczy polityczny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dział w siatce donosicieli organizowanych przez Gestapo oraz NKWD mających na celu przeciwdziałanie sabotowaniu zarządzeń okupantów oraz wspomagających ich walkę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 podziemiem niepodległościowy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moc w tropieniu ukrywających się poza gettami Żydów lub szantażowanie w celu zagarnięcia ich kosztowności.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PolskaWalcz_ca"/>
          <p:cNvPicPr/>
          <p:nvPr/>
        </p:nvPicPr>
        <p:blipFill>
          <a:blip r:embed="rId1"/>
          <a:stretch/>
        </p:blipFill>
        <p:spPr>
          <a:xfrm>
            <a:off x="971640" y="628560"/>
            <a:ext cx="3409920" cy="51134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6"/>
          <p:cNvSpPr/>
          <p:nvPr/>
        </p:nvSpPr>
        <p:spPr>
          <a:xfrm>
            <a:off x="5219640" y="1108080"/>
            <a:ext cx="3097440" cy="33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Symbol Polski Walczącej malowany na murach głównie przez harcerzy 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z tzw. Szarych Szeregó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Źródło: http://osztuce.blogspot.com/2010/08/historia-pewnego-znaku.htm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395280" y="333360"/>
            <a:ext cx="8353440" cy="59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ostawy społeczne wobec okupantów (akcja </a:t>
            </a:r>
            <a:r>
              <a:rPr b="1" lang="pl-P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reakcj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Terror, egzekucje, łapanki, wysyłki do obozów koncentracyjnych, akcje pacyfikacyjne wsi  </a:t>
            </a:r>
            <a:r>
              <a:rPr b="0" lang="pl-P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powstanie zbrojnych organizacji podziemnych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ZP (Służba Zwycięstwu Polski) od września 1939 do listopada 1939 przemianowana następnie w ZWZ  (Związek Walki Zbrojnej), w lutym 1942 w AK (Armię Krajową). Oddziały te były podporządkowane Polskiemu Rządowi Emigracyjnem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Ch (Bataliony Chłopskie) istniały od połowy 1940 roku. Ich zadaniem była obrona mieszkańców wsi. Współpracowały z A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GL (Gwardia Ludowa) istniała od marca 1942 od początku 1944 roku przekształcone w AL (Armię Ludową). Oddziały były podporządkowane ZSR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GL WRN (Gwardia Ludowa – Wolność Równość Niezawisłość). Oddziały współpracowały z A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SZ (Narodowe Siły Zbrojne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ŻOB i ŻOW (Żydowska Organizacja Bojowa i Żydowska Organizacja Wojskowa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pis treści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1"/>
          <p:cNvSpPr/>
          <p:nvPr/>
        </p:nvSpPr>
        <p:spPr>
          <a:xfrm>
            <a:off x="684360" y="1341360"/>
            <a:ext cx="813564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Skutki agresji III Rzeszy i Związku Radzieckiego na Polskę we wrześniu 1939 r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Aneksja ziem podbitych przez III Rzeszę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Anekscja ziem podbitych przez Związek Radziecki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Prześladowania Polaków na terenach anektowanych przez III Rzeszę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Prześladowania Polaków na terenach anektowanych przez ZSRR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Akcje eksterminacyjne podejmowane przez III Rzeszę i ZSRR wobec obywateli polskich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Postawy społeczne wobec okupantów (akcja – reakcja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Główne zadania organizacji bojowych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Podziemne Państwo Polskie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Zasadnicze nurty postaw wśród społeczeństwa polskiego po zakończeniu II wojny światowej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Główne skutki II wojny światowej dla społeczeństwa polskiego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"/>
          <p:cNvSpPr/>
          <p:nvPr/>
        </p:nvSpPr>
        <p:spPr>
          <a:xfrm>
            <a:off x="554040" y="692280"/>
            <a:ext cx="83390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Główne zadania organizacji bojow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ziałania partyzanckie skierowane przeciwko samowoli okupan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abotaż polegający na niszczeniu systemów komunikacji, dezorganizacji szlaków kolejowych it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ywers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walnianie więźnió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Akcje odwetowe wobec wysokich dowódców SS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 Gestap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ziałania wywiadowcze i propagandow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lakat Obwieszczenie"/>
          <p:cNvPicPr/>
          <p:nvPr/>
        </p:nvPicPr>
        <p:blipFill>
          <a:blip r:embed="rId1"/>
          <a:stretch/>
        </p:blipFill>
        <p:spPr>
          <a:xfrm>
            <a:off x="826920" y="549360"/>
            <a:ext cx="4248360" cy="570528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"/>
          <p:cNvSpPr/>
          <p:nvPr/>
        </p:nvSpPr>
        <p:spPr>
          <a:xfrm>
            <a:off x="5537160" y="1628640"/>
            <a:ext cx="28512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Obwieszczenie władz hitlerowskich 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o wykonaniu egzekucji jako odwet za akcje organizacji podziemny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Źródło : Główna Komisja  Badania  Zbrodni Hitlerowskich w Polsce (zbiory autora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611280" y="404640"/>
            <a:ext cx="828180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Pomimo okupacji na okupowanych terenach funkcjonowało tzw. </a:t>
            </a:r>
            <a:r>
              <a:rPr b="1" lang="pl-PL" sz="2200" spc="-1" strike="noStrike">
                <a:solidFill>
                  <a:srgbClr val="000000"/>
                </a:solidFill>
                <a:latin typeface="Calibri"/>
              </a:rPr>
              <a:t>Polskie Państwo Podziemn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Powstało ona na bazie ZWZ – AK obejmowało dwa piony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Podległy one prezydentowi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Wojskowy podległy Naczelnemu Wodzowi zarządzany przez Dowódcę AK oraz Kierownictwo Walki Podziemnej składał się m.in.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z następujących komórek organizacyjnych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Dywersj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Łącznośc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Kwatermistrzowsk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Operacyjny i in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Cywilny podległy premierowi Rządu Emigracyjnego. Składał się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z komórek organizacyjnych typowych dla funkcjonowania organizmu państwowego czyli: skarbu, spraw wewnętrznych, oświaty, sprawiedliwości, komunikacji it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"/>
          <p:cNvSpPr/>
          <p:nvPr/>
        </p:nvSpPr>
        <p:spPr>
          <a:xfrm>
            <a:off x="611280" y="549360"/>
            <a:ext cx="8137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Działalność Polskiego Państwa Podziemnego podzielone było na obszary administracyjn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bszar I Mazowsz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bszar II Białysto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bszar III Lwó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bszar IV Zachó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raz samodzielne okręgi: Warszawa-miasto, Kielce-Radom, Łódź, Kraków, Śląsk, Lublin, Wołyń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20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611280" y="476280"/>
            <a:ext cx="7993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Najwybitniejszymi przywódcami Polskiego Państwa Podziemnego byl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Generał Michał Tokarzewski-Karaszewicz pierwszy dowódca SZ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Generał Kazimierz Sosnkowski – Komendant ZW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Generał Stefan Rowecki pseudonim „Grot” – Komendant AK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Generał Tadeusz Komorowski pseudonim „Bór” – Komendant AK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Generał Leopold Okulicki pseudonim „Niedźwiadek”– Komendant AK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20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"/>
          <p:cNvSpPr/>
          <p:nvPr/>
        </p:nvSpPr>
        <p:spPr>
          <a:xfrm>
            <a:off x="539640" y="476280"/>
            <a:ext cx="8280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Zasadnicze nurty postaw wśród społeczeństwa polskiego po zakończeniu II wojny światowej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stawa negacji dla władzy utworzonej przez ośrodki polityczne wspierane przez władze ZSR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bierna (krytyka i nieufność wobec ośrodków władzy tymczasowej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aktywna (kontynuacja działań konspiracyjnych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stawa wyczekiwania (oczekiwanie rozstrzygnięć politycznych wynikająca z umów mocarstw w sprawie Polsk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stawa akceptująca lub wspierająca ośrodki władzy, powstające w oparciu o rząd PKWN mający poparcie Józefa Stali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2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"/>
          <p:cNvSpPr/>
          <p:nvPr/>
        </p:nvSpPr>
        <p:spPr>
          <a:xfrm>
            <a:off x="611280" y="442800"/>
            <a:ext cx="8137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Główne skutki II wojny światowej dla społeczeństwa polskieg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Wysokie straty biologiczne (polegli w skutek działań wojennych, represji okupantów, w skutek ciężkich warunków bytowych, duża ilość inwalidów, rekonwalescentów i sierot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Duże straty w zasobach kulturalno-naukowych (śmierć wybitnych uczonych, inteligencji, dewastacja wyższych uczelni, archiwum, bibliotek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Zmiany terytorialne skutkujące przesunięciem granic (utrata własności prywatnej, straty kulturalne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Zniszczenie infrastruktury w skutek działań wojennych (zniszczone lub uszkodzone szlaki komunikacyjne, łączności, elektryczne itd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Drastyczne przemiany polityczne oraz w zakresie własności prywatnej 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Bibliograf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ole tekstowe 1"/>
          <p:cNvSpPr/>
          <p:nvPr/>
        </p:nvSpPr>
        <p:spPr>
          <a:xfrm>
            <a:off x="826920" y="1268280"/>
            <a:ext cx="7561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zesław Brzoza - Polska w czasach niepodległości i drugiej wojny światowej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1918-1945), Kraków 2003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Jacek Chrobaczyński – Dramatyczny rok 1943, Rzeszów Kraków 2012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Adam Cyra, Wiesław J. Wysocki, Rotmistrz Witold Pilecki, Warszawa 1997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eportacje i przemieszczenia ludności polskiej w głąb ZSRR 1939 – 1945. Przegląd piśmiennictwa – Warszawa 1989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arbara Engelking, Jolanta Żyndul, Feliks Tych, Andrzej Żbikowski – Historia Żydów Polskich przed, w czasie, i po Zagładzie – Warszawa 2008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Jerzy Kobryń - Wspomnienia Sybiraków, Bystrzyca Kłodzka 2008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erman Langbein – Ludzie w Auschwitz, Oświęcim 199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zesław Madajczyk - Polityka III Rzeszy w okupowanej Polsce, Warszawa 197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arek Ney-Krwawicz - Dowódcy Armii Krajowej, RYTM 2009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arek Ney-Krwawicz  - Armia Krajowa. Szkic historyczny, Warszawa 1999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Tomasz Szarota - Okupowanej Warszawy dzień powszedni, Warszawa 201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Elie Wiesel – Noc, Oświęcim 2006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1915920"/>
            <a:ext cx="914400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"/>
          <p:cNvSpPr/>
          <p:nvPr/>
        </p:nvSpPr>
        <p:spPr>
          <a:xfrm>
            <a:off x="611280" y="549360"/>
            <a:ext cx="792144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  <a:ea typeface="Sakkal Majalla"/>
              </a:rPr>
              <a:t>Skutki agresji III Rzeszy i Związku Radzieckiego 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Calibri"/>
                <a:ea typeface="Sakkal Majalla"/>
              </a:rPr>
              <a:t>na Polskę we wrześniu 1939 rok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Sakkal Majall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Sakkal Majalla"/>
              </a:rPr>
              <a:t>Utrata dotychczasowej podmiotowości państwowej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Sakkal Majalla"/>
              </a:rPr>
              <a:t>i politycznej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Sakkal Majall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Sakkal Majalla"/>
              </a:rPr>
              <a:t>Zniszczenia infrastruktury przemysłowej, transportowej, energetycznej, wodociągowej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Sakkal Majall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Sakkal Majalla"/>
              </a:rPr>
              <a:t>Straty biologiczne w wyniku działań wojennych, akcji odwetowych, działalności plutonów egzekucyjnych i sądów specjalnych wyznaczonych do eliminacji warstw przywódczych państwa polskieg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Sakkal Majall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Sakkal Majalla"/>
              </a:rPr>
              <a:t>Na mocy tajnego protokołu paktu Ribbentrop – Mołotow zawartego 23.08.1939 roku terytorium Polski zostało podzielone pomiędzy dwa obce organizmy państwow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"/>
          <p:cNvSpPr/>
          <p:nvPr/>
        </p:nvSpPr>
        <p:spPr>
          <a:xfrm>
            <a:off x="395280" y="549360"/>
            <a:ext cx="820908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Aneksja ziem podbitych przez III Rzeszę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łączenie do Niemiec terenów Górnego Śląska, Wielkopolski, Pomorza Gdańskiego (przedwojenne województwa: śląskie, łódzkie, poznańskie, pomorskie, a także część województw mazowieckiego, kieleckiego oraz część terenów Suwalszczyzny). Ogółem około 94 tys. km</a:t>
            </a:r>
            <a:r>
              <a:rPr b="0" lang="pl-PL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amieszkały przez 10 milionów ludz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tworzenie na pozostałych ziemiach podbitych organu administracyjno-terytorialnego o nazwie Generalne Gubernatorstwo z siedzibą w Krakowie. Był on bezpośrednio podległy zwierzchności III Rzeszy oraz obsadzony przez niemieckich urzędnikó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"/>
          <p:cNvSpPr/>
          <p:nvPr/>
        </p:nvSpPr>
        <p:spPr>
          <a:xfrm>
            <a:off x="539640" y="333360"/>
            <a:ext cx="8209080" cy="61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Aneksja ziem podbitych przez Związek Radzieck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kroczenie na wschodnie tereny Polski Armii Czerwonej 17.01.1939 rok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dział zajętych ziem na Zachodnią Białoruś (obejmowała dawne polskie województwa : białostockie, nowogródzkie, poleskie, wileńskie oraz część warszawskiego) oraz Zachodnią Ukrainę (obejmowała dawne polskie województwa: tarnopolskiego, stanisławowskiego, wołyńskiego, wschodnia część lwowskiego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październiku 1939 roku zorganizowano na anektowanych terytoriach wybory. Były one zaprzeczeniem demokratycznych reguł wyborczych. W ich wyniku utworzono Zgromadzenie Ludowe na Białorusi oraz Zgromadzenie Narodowe Zachodniej Ukrainy. Obydwie Rady przyjęły uchwały o przyłączeniu tych terenów do ZSR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705px-28_Nazi_Germany_1940"/>
          <p:cNvPicPr/>
          <p:nvPr/>
        </p:nvPicPr>
        <p:blipFill>
          <a:blip r:embed="rId1"/>
          <a:stretch/>
        </p:blipFill>
        <p:spPr>
          <a:xfrm>
            <a:off x="468360" y="620640"/>
            <a:ext cx="6480000" cy="55040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7199280" y="1844640"/>
            <a:ext cx="1944720" cy="32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Mapa obrazująca podział terytoriów Polski pomiędzy III Rzeszę i ZSR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Źródło: http://pl.wikipedia.org/wiki/Plik:28_Nazi_Germany_1940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"/>
          <p:cNvSpPr/>
          <p:nvPr/>
        </p:nvSpPr>
        <p:spPr>
          <a:xfrm>
            <a:off x="468360" y="549360"/>
            <a:ext cx="8136000" cy="55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Prześladowania Polaków na terenach anektowanych przez 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II Rzeszę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Likwidacja wszelkich symboli państwa polskieg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prowadzenie szczególnych obostrzeń wobec Polaków znajdujących się na terytorium Rzeszy (zakaz posiadania pojazdów mechanicznych, radioodbiorników, ograniczenie swobody przemieszczania się, ograniczenia w dostępie do miejsc publicznych, praktycznie całkowita likwidacja edukacji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rześladowania ekonomiczne, ograniczenia w zakresie wykonywania usług, rugowanie z miejsc prac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ekwirowanie mieszkań, domów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prowadzenie specjalnych przepisów sankcjonujących drakońskie kary za najdrobniejsze uchybieni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rzeprowadzenie masowych wysiedleń ludności polskiej (w tym także Żydów) do Generalnego Gubernatorstw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acisk wobec części społeczeństwa prowadzący do zadeklarowania przez nią narodowości niemieckiej – tzw. podpisanie Volkslist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"/>
          <p:cNvSpPr/>
          <p:nvPr/>
        </p:nvSpPr>
        <p:spPr>
          <a:xfrm>
            <a:off x="468360" y="476280"/>
            <a:ext cx="8064360" cy="53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Prześladowania Polaków na terenach anektowanych przez ZSR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Likwidacja wszelkich symboli państwa polskieg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ześladowania kościoła i księż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ywłaszczenia i deportacje Polaków (także Żydów obywateli polskich przed 1939 rokiem) w głąb ZSRR. Transporty kierowano do Kazachstanu lub w rejony dalekowschodnie. Ciężkie warunki transportu oraz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 miejscu deportacji przyczyniły się do bardzo dużej śmiertelności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"/>
          <p:cNvSpPr/>
          <p:nvPr/>
        </p:nvSpPr>
        <p:spPr>
          <a:xfrm>
            <a:off x="684360" y="333360"/>
            <a:ext cx="813564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Akcje eksterminacyjne podejmowane przez III Rzeszę i ZSRR wobec obywateli polski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Uwięzienie i likwidacja na mocy tajnych instrukcji Gestapo (Geheime Staatspolizei - Tajna Policja Państwowa) i NKWD (Ludowy Komisariat Spraw Wewnętrznych)  warstw przywódczych społeczeństwa polskiego: działaczy politycznych, społecznych, księży, naukowców, nauczyciel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sadzenie w/w w obozach koncentracyjnych na terenie III Rzeszy lub tzw. łagrach na terenie ZSR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onadt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a terenach okupowanych przez Niemcy represje wobec ludności żydowskiej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prowadzenie oznakowania w postaci opasek, naszywek itp., wyznaczenie specjalnych zamkniętych obszarów mieszkalnych tzw. get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a terenach okupowanych przez ZSRR eksterminacja polskich oficerów (także policjantów, leśników, celników itd.) wziętych do niewoli w 1939 ro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5T16:24:23Z</dcterms:created>
  <dc:creator>Iwona</dc:creator>
  <dc:description/>
  <dc:language>en-US</dc:language>
  <cp:lastModifiedBy>Andrzej</cp:lastModifiedBy>
  <dcterms:modified xsi:type="dcterms:W3CDTF">2013-08-31T17:04:23Z</dcterms:modified>
  <cp:revision>30</cp:revision>
  <dc:subject>szablon prezentacji KPW</dc:subject>
  <dc:title>Zrównoważony rozwój</dc:title>
</cp:coreProperties>
</file>