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CC3A-7B79-4057-B25F-48D91DA0F73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30E6-14BE-4F22-9D3F-9199DA3E94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9E3D-1E0A-4062-B831-43784B0726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88F8-9FC0-4DD5-AFAA-5EFDCF6CF1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2D3A-B7CB-48F8-BCA6-9A6ACD9737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0EDC-0FBB-411E-BC68-7E7729C0D9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18D1-0A1A-4708-9143-5A9CBC0F4A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230A-CFB6-42F9-89FA-BAF3CB13694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8525-BEC2-4C33-954B-FD4E730104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5C3D-15C4-43D7-878D-0B14B036B1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BD3A-2400-47AE-86CC-D9158500D69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DE21-B582-4D5D-93B2-A1DD03A0B0E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92C-DB15-4090-B0A8-C224C86DBF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2441-B12A-48BE-9B2B-9DC02C90B6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F2F-64A9-46D3-8E35-1D622CE6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A92-6602-45A2-B3C6-BFC0D959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893-A401-48E9-8282-FEBABF7B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7EC-B4B9-4953-933C-A03555B4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D0AC-E661-49A1-9394-89DA0733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417B-2F71-4E03-B8CB-4E6D7C7A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C21C-E573-4D13-8B44-1850F2EA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B09E-8B99-4C92-AC9B-93632A9D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882D-5304-4601-A77A-5557E7BB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0BF3-EBD3-4CB6-9814-82ADE95E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63C0-F025-4214-90CA-79A5EF20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409-BD37-4125-B580-BD901BD7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9E0F-59AB-4C8E-B64B-59C084C0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24C5-A83E-448A-BB00-E35840AC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A86D-3FCF-4675-946A-661659AE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3FC1-B4D8-4072-A2B8-74599F7B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4F63-06F8-463C-896E-B04DD179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65A-3057-408B-9A69-6F8B75B8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0BA-B2CE-4739-8B35-A983C49B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13F-7620-4022-BAB9-E4C8B632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2BD-F6B4-4335-8810-8B11EB53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1A6-3E64-439E-A62B-A0D4A3FC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6A0-620F-45FB-A3E1-2158B6A8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660-3E12-489D-B565-4CFA0D7E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FBB-3652-44D8-BA09-926C920B18F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6297-2FDA-48A2-AA4C-341A8741AE8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Sarkofag_&#346;w._Stanis&#322;awa_w_Katedrze_na_Wawelu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95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Dwie wizje sprawowania władzy – papiestwo a cesarstwo. Miecz czy pastorał?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dtytuł 2"/>
          <p:cNvSpPr/>
          <p:nvPr/>
        </p:nvSpPr>
        <p:spPr>
          <a:xfrm>
            <a:off x="3564000" y="1197000"/>
            <a:ext cx="5321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fesja św. Stanisław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: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Sarkofag_%C5%9Aw._Stanis%C5%82awa_w_Katedrze_na_Wawelu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" descr="Plik:Sarkofag Św. Stanisława w Katedrze na Wawelu.jpg"/>
          <p:cNvPicPr/>
          <p:nvPr/>
        </p:nvPicPr>
        <p:blipFill>
          <a:blip r:embed="rId2"/>
          <a:srcRect l="11339" t="0" r="11339" b="6299"/>
          <a:stretch/>
        </p:blipFill>
        <p:spPr>
          <a:xfrm>
            <a:off x="611280" y="404640"/>
            <a:ext cx="29527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dtytuł 2"/>
          <p:cNvSpPr/>
          <p:nvPr/>
        </p:nvSpPr>
        <p:spPr>
          <a:xfrm>
            <a:off x="4427640" y="1341360"/>
            <a:ext cx="337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kordat wormac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" descr="3662000_orig"/>
          <p:cNvPicPr/>
          <p:nvPr/>
        </p:nvPicPr>
        <p:blipFill>
          <a:blip r:embed="rId1"/>
          <a:stretch/>
        </p:blipFill>
        <p:spPr>
          <a:xfrm>
            <a:off x="826920" y="404640"/>
            <a:ext cx="33134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4"/>
          <p:cNvSpPr/>
          <p:nvPr/>
        </p:nvSpPr>
        <p:spPr>
          <a:xfrm>
            <a:off x="468360" y="105264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libat – zasada bezżenności duchownych. Wprowadzony w Europie w XII/XIII w., utrwalony w wieku XVI. Walczono też z symonią (zakupem sakramentów kościelnych). Opornych duchownych suspendow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ężem w walce z cesarstwem była ekskomunika – kara pozbawiająca praw w życiu kościoła (np. niemożność przyjmowania lub udzielania sakramentów, uczestnictwa w liturg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dtytuł 2"/>
          <p:cNvSpPr/>
          <p:nvPr/>
        </p:nvSpPr>
        <p:spPr>
          <a:xfrm>
            <a:off x="5292720" y="1989000"/>
            <a:ext cx="3851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czątki sporu związane są z rokiem 800 i koronacją cesarską Karola Wielkiego. Karol chciał koronować się sam, tymczasem koronacji dokonał papież. Jak sądzisz, dlaczego ten fakt uraził cesarz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koronacja+karola+wielkiego"/>
          <p:cNvPicPr/>
          <p:nvPr/>
        </p:nvPicPr>
        <p:blipFill>
          <a:blip r:embed="rId1"/>
          <a:stretch/>
        </p:blipFill>
        <p:spPr>
          <a:xfrm>
            <a:off x="539640" y="549360"/>
            <a:ext cx="47689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dtytuł 2"/>
          <p:cNvSpPr/>
          <p:nvPr/>
        </p:nvSpPr>
        <p:spPr>
          <a:xfrm>
            <a:off x="5435640" y="1557360"/>
            <a:ext cx="337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westytura bisku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inwestytura"/>
          <p:cNvPicPr/>
          <p:nvPr/>
        </p:nvPicPr>
        <p:blipFill>
          <a:blip r:embed="rId1"/>
          <a:stretch/>
        </p:blipFill>
        <p:spPr>
          <a:xfrm>
            <a:off x="684360" y="620640"/>
            <a:ext cx="4095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dtytuł 2"/>
          <p:cNvSpPr/>
          <p:nvPr/>
        </p:nvSpPr>
        <p:spPr>
          <a:xfrm>
            <a:off x="5364000" y="1268280"/>
            <a:ext cx="3168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ról błaga opata Cluny i hrabinę Matyldę o wstawiennictwo u papieża. Canossa 107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anossa"/>
          <p:cNvPicPr/>
          <p:nvPr/>
        </p:nvPicPr>
        <p:blipFill>
          <a:blip r:embed="rId1"/>
          <a:stretch/>
        </p:blipFill>
        <p:spPr>
          <a:xfrm>
            <a:off x="826920" y="476280"/>
            <a:ext cx="43927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dtytuł 2"/>
          <p:cNvSpPr/>
          <p:nvPr/>
        </p:nvSpPr>
        <p:spPr>
          <a:xfrm>
            <a:off x="1187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olesław II Szczodry, mal. J. Matej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200px-Boleslaw_Smialy"/>
          <p:cNvPicPr/>
          <p:nvPr/>
        </p:nvPicPr>
        <p:blipFill>
          <a:blip r:embed="rId1"/>
          <a:stretch/>
        </p:blipFill>
        <p:spPr>
          <a:xfrm>
            <a:off x="2843280" y="692280"/>
            <a:ext cx="26654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dtytuł 2"/>
          <p:cNvSpPr/>
          <p:nvPr/>
        </p:nvSpPr>
        <p:spPr>
          <a:xfrm>
            <a:off x="4859280" y="1557360"/>
            <a:ext cx="3673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olesław II Szczodry podczas sporu z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św. Stanisławe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karanie niewiernych ż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2"/>
          <p:cNvPicPr/>
          <p:nvPr/>
        </p:nvPicPr>
        <p:blipFill>
          <a:blip r:embed="rId1"/>
          <a:stretch/>
        </p:blipFill>
        <p:spPr>
          <a:xfrm>
            <a:off x="539640" y="260280"/>
            <a:ext cx="40323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dtytuł 2"/>
          <p:cNvSpPr/>
          <p:nvPr/>
        </p:nvSpPr>
        <p:spPr>
          <a:xfrm>
            <a:off x="5508720" y="1413000"/>
            <a:ext cx="22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IMG_1677"/>
          <p:cNvPicPr/>
          <p:nvPr/>
        </p:nvPicPr>
        <p:blipFill>
          <a:blip r:embed="rId1"/>
          <a:stretch/>
        </p:blipFill>
        <p:spPr>
          <a:xfrm>
            <a:off x="1403280" y="476280"/>
            <a:ext cx="3301920" cy="4952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5364000" y="1360080"/>
            <a:ext cx="3419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Biskup krakowski Stanisła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(XI w.), z jego postacią związany jest najbardziej tajemniczy konflikt w średniowiecznej Polsce. Mamy mało źródeł, wiemy tylko że konflikt biskup przypłacił życiem, a król – wygnanie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i rychłą śmiercią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. Stanisław przed ołtarzem. Barokowy obraz z sanktuarium na Skałce. Fot. Grzegorz Szymanow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dtytuł 2"/>
          <p:cNvSpPr/>
          <p:nvPr/>
        </p:nvSpPr>
        <p:spPr>
          <a:xfrm>
            <a:off x="4284720" y="1197000"/>
            <a:ext cx="4600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. Stanisław ze wskrzeszonym Piotrem z Piotrawina. Barokowa rzeźba z z sanktuarium na Skałce. Fot. Grzegorz Szymanow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zależnie od tego, jaki był prawdziwy przebieg konfliktu, św. Stanisław stał się symbolem konieczności oporu wobec niesprawiedliwej władzy. Każdorazowy hołd każdego nowo koronowanego króla polskiego u grobu św. Stanisława miał przypominać królowi, by rządził sprawiedliw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" descr="IMG_1671"/>
          <p:cNvPicPr/>
          <p:nvPr/>
        </p:nvPicPr>
        <p:blipFill>
          <a:blip r:embed="rId1"/>
          <a:srcRect l="0" t="16040" r="0" b="21874"/>
          <a:stretch/>
        </p:blipFill>
        <p:spPr>
          <a:xfrm>
            <a:off x="611280" y="404640"/>
            <a:ext cx="34812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dtytuł 2"/>
          <p:cNvSpPr/>
          <p:nvPr/>
        </p:nvSpPr>
        <p:spPr>
          <a:xfrm>
            <a:off x="1116000" y="39337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eden z czterech orłów, strzegących ciała męczennika. Barokowa rzeźb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  sanktuarium na Skałce.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ot. 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IMG_1666"/>
          <p:cNvPicPr/>
          <p:nvPr/>
        </p:nvPicPr>
        <p:blipFill>
          <a:blip r:embed="rId1"/>
          <a:srcRect l="19689" t="0" r="19689" b="0"/>
          <a:stretch/>
        </p:blipFill>
        <p:spPr>
          <a:xfrm>
            <a:off x="2411280" y="765000"/>
            <a:ext cx="29322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01:30:54Z</dcterms:modified>
  <cp:revision>11</cp:revision>
  <dc:subject/>
  <dc:title>Slajd 1</dc:title>
</cp:coreProperties>
</file>