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0567-770D-4A04-B289-BD1D3E4C6CB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66F6-426E-4625-B6C2-1F62A717113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8C38-023F-41F4-B723-88B6D16828C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FBE-A623-4E4A-93D5-4A134FE8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309-A369-4D81-BDE1-3B699C45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736-3030-4A0F-9563-27DB9633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4EE-2C8B-4D3F-9C16-D41DB130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8919-53DE-45DF-BBD0-EAEEDCEF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F41E-F009-444E-A848-62D749E8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23E6-4AB3-4CDA-B4CC-E7DE4FA7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6B05-D768-4273-81A3-5F0F5E7D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3FA6-7D06-4749-98B8-D7D67D2A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B4F6-3F15-4DE3-A8B3-22FA1A17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6508-ED59-4EDC-810F-B11663BC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987-A7EC-473D-A11D-4EFC91B6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22E1-F970-454C-8A40-3E12729C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774A-2E23-4D74-8CB3-2C66C224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668C-5334-4022-8984-416214F7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18A1-6417-4254-AAAC-3D108B09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97E5-68F0-418A-BE74-7A6767FC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5FA-5AE9-411B-B051-844160F9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3C8-D15A-47DB-8B6A-2DAA7BA9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A41-08B6-4635-A889-A6F84B20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23D-76A5-42A9-BE5F-90BC20A9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DD5-A69A-4BD6-A400-0525091C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38A-ABC1-4923-A97C-285A6F2A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4F0-7DBE-40C9-A7C2-2F4705C2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E464-A455-4587-B94A-A213ED1787E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714F-8926-41BD-AF8C-C7D3D1E1D86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c.europa.eu/economy_finance/focuson/inflation/inflation_in_daily_life_across_the_eu_pl.ht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bportal.pl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bportal.pl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as.polskieradio.pl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iznes.pwn.pl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las.polskieradio.pl/" TargetMode="External"/><Relationship Id="rId2" Type="http://schemas.openxmlformats.org/officeDocument/2006/relationships/hyperlink" Target="http://www.nbportal.pl/pl/np/artykuly/pieniadz/historia_inflacji4" TargetMode="External"/><Relationship Id="rId3" Type="http://schemas.openxmlformats.org/officeDocument/2006/relationships/hyperlink" Target="http://www.nbportal.pl/" TargetMode="External"/><Relationship Id="rId4" Type="http://schemas.openxmlformats.org/officeDocument/2006/relationships/hyperlink" Target="http://www.pwn.pl/" TargetMode="External"/><Relationship Id="rId5" Type="http://schemas.openxmlformats.org/officeDocument/2006/relationships/hyperlink" Target="http://www.biznes.pwn.pl/" TargetMode="External"/><Relationship Id="rId6" Type="http://schemas.openxmlformats.org/officeDocument/2006/relationships/hyperlink" Target="http://www.encyklopedia.pwn.pl/" TargetMode="External"/><Relationship Id="rId7" Type="http://schemas.openxmlformats.org/officeDocument/2006/relationships/hyperlink" Target="http://ec.europa.eu/economy_finance/focuson/inflation/what_pl.htm" TargetMode="External"/><Relationship Id="rId8" Type="http://schemas.openxmlformats.org/officeDocument/2006/relationships/hyperlink" Target="http://www.for.org.pl/" TargetMode="External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59937401@N07/5929566423/in/photostream/" TargetMode="External"/><Relationship Id="rId2" Type="http://schemas.openxmlformats.org/officeDocument/2006/relationships/hyperlink" Target="http://www.flickr.com/photos/amagill/3367543094/" TargetMode="External"/><Relationship Id="rId3" Type="http://schemas.openxmlformats.org/officeDocument/2006/relationships/hyperlink" Target="http://www.flickr.com/photos/59937401@N07/5929568821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ym jest gospodarka towarowo-pieniężna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kutki infl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5"/>
          <p:cNvSpPr/>
          <p:nvPr/>
        </p:nvSpPr>
        <p:spPr>
          <a:xfrm>
            <a:off x="395280" y="1268280"/>
            <a:ext cx="82090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śli inflacja jest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ska, stabilna i zgodna z oczekiwaniam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rm i konsumentów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 sprawia większych problem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Natomiast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oka i niestabilna inflacj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trudnia długoterminowe planowanie, zniechęca do inwestowania i oszczędzania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jest źródłem niepewnośc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rawia, że pieniądze i ich posiadacz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racą na „sile nabywczej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trudnia podejmowanie decyzji finansowych (np. dotyczących zaciągania kredytów), ponieważ wiążą się one z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okim ryzykie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niechęca przedsiębiorców do inwestowania w przyszłości, przez co zmniejsza się ich konkurencyjność – to wywier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egatywny wpływ na wzrost gospodarczy i zatrudnie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c.europa.eu/economy_finance/focuson/inflation/inflation_in_daily_life_across_the_eu_pl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y inflacyjne – przykł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5"/>
          <p:cNvSpPr/>
          <p:nvPr/>
        </p:nvSpPr>
        <p:spPr>
          <a:xfrm>
            <a:off x="395280" y="1268280"/>
            <a:ext cx="8209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konomiści używają takich terminów, jak: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ełzająca inflacj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wzrost ogólnego poziomu cen wynosi 1-2 proc. rocznie)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rocząca inflacj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poniżej 10 proc. rocznie)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galopująca inflacj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wzrost przeciętnego poziomu cen do 100 proc. rocznie)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hiperinf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kiedy inflacja sięga powyżej 50 proc. miesięczn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XX wieku było kilka kryzysów związanych z hiperinflacją, m.in.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Niemczech w latach dwudziestych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olsce w latach dwudziesty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Węgrzech w 1946 r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olsce pod koniec lat osiemdziesiąty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w latach dziewięćdziesiątych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Obraz 5" descr="rysunek5_T4_rulon_w_prezentacji.jpg"/>
          <p:cNvPicPr/>
          <p:nvPr/>
        </p:nvPicPr>
        <p:blipFill>
          <a:blip r:embed="rId1"/>
          <a:stretch/>
        </p:blipFill>
        <p:spPr>
          <a:xfrm>
            <a:off x="5508720" y="4149720"/>
            <a:ext cx="3058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w Niemczech w latach 2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5"/>
          <p:cNvSpPr/>
          <p:nvPr/>
        </p:nvSpPr>
        <p:spPr>
          <a:xfrm>
            <a:off x="395280" y="1268280"/>
            <a:ext cx="8209080" cy="49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1914 r. pół kilograma chleba kosztowało 19 fenigów, w czerwcu 1922 r. już 3,5 marki, a siedem miesięcy później już 700 marek; ceny wzrastały tak szybko, że portfele zostały zastąpione walizkami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e wrześniu 1923 r. bochenek chleba kosztował 2 miliony marek, a miesiąc później 630 milion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botnicy dostawali wypłatę dwa razy dziennie i od razu robili zakupy, żeby zdążyć, zanim podstawowe produkty zdrożej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krótce okazało się, że nawet milionowe ceny są przeszłością, bo już w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listopadzie 1923 r. pół kilograma chleba kosztowało 80 miliardów marek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Majerkiewicz W., Szaleniec M., Historia inflacji (IV)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w Polsce w latach 2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5"/>
          <p:cNvSpPr/>
          <p:nvPr/>
        </p:nvSpPr>
        <p:spPr>
          <a:xfrm>
            <a:off x="395280" y="1413000"/>
            <a:ext cx="84978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owy rząd zastąpił waluty państw zaborczych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arką polsk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okie wydatki na wojsko i administrację spowodowały wzrost inflacj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maju 1923 r. dolar był wart 52,5 tys. polskich marek, a w grudniu już 6 mln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czerwcu 1923 r. Ministerstwo Skarbu zawiesiło obroty walutami i zamknęło giełdy pienięż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nasiliło się te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zadowolenie społecz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jesienią wybuchły strajki na kole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górnictwie i hutnictwie);</a:t>
            </a:r>
            <a:br>
              <a:rPr sz="2000"/>
            </a:br>
            <a:br>
              <a:rPr sz="20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Majerkiewicz W., Szaleniec M.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istoria inflacji (IV)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az 5" descr="rysunek6_T4_marka_polska_w_prezentacji.jpg"/>
          <p:cNvPicPr/>
          <p:nvPr/>
        </p:nvPicPr>
        <p:blipFill>
          <a:blip r:embed="rId2"/>
          <a:stretch/>
        </p:blipFill>
        <p:spPr>
          <a:xfrm>
            <a:off x="4643280" y="3500280"/>
            <a:ext cx="3780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w 1946 r. na Węgrz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5"/>
          <p:cNvSpPr/>
          <p:nvPr/>
        </p:nvSpPr>
        <p:spPr>
          <a:xfrm>
            <a:off x="395280" y="1125360"/>
            <a:ext cx="84978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raz po wojnie, gdy węgierski rząd zupełnie nie panował nad inflacją, jej poziom wynosił niemal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42 tryliony procent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1946 r. ceny towarów i surowców podwajały się z dnia na dzień, a dokładniej mówiąc – mniej więcej co 14 godzi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dy w obiegu były już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anknoty o nominałach stu trylionów pengő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ówczesna waluta węgierska), władze rozważały wprowadzenie banknotu o nominale tryliarda (a tryliard to jedynka z 24 zerami!); nie doszło do tego, ponieważ przeprowadzono denominację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zterysta tysięcy kwadrylionów pengő wymieniano na jednego forinta, czyli nową walutę węgiersk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Borawska M., W sidłach inflacji 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las.polskieradio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w Polsce pod koniec lat 80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 w latach 90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5"/>
          <p:cNvSpPr/>
          <p:nvPr/>
        </p:nvSpPr>
        <p:spPr>
          <a:xfrm>
            <a:off x="179280" y="1628640"/>
            <a:ext cx="8748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989 r. odnotowano inflację na poziomie 600 proc., a już w następnym roku wzrost cen wyniósł 1395 proc.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niądze traciły na wartości w zastraszającym tempie – na przełomie lat 80. i 90. banknotem o najniższym nominale było 50 zł – za tę sumę niemal nic nie można było kupić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993 r. inflacja zmusiła państwo do dodruku banknotów o nominale 2 mln zł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es tej inflacji położył dopier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995 r. pakiet reform wprowadzony przez prof. Leszka Balcerowicz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ówczesnego wicepremiera i ministra finansów;</a:t>
            </a:r>
            <a:br>
              <a:rPr sz="1800"/>
            </a:br>
            <a:br>
              <a:rPr sz="18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Bałtowski M., Miszewski M., Transformacja gospodarcza w Polsce, Wydawnictwo Naukowe PWN, Warszawa 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eprecjacja, aprecjacja i dewalua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5"/>
          <p:cNvSpPr/>
          <p:nvPr/>
        </p:nvSpPr>
        <p:spPr>
          <a:xfrm>
            <a:off x="539640" y="1341360"/>
            <a:ext cx="8064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precjacja jest to spadek ce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 w szczególności ten termin używany jest w odniesieniu d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adku wartości waluty krajowej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stosunku do waluty zagranicznej, np. gdy spada kurs złotówki w dolarach i obniża się jej wartość międzynarodowa mówimy o deprecjacji. Jej przeciwieństwo, czyli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zrost wartości, to aprecj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padku systemu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tałego kursu walutowego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wyższenie kursu danej waluty wynikające z decyzji administracyjnej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ewalu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a obniżenie kursu t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walu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br>
              <a:rPr sz="20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Na podstawie: Begg D., Fischer S., Dornbusch R., Makroekonomia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lskie 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Obraz 5" descr="w stertach.jpg"/>
          <p:cNvPicPr/>
          <p:nvPr/>
        </p:nvPicPr>
        <p:blipFill>
          <a:blip r:embed="rId1"/>
          <a:stretch/>
        </p:blipFill>
        <p:spPr>
          <a:xfrm>
            <a:off x="6084720" y="4292640"/>
            <a:ext cx="28274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ynek konsumenta i producen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5"/>
          <p:cNvSpPr/>
          <p:nvPr/>
        </p:nvSpPr>
        <p:spPr>
          <a:xfrm>
            <a:off x="539640" y="1362240"/>
            <a:ext cx="8064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konsumenta (inaczej – rynek odbiorcy)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rynek, na którym producenci, by móc sprzedać swoje produkty, muszą dostosować je do konkretnych gustów i potrzeb konsument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producenta (inaczej – rynek dostawcy)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rynek, na którym konsumenci są zmuszeni kupować produkty o cechach określonych przez producenta i na warunkach przez niego ustalonych (ponieważ na rynku nie ma innych dostawców); np. mogą kupować jedynie czarne samochody o małej pojemności silnik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znes.pwn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3"/>
          <p:cNvSpPr/>
          <p:nvPr/>
        </p:nvSpPr>
        <p:spPr>
          <a:xfrm>
            <a:off x="179280" y="907920"/>
            <a:ext cx="87854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ałtowski M., Miszewski M., Transformacja gospodarcza w Polsce, Wydawnictwo Naukowe PWN, Warszawa 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Warszawa 1998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akroekonomia, Polskie 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orawska M., W sidłach inflacji , serwis prowadzony przez Polskie Radio i Narodowy Bank Polski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las.polskieradio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Kaźmierczak A., Polityka pieniężna w gospodarce rynkowej, Wydawnictwo Naukowe PWN, Warszawa  2003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ajerkiewicz W., Szaleniec M., Historia inflacji (IV)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bportal.pl/pl/np/artykuly/pieniadz/historia_inflacji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ishkin F.S., Ekonomika pieniądza, bankowości i rynków finansowych, PWN, Warszawa 20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orawski W., Zarys powszechnej historii pieniądza i bankowości, Wydawnictwo TRIO, Warszawa 2002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udoł S., Przedsiębiorstwo. Podstawy nauki o przedsiębiorstwie. Teorie i praktyka zarządzania, Toruń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elizer V. A., (Prze)znaczenie pieniądza, [w:] Sztompka P., Bogunia-Borowska M. (red.), Socjologia codzienności, Wydawnictwo Znak, Kraków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rtal Edukacji Ekonomicznej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nbportal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rtal Wiedzy PWN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biznes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encyklopedia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trona Komisji Europejskiej, dział: Sprawy Gospodarcze i Finansowe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ec.europa.eu/economy_finance/focuson/inflation/what_pl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trona Fundacji Forum Obywatelskiego Rozwoju założonej przez prof. Leszka Balcerowicza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for.org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ole tekstowe 3"/>
          <p:cNvSpPr/>
          <p:nvPr/>
        </p:nvSpPr>
        <p:spPr>
          <a:xfrm>
            <a:off x="179280" y="981000"/>
            <a:ext cx="87138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1.  Monety1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5 pence coins), autor: Images Money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lickr.com/photos/59937401@N07/5929566423/in/photostream/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2. Plik banknotów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money), fot. Andrew Magill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lickr.com/photos/amagill/3367543094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3. Monety3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coins), autor: Images Money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lickr.com/photos/59937401@N07/5929568821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. Euro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euros), autor: Images Money, źródło: http://www.flickr.com/photos/59937401@N07/5930025654/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5. Rulon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20 pound note roll), autor: Images Money, źródło: http://www.flickr.com/photos/59937401@N07/5930028236/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6. Marka polska,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Wikimedia Commons, http://pl.wikipedia.org/wiki/Plik:1_Marka_Polska_(1919).jpg#fil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7. Monety2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stacks of pound coins), autor: Images Money, źródło: http://www.flickr.com/photos/59937401@N07/5930116778/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*licencja CC BY: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http://creativecommons.org/licenses/by/2.0/deed.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1052640"/>
            <a:ext cx="8497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la pieniądza w gospodarce (rodzaje pieniądza, ekonomiczne i społeczne funkcje pieniądza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aż pieniądz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kutki niedomiaru i nadmiaru pieniądza w obrocie handlowy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 inflacji do deflacji (inflacja, deflacja, hiperinflacja, stagflacja, skutki inflac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kłady kryzysów inflacyjnych w XX wieku (w latach 20. w Niemczech i w Polsce, na Węgrzech w 1946 r., pod koniec lat 80. i na początku lat 90. w Polsce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eprecjacja, aprecjacja i dewaluacj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ynki: producenta i konsument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ieniąd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le tekstowe 5"/>
          <p:cNvSpPr/>
          <p:nvPr/>
        </p:nvSpPr>
        <p:spPr>
          <a:xfrm>
            <a:off x="395280" y="1268280"/>
            <a:ext cx="81374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pewien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wszechnie akceptowany towar, za pomocą którego dokonujemy płatnośc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 dostarczone dobra lub wywiązujemy się ze zobowiązań (np. spłacamy długi). Inaczej mówiąc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est to środek wymia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kładowo: na Wyspach Admiralicji były to psie zęby, w niektórych regionach Afryki – muszle, a w XIX w. – zło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gospodarce bezpieniężnej wymiana ma charak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ezpośredn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jedne dobra są wymieniane na in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a: Begg D., Fischer S., Dornbusch R., Makroekonomia, Polskie Wydawnictw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8" descr="5929566423_f6b95feff9.jpg"/>
          <p:cNvPicPr/>
          <p:nvPr/>
        </p:nvPicPr>
        <p:blipFill>
          <a:blip r:embed="rId1"/>
          <a:stretch/>
        </p:blipFill>
        <p:spPr>
          <a:xfrm>
            <a:off x="6340320" y="3357720"/>
            <a:ext cx="28036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dzaje pienią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5"/>
          <p:cNvSpPr/>
          <p:nvPr/>
        </p:nvSpPr>
        <p:spPr>
          <a:xfrm>
            <a:off x="250920" y="1125360"/>
            <a:ext cx="8497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owarow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jest nie tylko środkiem wymiany, ale też dobrem o zastosowaniu przemysłowym (np. sztabka złota) czy konsumpcyjnym (np. papierosy w obozach jenieckich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ymbolicz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to środek płatniczy, którego wartość (siła nabywcza) znacznie przewyższa koszt jego wytworzenia lub wartość jako towaru w innych niż pieniądz zastosowaniach (np. banknot o nominale 100 zł, który ma o wiele większą wartość jako pieniądz, niż jako arkusik zadrukowanego papieru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ezgotówkow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jego podstawą jest wierzytelność przedsiębiorstwa lub osoby prywatnej (np. depozyt bankowy uruchamiany za pomocą czeku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elektronicz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cyfrowy odpowiednik gotówk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Ekonomiczne funkcje pienią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5"/>
          <p:cNvSpPr/>
          <p:nvPr/>
        </p:nvSpPr>
        <p:spPr>
          <a:xfrm>
            <a:off x="539640" y="1197000"/>
            <a:ext cx="8064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rodkiem płatniczym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środkiem wymiany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ednostką rozrachunkową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w tej jednostce wyrażone są ceny i prowadzone rozliczeni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rodkiem przechowywania wartości (tezauryzacji)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zn. można go „zaoszczędzić” i wykorzystać do dokonania zakupów dopiero w przyszłoś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iernikiem odroczonych płatn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tzn. w tej jednostce wyrażane są też zobowiązania finansowe, np. w przypadk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życzki – kwota do spłaty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a: Begg D., Fischer S., Dornbusch R., Makroekonomia, Polski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Obraz 6" descr="money1.jpg"/>
          <p:cNvPicPr/>
          <p:nvPr/>
        </p:nvPicPr>
        <p:blipFill>
          <a:blip r:embed="rId1"/>
          <a:stretch/>
        </p:blipFill>
        <p:spPr>
          <a:xfrm>
            <a:off x="6300720" y="4083120"/>
            <a:ext cx="26082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ołeczne funkcje pienią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5"/>
          <p:cNvSpPr/>
          <p:nvPr/>
        </p:nvSpPr>
        <p:spPr>
          <a:xfrm>
            <a:off x="611280" y="1341360"/>
            <a:ext cx="727380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hawioral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tywacyj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formacyj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ezintegracyj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tegrująco-instytucjonal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a: Mishkin F.S., Ekonomika pieniądza, bankowości i rynków finansowych, PWN, Warszawa 20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daż pienią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5"/>
          <p:cNvSpPr/>
          <p:nvPr/>
        </p:nvSpPr>
        <p:spPr>
          <a:xfrm>
            <a:off x="539640" y="119700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t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ałkowita wartość znajdujących się w obiegu zasobów pieniądz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występującego w roli środka wymiany. Kontrolę nad podażą pieniądza sprawują banki centralne – w Polsce robi t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arodowy Bank Polsk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poprzez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zerwy obowiązk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py procentowe banku centralnego (depozytową, lombardową, redyskontową, referencyjną 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eracje otwartego rynku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az 5" descr="rysunek4_T4_monety3_w_prezentacji.jpg"/>
          <p:cNvPicPr/>
          <p:nvPr/>
        </p:nvPicPr>
        <p:blipFill>
          <a:blip r:embed="rId1"/>
          <a:stretch/>
        </p:blipFill>
        <p:spPr>
          <a:xfrm>
            <a:off x="4788000" y="4005360"/>
            <a:ext cx="41878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iedomiar i nadmiar pieniądza w obrocie handlowy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5"/>
          <p:cNvSpPr/>
          <p:nvPr/>
        </p:nvSpPr>
        <p:spPr>
          <a:xfrm>
            <a:off x="539640" y="2349360"/>
            <a:ext cx="770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długim okresie ilość pieniądza w obiegu decyduje o poziomie c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dy pieniądza w gospodarce 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 duż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pyt na dobra i usługi przewyższa ich podaż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eny rosną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lacja staje się coraz wyższ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dy pieniądza 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 mał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jawiają się kłopoty ze sprzedażą dóbr i usług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eny spadaj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co oznacz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zyko recesj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az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fla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Od inflacji do defl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5"/>
          <p:cNvSpPr/>
          <p:nvPr/>
        </p:nvSpPr>
        <p:spPr>
          <a:xfrm>
            <a:off x="611280" y="1052640"/>
            <a:ext cx="7705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lacja to wzrost przeciętnego poziomu cen dóbr i usług w jakimś okres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Inflacja zmniejsza wartość pieniądza, a więc za taką samą kwotę można kupić coraz mni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f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o długotrwały spadek przeciętnego poziomu c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Hiperinf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to zjawisko polegając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utrzymywaniu się bardzo wysokiej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py inflac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tagf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to współwystępowan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okiej inflacji i dużego bezrobocia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Obraz 5" descr="rysunek6_T4_euro_w_prezentacji.jpg"/>
          <p:cNvPicPr/>
          <p:nvPr/>
        </p:nvPicPr>
        <p:blipFill>
          <a:blip r:embed="rId1"/>
          <a:stretch/>
        </p:blipFill>
        <p:spPr>
          <a:xfrm>
            <a:off x="0" y="3141720"/>
            <a:ext cx="414036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Redaktor</cp:lastModifiedBy>
  <dcterms:modified xsi:type="dcterms:W3CDTF">2013-06-27T05:45:07Z</dcterms:modified>
  <cp:revision>899</cp:revision>
  <dc:subject/>
  <dc:title>Slajd 1</dc:title>
</cp:coreProperties>
</file>