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F723-23C0-43F1-9093-7143ED3D8DA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66B7-A132-4A0C-9AE9-0C5B6521BAE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A807-B6C4-43CF-A064-EC79607BC8D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20FB-3D48-403C-9AA8-04FC89A4CDF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6B5D-CBB3-4D63-8888-1360DE2BCB5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763D-C254-4A41-B2E2-8C6645CAC30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F667-2336-4D4D-BE11-300A6C57DAE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CB7D-8258-423A-9A01-784AF6374BC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B99D-1BC3-463A-A520-3F09E284468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C7DE-AD4D-4564-91B4-00D1F984BA1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973D-999B-4590-8F81-C3B6C05DCD8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C838-1C45-4070-92B1-40A099271E6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7161-2816-4385-B9A2-6F405FA6AC4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FCCA-9F8B-47DC-AD72-34D83B24D03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1F7D-9A3E-4F5B-BF23-5BDA9622245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C064-7AE3-4EBB-8AEF-2534435D39D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4C88-3E1C-444C-9CDE-07E06F80D5F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3D28-72A2-49A7-B910-17A24F90D4B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6FDC-0CCB-4ED3-A0C2-6CB995AFF65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3882-A88D-4334-9623-5054B1FD225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0488-E165-476B-B245-E00D9AC6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CD6-7087-4B82-9E72-F315646C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253-F38D-4F08-9483-4C3165BB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3E5-E1F6-4232-943D-0EDA55C2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11F9-8AB4-4D8D-A0D6-E1A10973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FD95-71A8-4072-AEF1-EB3BA06C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1FF4-FED5-49CD-8418-8B81BBB4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D062-161F-408C-ADD5-B5C4CA2E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44CB-0BA3-486F-9F0D-937A43EF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99E7-86FA-46E1-A38A-BE6B5D2D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54D7-AD5F-4C8E-8782-9B944C25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5EF-B0E0-41DF-B0CE-D3C6A551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0343-7F20-4863-A85F-0C3F29AD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9FDE-29E8-4A4B-B9E2-A8EA0D9B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FC0F-9253-4862-BCC8-7D000715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B966-8DC9-41F9-84AA-91620622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8847-B979-47AD-B1B2-085532F5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BBA-0F86-4256-A1DD-B0DB807E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B947-D078-44E4-A3E1-AA7418E3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14D-A0C7-4845-830C-C7A5DF32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8E0-6A6D-4A73-8961-FE1A5677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201-123F-4327-B317-F2AF2359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E50-380D-4943-A233-B0207BBD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B12-1C45-42D7-8182-39F3D693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B3F8-20A5-4AF4-9872-A0AFFEFA7D7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6855-A252-4CD2-9B78-6C565D34302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uzeum.archidiecezja.wroc.pl/" TargetMode="External"/><Relationship Id="rId2" Type="http://schemas.openxmlformats.org/officeDocument/2006/relationships/hyperlink" Target="http://www.katedra.archidiecezja.wroc.pl/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upload.wikimedia.org/wikipedia/commons/2/22/Poland_Wroclaw_Cathedral_2007.jpg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lik:Ratusz_wroclaw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ewaloryzacja.com/pracownia/projekty/bedzin_koncepcja/prezentacja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zamkipolskie.com/olsz/olsz.html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wawel.krakow.pl/pl/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gfx.mmka.pl/newsph/338316/525668.3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dziemiarynku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n.wroclaw.pl/przewodnik/sredniowieczeRzezbaKamienna.pdf" TargetMode="External"/><Relationship Id="rId2" Type="http://schemas.openxmlformats.org/officeDocument/2006/relationships/hyperlink" Target="http://mn.wroclaw.pl/przewodnik/sredniowieczeSala2.pdf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irtualne zwiedzani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lternatywa-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Narod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5"/>
          <p:cNvSpPr/>
          <p:nvPr/>
        </p:nvSpPr>
        <p:spPr>
          <a:xfrm>
            <a:off x="324000" y="177336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rta pracy uczn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o możemy sądzić o kulturze Wrocławia, obserwując zabytk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laczego na Śląsku wyjątkowa była pozycja wrocławskiego biskup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kie znaczenie na ówczesnym Śląsku miała kultura niemiecka? Czy mogło być to przeszkodą w uzyskaniu tronu w Krakow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im był Henryk IV Probu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k wygląda sarkofag Henryka Probusa? Czy książę został przedstawiony jako władca, czy jako rycerz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o możemy powiedzieć o przedmiotach codziennego użytku zgromadzonych na wystaw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Archidiecezjalne, Kate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rostokąt 2"/>
          <p:cNvSpPr/>
          <p:nvPr/>
        </p:nvSpPr>
        <p:spPr>
          <a:xfrm>
            <a:off x="1403280" y="1700280"/>
            <a:ext cx="44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uzeum.archidiecezja.wroc.pl/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http://www.katedra.archidiecezja.wroc.pl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6"/>
          <p:cNvSpPr/>
          <p:nvPr/>
        </p:nvSpPr>
        <p:spPr>
          <a:xfrm>
            <a:off x="2850840" y="2565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http://upload.wikimedia.org/wikipedia/commons/2/22/Poland_Wroclaw_Cathedral_2007.jpg"/>
          <p:cNvPicPr/>
          <p:nvPr/>
        </p:nvPicPr>
        <p:blipFill>
          <a:blip r:embed="rId3"/>
          <a:stretch/>
        </p:blipFill>
        <p:spPr>
          <a:xfrm>
            <a:off x="5724360" y="1628640"/>
            <a:ext cx="2948040" cy="4152960"/>
          </a:xfrm>
          <a:prstGeom prst="rect">
            <a:avLst/>
          </a:prstGeom>
          <a:ln w="0">
            <a:noFill/>
          </a:ln>
        </p:spPr>
      </p:pic>
      <p:sp>
        <p:nvSpPr>
          <p:cNvPr id="130" name="Prostokąt 9"/>
          <p:cNvSpPr/>
          <p:nvPr/>
        </p:nvSpPr>
        <p:spPr>
          <a:xfrm>
            <a:off x="1116000" y="342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upload.wikimedia.org/wikipedia/commons/2/22/Poland_Wroclaw_Cathedral_2007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rostokąt 10"/>
          <p:cNvSpPr/>
          <p:nvPr/>
        </p:nvSpPr>
        <p:spPr>
          <a:xfrm>
            <a:off x="3211200" y="4581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Ratus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rostokąt 9"/>
          <p:cNvSpPr/>
          <p:nvPr/>
        </p:nvSpPr>
        <p:spPr>
          <a:xfrm>
            <a:off x="179280" y="2060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l.wikipedia.org/wiki/Plik:Ratusz_wroclaw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rostokąt 10"/>
          <p:cNvSpPr/>
          <p:nvPr/>
        </p:nvSpPr>
        <p:spPr>
          <a:xfrm>
            <a:off x="402840" y="30686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Plik:Ratusz wroclaw.JPG"/>
          <p:cNvPicPr/>
          <p:nvPr/>
        </p:nvPicPr>
        <p:blipFill>
          <a:blip r:embed="rId2"/>
          <a:stretch/>
        </p:blipFill>
        <p:spPr>
          <a:xfrm>
            <a:off x="3348000" y="1773360"/>
            <a:ext cx="55404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Ratus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3942720" y="-69480"/>
            <a:ext cx="1258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arta pracy ucznia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7"/>
          <p:cNvSpPr/>
          <p:nvPr/>
        </p:nvSpPr>
        <p:spPr>
          <a:xfrm>
            <a:off x="684360" y="1773360"/>
            <a:ext cx="79200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arta pracy uczn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możemy sądzić o kulturze Wrocławia, obserwując zabytk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kład urbanistyczny – czy miasto rozrastało się planowo, czy chaotyczni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ronność miasta – czy było obronne w sposób naturaln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stytucje miejskie – gdzie były położo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8287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79280" y="4299120"/>
            <a:ext cx="86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Będzi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miasto.org.pl/index.php?option=com_content&amp;task=view&amp;id=39&amp;Itemid=4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://rewaloryzacja.com/pracownia/projekty/bedzin_koncepcja/prezentacja.ht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Image"/>
          <p:cNvPicPr/>
          <p:nvPr/>
        </p:nvPicPr>
        <p:blipFill>
          <a:blip r:embed="rId2"/>
          <a:stretch/>
        </p:blipFill>
        <p:spPr>
          <a:xfrm>
            <a:off x="2268360" y="1125360"/>
            <a:ext cx="42865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2000" y="836280"/>
            <a:ext cx="4211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rostokąt 6"/>
          <p:cNvSpPr/>
          <p:nvPr/>
        </p:nvSpPr>
        <p:spPr>
          <a:xfrm>
            <a:off x="6659640" y="364500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smycki P. ,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rzewodnik po Krakowsko-Wieluńskim paśmie górski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Kielce 190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Documents and Settings\Grzes\Moje dokumenty\Downloads\orlegniazda przesmycki.jpg"/>
          <p:cNvPicPr/>
          <p:nvPr/>
        </p:nvPicPr>
        <p:blipFill>
          <a:blip r:embed="rId1"/>
          <a:stretch/>
        </p:blipFill>
        <p:spPr>
          <a:xfrm>
            <a:off x="395280" y="189000"/>
            <a:ext cx="4448160" cy="5800680"/>
          </a:xfrm>
          <a:prstGeom prst="rect">
            <a:avLst/>
          </a:prstGeom>
          <a:ln w="0">
            <a:noFill/>
          </a:ln>
        </p:spPr>
      </p:pic>
      <p:cxnSp>
        <p:nvCxnSpPr>
          <p:cNvPr id="146" name="Łącznik prosty ze strzałką 8"/>
          <p:cNvCxnSpPr/>
          <p:nvPr/>
        </p:nvCxnSpPr>
        <p:spPr>
          <a:xfrm>
            <a:off x="2268000" y="1773000"/>
            <a:ext cx="3744360" cy="648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Łącznik prosty ze strzałką 9"/>
          <p:cNvCxnSpPr/>
          <p:nvPr/>
        </p:nvCxnSpPr>
        <p:spPr>
          <a:xfrm>
            <a:off x="1332000" y="836640"/>
            <a:ext cx="6193440" cy="1513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8" name="pole tekstowe 11"/>
          <p:cNvSpPr/>
          <p:nvPr/>
        </p:nvSpPr>
        <p:spPr>
          <a:xfrm>
            <a:off x="7596360" y="20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lszty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12"/>
          <p:cNvSpPr/>
          <p:nvPr/>
        </p:nvSpPr>
        <p:spPr>
          <a:xfrm>
            <a:off x="608472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ir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79280" y="486288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Olszty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://www.zamkipolskie.com/olsz/olsz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khit.pttk.pl/index.php?co=tx_kkms_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C:\Documents and Settings\Grzes\Pulpit\nowaplyta\15_03_W9_Od_rozbicia_dzielnicowego\ilustracje1\IMG_7993.JPG"/>
          <p:cNvPicPr/>
          <p:nvPr/>
        </p:nvPicPr>
        <p:blipFill>
          <a:blip r:embed="rId2"/>
          <a:stretch/>
        </p:blipFill>
        <p:spPr>
          <a:xfrm>
            <a:off x="4788000" y="1341360"/>
            <a:ext cx="4138560" cy="2144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426060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79280" y="4496760"/>
            <a:ext cx="475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Mirow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zamkipolskie.com/mirow/mirow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khit.pttk.pl/index.php?co=tx_kkms_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780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68360" y="2852280"/>
            <a:ext cx="35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Lanckoro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ciekawe-miejsca.net/przewodnik/polska/lanckorona_czas_zatrzym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410364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597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awel Zaginiony i Katedr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Documents and Settings\Grzes\Pulpit\nowaplyta\15_03_W9_Od_rozbicia_dzielnicowego\ilustracje1\IMG_0914.JPG"/>
          <p:cNvPicPr/>
          <p:nvPr/>
        </p:nvPicPr>
        <p:blipFill>
          <a:blip r:embed="rId1"/>
          <a:stretch/>
        </p:blipFill>
        <p:spPr>
          <a:xfrm>
            <a:off x="611280" y="227664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99" name="pole tekstowe 4"/>
          <p:cNvSpPr/>
          <p:nvPr/>
        </p:nvSpPr>
        <p:spPr>
          <a:xfrm>
            <a:off x="507672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kieta wzgórza Wawelskigo w XII 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odtytuł 2"/>
          <p:cNvSpPr/>
          <p:nvPr/>
        </p:nvSpPr>
        <p:spPr>
          <a:xfrm>
            <a:off x="250920" y="3789360"/>
            <a:ext cx="345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Rotunda i fragmenty starej kamieniar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Grzes\Pulpit\nowaplyta\15_03_W9_Od_rozbicia_dzielnicowego\ilustracje1\IMG_0913.JPG"/>
          <p:cNvPicPr/>
          <p:nvPr/>
        </p:nvPicPr>
        <p:blipFill>
          <a:blip r:embed="rId1"/>
          <a:stretch/>
        </p:blipFill>
        <p:spPr>
          <a:xfrm>
            <a:off x="395280" y="404640"/>
            <a:ext cx="451152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Grzes\Pulpit\nowaplyta\15_03_W9_Od_rozbicia_dzielnicowego\ilustracje1\IMG_1445.JPG"/>
          <p:cNvPicPr/>
          <p:nvPr/>
        </p:nvPicPr>
        <p:blipFill>
          <a:blip r:embed="rId2"/>
          <a:stretch/>
        </p:blipFill>
        <p:spPr>
          <a:xfrm>
            <a:off x="3708360" y="2637000"/>
            <a:ext cx="485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5219640" cy="18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Katedr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Documents and Settings\Grzes\Pulpit\nowaplyta\15_03_W9_Od_rozbicia_dzielnicowego\ilustracje1\IMG_1431.JPG"/>
          <p:cNvPicPr/>
          <p:nvPr/>
        </p:nvPicPr>
        <p:blipFill>
          <a:blip r:embed="rId1"/>
          <a:stretch/>
        </p:blipFill>
        <p:spPr>
          <a:xfrm>
            <a:off x="2340000" y="1341360"/>
            <a:ext cx="3917880" cy="3240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900000" y="4585680"/>
            <a:ext cx="49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ły dodatkowe dostępne na stronach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katedra-wawelska.pl/zarys_dziejow_katedry,32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http://www.wawel.krakow.p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6" descr="http://gfx.mmka.pl/newsph/338316/525668.3.jpg"/>
          <p:cNvPicPr/>
          <p:nvPr/>
        </p:nvPicPr>
        <p:blipFill>
          <a:blip r:embed="rId3"/>
          <a:stretch/>
        </p:blipFill>
        <p:spPr>
          <a:xfrm>
            <a:off x="6372360" y="1268280"/>
            <a:ext cx="2462040" cy="351792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5"/>
          <p:cNvSpPr/>
          <p:nvPr/>
        </p:nvSpPr>
        <p:spPr>
          <a:xfrm>
            <a:off x="6875640" y="4797360"/>
            <a:ext cx="201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gfx.mmka.pl/newsph/338316/525668.3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C:\Documents and Settings\Grzes\Pulpit\nowaplyta\15_03_W9_Od_rozbicia_dzielnicowego\ilustracje1\IMG_1514.JPG"/>
          <p:cNvPicPr/>
          <p:nvPr/>
        </p:nvPicPr>
        <p:blipFill>
          <a:blip r:embed="rId5"/>
          <a:stretch/>
        </p:blipFill>
        <p:spPr>
          <a:xfrm>
            <a:off x="179280" y="1341360"/>
            <a:ext cx="2082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ściół św. Andrze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C:\Documents and Settings\Grzes\Pulpit\nowaplyta\15_03_W9_Od_rozbicia_dzielnicowego\ilustracje1\kosciol romanski.jpg"/>
          <p:cNvPicPr/>
          <p:nvPr/>
        </p:nvPicPr>
        <p:blipFill>
          <a:blip r:embed="rId1"/>
          <a:stretch/>
        </p:blipFill>
        <p:spPr>
          <a:xfrm>
            <a:off x="2627280" y="1413000"/>
            <a:ext cx="3457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967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nek, kościół św. Wojciec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Documents and Settings\Grzes\Pulpit\nowaplyta\15_03_W9_Od_rozbicia_dzielnicowego\ilustracje1\HPIM1662.JPG"/>
          <p:cNvPicPr/>
          <p:nvPr/>
        </p:nvPicPr>
        <p:blipFill>
          <a:blip r:embed="rId1"/>
          <a:stretch/>
        </p:blipFill>
        <p:spPr>
          <a:xfrm>
            <a:off x="1547640" y="1341360"/>
            <a:ext cx="5732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nek, podzi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rostokąt 4"/>
          <p:cNvSpPr/>
          <p:nvPr/>
        </p:nvSpPr>
        <p:spPr>
          <a:xfrm>
            <a:off x="1929240" y="378936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odziemiarynku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5"/>
          <p:cNvSpPr/>
          <p:nvPr/>
        </p:nvSpPr>
        <p:spPr>
          <a:xfrm>
            <a:off x="1493640" y="2492280"/>
            <a:ext cx="607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czegółowy plan i wirtualne zwiedzan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żna znaleźć pod adrese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rostokąt 6"/>
          <p:cNvSpPr/>
          <p:nvPr/>
        </p:nvSpPr>
        <p:spPr>
          <a:xfrm>
            <a:off x="3571560" y="4581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ury miejskie Kra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K:\Foto\architektura\HPIM1680a.jpg"/>
          <p:cNvPicPr/>
          <p:nvPr/>
        </p:nvPicPr>
        <p:blipFill>
          <a:blip r:embed="rId1"/>
          <a:stretch/>
        </p:blipFill>
        <p:spPr>
          <a:xfrm>
            <a:off x="395280" y="1341360"/>
            <a:ext cx="1927080" cy="424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K:\Foto\architektura\HPIM1690.JPG"/>
          <p:cNvPicPr/>
          <p:nvPr/>
        </p:nvPicPr>
        <p:blipFill>
          <a:blip r:embed="rId2"/>
          <a:stretch/>
        </p:blipFill>
        <p:spPr>
          <a:xfrm>
            <a:off x="2484360" y="1557360"/>
            <a:ext cx="2343240" cy="403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K:\Foto\architektura\HPIM1693.JPG"/>
          <p:cNvPicPr/>
          <p:nvPr/>
        </p:nvPicPr>
        <p:blipFill>
          <a:blip r:embed="rId3"/>
          <a:stretch/>
        </p:blipFill>
        <p:spPr>
          <a:xfrm>
            <a:off x="4932360" y="1557360"/>
            <a:ext cx="30243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lternatywa-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Narod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324000" y="1628640"/>
            <a:ext cx="676908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czegółowy plan i wirtualne zwiedzan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żna znaleźć pod adresam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mnwr.art.pl/CMS/wystawy_stale/sztuka_slaska_XII-XVIw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n.wroclaw.pl/przewodnik/sredniowieczeRzezbaKamienna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mn.wroclaw.pl/przewodnik/sredniowieczeSala1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n.wroclaw.pl/przewodnik/sredniowieczeSala2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rostokąt 4"/>
          <p:cNvSpPr/>
          <p:nvPr/>
        </p:nvSpPr>
        <p:spPr>
          <a:xfrm>
            <a:off x="906840" y="5373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6T18:35:39Z</dcterms:modified>
  <cp:revision>25</cp:revision>
  <dc:subject/>
  <dc:title>Slajd 1</dc:title>
</cp:coreProperties>
</file>