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0A6A8-D1EC-454A-A6E3-50CD9183A191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52A30-F52B-42A3-9F5F-D0FAB5B9396D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E5992-468D-4A54-9028-8BA1A9A6E8F6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97655-4A18-40EC-AE0F-B7FA5E487CAB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A17F9-B81A-4421-989A-61BB9998468D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17403-89A7-4BFD-B6A8-86EF6C09B8CD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E87A3-94C9-49FF-8C7B-53E25BC5FD4D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09D54-77B1-41E2-A868-B95C7D147BD3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4DB94-04BF-48E4-94AE-837916A493BA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DD1B1-D65D-41F0-9D42-FEC1CF53D690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89FBB-AAF7-48F2-8F4C-4074C6073E96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8FD8F-9B3C-453C-8FF7-ACE087B53738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3F6A9-E07B-41DB-97EF-39780F81AA49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436A1-A7CA-41E6-8FE7-BAB21D17C686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D088-58CC-4D27-A1A3-E99C9B636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6377-E376-4412-A6FE-67E526584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E51C-58BF-4C3F-9704-867F81754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880B-270F-4E49-AECF-D36848791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347B0-9363-4AE7-94FE-6239591AC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982BD-F0D1-4716-90CA-595A6048C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4E2F8-695E-4AA4-A458-7ACE2B754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1B301-B153-4C19-9DC5-D2AAB364E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AF7A0-4F6C-4E67-9938-7F356B5D3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BA624-1054-4B84-A0E2-150108C01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BDC54-0686-4697-AA32-D4F0B3558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5E6F-471B-43E0-90D7-8EC023243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89D73-6BFE-42B4-BF5A-AD65866DF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7EC40-1978-49C6-9C04-869751D8C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0C40D-5C69-42E0-963D-C3FAF80B2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00A41-3692-4299-A4D8-235747162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3D382-3B91-4E11-A68F-994A6963B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685C-B148-4FCF-AEBE-B0D5C3ACF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E583-016C-46E3-92D5-151320064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F00E-3F47-4D17-AD8F-09DA6BFE3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6018-ADE3-4951-8604-8A80857AD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8E59-D8A8-4E7D-82AD-FEF765BB5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0A43-9524-454D-82AC-F743CD721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C974-3E90-4C11-BE9A-DB4164BD0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959B9-58DA-4287-B6D0-E0707781F5F2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45" name="Obraz 2" descr="stopka_poz.gif"/>
          <p:cNvPicPr/>
          <p:nvPr/>
        </p:nvPicPr>
        <p:blipFill>
          <a:blip r:embed="rId4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46" name="Obraz 9" descr="nagłówek_poz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8BB5C-3A05-4E99-862D-02AC4FFADCD4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pl.wikipedia.org/wiki/Plik:Sarkofag_&#346;w._Stanis&#322;awa_w_Katedrze_na_Wawelu.jpg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2133360"/>
            <a:ext cx="795672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5400" spc="-1" strike="noStrike">
                <a:solidFill>
                  <a:srgbClr val="000000"/>
                </a:solidFill>
                <a:latin typeface="Calibri"/>
              </a:rPr>
              <a:t>Dwie wizje sprawowania władzy – papiestwo a cesarstwo. Miecz czy pastorał? 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odtytuł 2"/>
          <p:cNvSpPr/>
          <p:nvPr/>
        </p:nvSpPr>
        <p:spPr>
          <a:xfrm>
            <a:off x="1116000" y="443700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898989"/>
                </a:solidFill>
                <a:latin typeface="Calibri"/>
              </a:rPr>
              <a:t>Grzegorz Szymanowsk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odtytuł 2"/>
          <p:cNvSpPr/>
          <p:nvPr/>
        </p:nvSpPr>
        <p:spPr>
          <a:xfrm>
            <a:off x="3564000" y="1197000"/>
            <a:ext cx="53211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Konfesja św. Stanisława.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nk: </a:t>
            </a:r>
            <a:r>
              <a:rPr b="0" lang="pl-PL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pl.wikipedia.org/wiki/Plik:Sarkofag_%C5%9Aw._Stanis%C5%82awa_w_Katedrze_na_Wawelu.jpg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dostęp 27.03.2013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1" descr="Plik:Sarkofag Św. Stanisława w Katedrze na Wawelu.jpg"/>
          <p:cNvPicPr/>
          <p:nvPr/>
        </p:nvPicPr>
        <p:blipFill>
          <a:blip r:embed="rId2"/>
          <a:srcRect l="11339" t="0" r="11339" b="6299"/>
          <a:stretch/>
        </p:blipFill>
        <p:spPr>
          <a:xfrm>
            <a:off x="611280" y="404640"/>
            <a:ext cx="2952720" cy="53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odtytuł 2"/>
          <p:cNvSpPr/>
          <p:nvPr/>
        </p:nvSpPr>
        <p:spPr>
          <a:xfrm>
            <a:off x="4427640" y="1341360"/>
            <a:ext cx="33764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Konkordat wormack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1" descr="3662000_orig"/>
          <p:cNvPicPr/>
          <p:nvPr/>
        </p:nvPicPr>
        <p:blipFill>
          <a:blip r:embed="rId1"/>
          <a:stretch/>
        </p:blipFill>
        <p:spPr>
          <a:xfrm>
            <a:off x="826920" y="404640"/>
            <a:ext cx="3313440" cy="542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ole tekstowe 4"/>
          <p:cNvSpPr/>
          <p:nvPr/>
        </p:nvSpPr>
        <p:spPr>
          <a:xfrm>
            <a:off x="468360" y="1052640"/>
            <a:ext cx="82072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Celibat – zasada bezżenności duchownych. Wprowadzony w Europie w XII/XIII w., utrwalony w wieku XVI. Walczono też z symonią (zakupem sakramentów kościelnych). Opornych duchownych suspendowan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Orężem w walce z cesarstwem była ekskomunika – kara pozbawiająca praw w życiu kościoła (np. niemożność przyjmowania lub udzielania sakramentów, uczestnictwa w liturgii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Dziękuję za uwagę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odtytuł 2"/>
          <p:cNvSpPr/>
          <p:nvPr/>
        </p:nvSpPr>
        <p:spPr>
          <a:xfrm>
            <a:off x="5292720" y="1989000"/>
            <a:ext cx="385128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oczątki sporu związane są z rokiem 800 i koronacją cesarską Karola Wielkiego. Karol chciał koronować się sam, tymczasem koronacji dokonał papież. Jak sądzisz, dlaczego ten fakt uraził cesarza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5" descr="koronacja+karola+wielkiego"/>
          <p:cNvPicPr/>
          <p:nvPr/>
        </p:nvPicPr>
        <p:blipFill>
          <a:blip r:embed="rId1"/>
          <a:stretch/>
        </p:blipFill>
        <p:spPr>
          <a:xfrm>
            <a:off x="539640" y="549360"/>
            <a:ext cx="4768920" cy="48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odtytuł 2"/>
          <p:cNvSpPr/>
          <p:nvPr/>
        </p:nvSpPr>
        <p:spPr>
          <a:xfrm>
            <a:off x="5435640" y="1557360"/>
            <a:ext cx="33764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Inwestytura biskup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inwestytura"/>
          <p:cNvPicPr/>
          <p:nvPr/>
        </p:nvPicPr>
        <p:blipFill>
          <a:blip r:embed="rId1"/>
          <a:stretch/>
        </p:blipFill>
        <p:spPr>
          <a:xfrm>
            <a:off x="684360" y="620640"/>
            <a:ext cx="4095720" cy="46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odtytuł 2"/>
          <p:cNvSpPr/>
          <p:nvPr/>
        </p:nvSpPr>
        <p:spPr>
          <a:xfrm>
            <a:off x="5364000" y="1268280"/>
            <a:ext cx="316872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Król błaga opata Cluny i hrabinę Matyldę o wstawiennictwo u papieża. Canossa 1077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canossa"/>
          <p:cNvPicPr/>
          <p:nvPr/>
        </p:nvPicPr>
        <p:blipFill>
          <a:blip r:embed="rId1"/>
          <a:stretch/>
        </p:blipFill>
        <p:spPr>
          <a:xfrm>
            <a:off x="826920" y="476280"/>
            <a:ext cx="4392720" cy="528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odtytuł 2"/>
          <p:cNvSpPr/>
          <p:nvPr/>
        </p:nvSpPr>
        <p:spPr>
          <a:xfrm>
            <a:off x="1187280" y="429264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898989"/>
                </a:solidFill>
                <a:latin typeface="Calibri"/>
              </a:rPr>
              <a:t>Bolesław II Szczodry, mal. J. Matejk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2" descr="200px-Boleslaw_Smialy"/>
          <p:cNvPicPr/>
          <p:nvPr/>
        </p:nvPicPr>
        <p:blipFill>
          <a:blip r:embed="rId1"/>
          <a:stretch/>
        </p:blipFill>
        <p:spPr>
          <a:xfrm>
            <a:off x="2843280" y="692280"/>
            <a:ext cx="2665440" cy="33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odtytuł 2"/>
          <p:cNvSpPr/>
          <p:nvPr/>
        </p:nvSpPr>
        <p:spPr>
          <a:xfrm>
            <a:off x="4859280" y="1557360"/>
            <a:ext cx="3673440" cy="29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Bolesław II Szczodry podczas sporu ze </a:t>
            </a: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św. Stanisławem </a:t>
            </a: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o karanie niewiernych ż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2" descr="2"/>
          <p:cNvPicPr/>
          <p:nvPr/>
        </p:nvPicPr>
        <p:blipFill>
          <a:blip r:embed="rId1"/>
          <a:stretch/>
        </p:blipFill>
        <p:spPr>
          <a:xfrm>
            <a:off x="539640" y="260280"/>
            <a:ext cx="4032360" cy="55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odtytuł 2"/>
          <p:cNvSpPr/>
          <p:nvPr/>
        </p:nvSpPr>
        <p:spPr>
          <a:xfrm>
            <a:off x="5508720" y="1413000"/>
            <a:ext cx="22240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1" descr="IMG_1677"/>
          <p:cNvPicPr/>
          <p:nvPr/>
        </p:nvPicPr>
        <p:blipFill>
          <a:blip r:embed="rId1"/>
          <a:stretch/>
        </p:blipFill>
        <p:spPr>
          <a:xfrm>
            <a:off x="1403280" y="476280"/>
            <a:ext cx="3301920" cy="495288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3"/>
          <p:cNvSpPr/>
          <p:nvPr/>
        </p:nvSpPr>
        <p:spPr>
          <a:xfrm>
            <a:off x="5364000" y="1360080"/>
            <a:ext cx="34196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Calibri"/>
              </a:rPr>
              <a:t>Biskup krakowski Stanisław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Calibri"/>
              </a:rPr>
              <a:t>(XI w.), z jego postacią związany jest najbardziej tajemniczy konflikt w średniowiecznej Polsce. Mamy mało źródeł, wiemy tylko że konflikt biskup przypłacił życiem, a król – wygnaniem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Calibri"/>
              </a:rPr>
              <a:t>i rychłą śmiercią.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Św. Stanisław przed ołtarzem. Barokowy obraz z sanktuarium na Skałce. Fot. Grzegorz Szymanowsk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odtytuł 2"/>
          <p:cNvSpPr/>
          <p:nvPr/>
        </p:nvSpPr>
        <p:spPr>
          <a:xfrm>
            <a:off x="4284720" y="1197000"/>
            <a:ext cx="46004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Św. Stanisław ze wskrzeszonym Piotrem z Piotrawina. Barokowa rzeźba z z sanktuarium na Skałce. Fot. Grzegorz Szymanowsk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Niezależnie od tego, jaki był prawdziwy przebieg konfliktu, św. Stanisław stał się symbolem konieczności oporu wobec niesprawiedliwej władzy. Każdorazowy hołd każdego nowo koronowanego króla polskiego u grobu św. Stanisława miał przypominać królowi, by rządził sprawiedliwi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1" descr="IMG_1671"/>
          <p:cNvPicPr/>
          <p:nvPr/>
        </p:nvPicPr>
        <p:blipFill>
          <a:blip r:embed="rId1"/>
          <a:srcRect l="0" t="16040" r="0" b="21874"/>
          <a:stretch/>
        </p:blipFill>
        <p:spPr>
          <a:xfrm>
            <a:off x="611280" y="404640"/>
            <a:ext cx="348120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odtytuł 2"/>
          <p:cNvSpPr/>
          <p:nvPr/>
        </p:nvSpPr>
        <p:spPr>
          <a:xfrm>
            <a:off x="1116000" y="393372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Jeden z czterech orłów, strzegących ciała męczennika. Barokowa rzeźba </a:t>
            </a:r>
            <a:br>
              <a:rPr sz="3200"/>
            </a:b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z  sanktuarium na Skałce. </a:t>
            </a:r>
            <a:br>
              <a:rPr sz="3200"/>
            </a:b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Fot. Grzegorz Szymanowsk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1" descr="IMG_1666"/>
          <p:cNvPicPr/>
          <p:nvPr/>
        </p:nvPicPr>
        <p:blipFill>
          <a:blip r:embed="rId1"/>
          <a:srcRect l="19689" t="0" r="19689" b="0"/>
          <a:stretch/>
        </p:blipFill>
        <p:spPr>
          <a:xfrm>
            <a:off x="2411280" y="765000"/>
            <a:ext cx="2932200" cy="32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9T06:37:45Z</dcterms:created>
  <dc:creator>awrobel</dc:creator>
  <dc:description/>
  <dc:language>en-US</dc:language>
  <cp:lastModifiedBy>Grzegorz Szymanowski</cp:lastModifiedBy>
  <dcterms:modified xsi:type="dcterms:W3CDTF">2013-04-06T01:30:54Z</dcterms:modified>
  <cp:revision>11</cp:revision>
  <dc:subject/>
  <dc:title>Slajd 1</dc:title>
</cp:coreProperties>
</file>