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310-9AF8-414A-A951-C0CC9AFADC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77D7-DFAC-4EBB-A527-5E1DC3C4A4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6B8-D9FC-49A8-B2D7-5686F4AEC4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FCB-06B1-4F1F-8427-37FF7D20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EA4-9B6D-4657-B094-0E9ED64F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422-F238-4681-AE33-27B9C747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32D-9BC9-47DD-8D12-9D596CA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1CE-5E78-44F0-8F41-EDC977F1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1795-9FEF-42E6-8DD8-129976E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088-6D3A-44AE-BFC2-CBEB30C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5D8-54B3-4473-9E7C-9D33D2A4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9851-106F-48D8-87B8-09F2DAC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EC48-F08D-43B0-AED6-D6EEC9D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5D5-437D-40DF-9B9E-1576ED3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90-260A-4620-A6C4-66020EEA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F725-8726-4FC9-9B5A-05FF7CC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197-2BCA-432D-B62A-1537E44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6B5-D8ED-4A9E-A248-3579057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32B-9533-4AD6-A7A1-19A3014B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8E94-BEE8-4EE6-8F10-FB1338BE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358-16DC-46F6-82D8-AA5C4C0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EAF-677C-47B2-9FA2-1B0F7924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B68-DF0B-4B82-842B-8B9607E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7C2-1A5D-4D98-B3CA-8AE2688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E23-B8B4-476B-9836-B2A730C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93B-1DDE-4C04-B182-6FBDE9D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B11-3061-4862-AE34-75E4CCB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D683-C04D-4A36-BDA3-C23B7202E49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8F1-F0A8-4403-8749-0EC6ADB2645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.europa.eu/economy_finance/focuson/inflation/inflation_in_daily_life_across_the_eu_pl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iznes.pwn.pl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hyperlink" Target="http://www.nbportal.pl/pl/np/artykuly/pieniadz/historia_inflacji4" TargetMode="External"/><Relationship Id="rId3" Type="http://schemas.openxmlformats.org/officeDocument/2006/relationships/hyperlink" Target="http://www.nbportal.pl/" TargetMode="External"/><Relationship Id="rId4" Type="http://schemas.openxmlformats.org/officeDocument/2006/relationships/hyperlink" Target="http://www.pwn.pl/" TargetMode="External"/><Relationship Id="rId5" Type="http://schemas.openxmlformats.org/officeDocument/2006/relationships/hyperlink" Target="http://www.biznes.pwn.pl/" TargetMode="External"/><Relationship Id="rId6" Type="http://schemas.openxmlformats.org/officeDocument/2006/relationships/hyperlink" Target="http://www.encyklopedia.pwn.pl/" TargetMode="External"/><Relationship Id="rId7" Type="http://schemas.openxmlformats.org/officeDocument/2006/relationships/hyperlink" Target="http://ec.europa.eu/economy_finance/focuson/inflation/what_pl.htm" TargetMode="External"/><Relationship Id="rId8" Type="http://schemas.openxmlformats.org/officeDocument/2006/relationships/hyperlink" Target="http://www.for.org.pl/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59937401@N07/5929566423/in/photostream/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59937401@N07/5929568821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gospodarka towarowo-pieniężna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kutki in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95280" y="1268280"/>
            <a:ext cx="8209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inflacja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ska, stabilna i zgodna z oczekiwan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m i konsument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sprawia większych proble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Natomia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a i niestabilna inflacj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długoterminowe planowanie, zniechęca do inwestowania i oszczędzania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est źródłem niepewn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ia, że pieniądze i ich posiada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cą na „sile nabywczej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podejmowanie decyzji finansowych (np. dotyczących zaciągania kredytów), ponieważ wiążą się one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im ryzyki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iechęca przedsiębiorców do inwestowania w przyszłości, przez co zmniejsza się ich konkurencyjność – to wywier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y wpływ na wzrost gospodarczy i zatrudni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c.europa.eu/economy_finance/focuson/inflation/inflation_in_daily_life_across_the_eu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y inflacyjne – przykł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5"/>
          <p:cNvSpPr/>
          <p:nvPr/>
        </p:nvSpPr>
        <p:spPr>
          <a:xfrm>
            <a:off x="395280" y="126828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konomiści używają takich terminów, jak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ełza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ogólnego poziomu cen wynosi 1-2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ocz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poniżej 1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alopu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przeciętnego poziomu cen do 10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kiedy inflacja sięga powyżej 50 proc. miesięczn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X wieku było kilka kryzysów związanych z hiperinflacją, m.in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iemczech w latach dwudziestych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w latach dwudzies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ęgrzech w 1946 r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pod koniec lat osiemdziesią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 latach dziewięćdziesiątyc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5" descr="rysunek5_T4_rulon_w_prezentacji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58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Niemczech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95280" y="1268280"/>
            <a:ext cx="82090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14 r. pół kilograma chleba kosztowało 19 fenigów, w czerwcu 1922 r. już 3,5 marki, a siedem miesięcy później już 700 marek; ceny wzrastały tak szybko, że portfele zostały zastąpione walizkami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e wrześniu 1923 r. bochenek chleba kosztował 2 miliony marek, a miesiąc później 630 milion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otnicy dostawali wypłatę dwa razy dziennie i od razu robili zakupy, żeby zdążyć, zanim podstawowe produkty zdroże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krótce okazało się, że nawet milionowe ceny są przeszłością, bo już w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listopadzie 1923 r. pół kilograma chleba kosztowało 80 miliardów mare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395280" y="1413000"/>
            <a:ext cx="84978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 rząd zastąpił waluty państw zaborcz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rką pol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wydatki na wojsko i administrację spowodowały wzrost inflacj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maju 1923 r. dolar był wart 52,5 tys. polskich marek, a w grudniu już 6 ml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czerwcu 1923 r. Ministerstwo Skarbu zawiesiło obroty walutami i zamknęło giełdy pienięż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nasiliło się te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dowolenie społecz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jesienią wybuchły strajki na kole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górnictwie i hutnictwie);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az 5" descr="rysunek6_T4_marka_polska_w_prezentacji.jpg"/>
          <p:cNvPicPr/>
          <p:nvPr/>
        </p:nvPicPr>
        <p:blipFill>
          <a:blip r:embed="rId2"/>
          <a:stretch/>
        </p:blipFill>
        <p:spPr>
          <a:xfrm>
            <a:off x="4643280" y="3500280"/>
            <a:ext cx="3780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1946 r. na Węgrz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5"/>
          <p:cNvSpPr/>
          <p:nvPr/>
        </p:nvSpPr>
        <p:spPr>
          <a:xfrm>
            <a:off x="395280" y="1125360"/>
            <a:ext cx="8497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raz po wojnie, gdy węgierski rząd zupełnie nie panował nad inflacją, jej poziom wynosił niemal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42 tryliony procen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46 r. ceny towarów i surowców podwajały się z dnia na dzień, a dokładniej mówiąc – mniej więcej co 14 godz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w obiegu były ju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noty o nominałach stu trylionów pengő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ówczesna waluta węgierska), władze rozważały wprowadzenie banknotu o nominale tryliarda (a tryliard to jedynka z 24 zerami!); nie doszło do tego, ponieważ przeprowadzono denominację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zterysta tysięcy kwadrylionów pengő wymieniano na jednego forinta, czyli nową walutę węgier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orawska M., W sidłach inflacji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pod koniec lat 80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w latach 90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179280" y="1628640"/>
            <a:ext cx="8748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89 r. odnotowano inflację na poziomie 600 proc., a już w następnym roku wzrost cen wyniósł 1395 proc.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niądze traciły na wartości w zastraszającym tempie – na przełomie lat 80. i 90. banknotem o najniższym nominale było 50 zł – za tę sumę niemal nic nie można było kupi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3 r. inflacja zmusiła państwo do dodruku banknotów o nominale 2 mln zł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es tej inflacji położył dopier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5 r. pakiet reform wprowadzony przez prof. Leszka Balcerowic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ówczesnego wicepremiera i ministra finansów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precjacja, aprecjacja i dewalu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539640" y="134136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precjacja jest to spadek ce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 szczególności ten termin używany jest w odniesieniu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adku wartości waluty krajow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tosunku do waluty zagranicznej, np. gdy spada kurs złotówki w dolarach i obniża się jej wartość międzynarodowa mówimy o deprecjacji. Jej przeciwieństwo, czyl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zrost wartości, to aprecj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systemu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łego kursu walutowego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wyższenie kursu danej waluty wynikające z decyzji administracyjnej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obniżenie kursu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Na podstawie: Begg D., Fischer S., Dornbusch R., Makroekonomi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Obraz 5" descr="w stertach.jpg"/>
          <p:cNvPicPr/>
          <p:nvPr/>
        </p:nvPicPr>
        <p:blipFill>
          <a:blip r:embed="rId1"/>
          <a:stretch/>
        </p:blipFill>
        <p:spPr>
          <a:xfrm>
            <a:off x="6084720" y="4292640"/>
            <a:ext cx="2827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ynek konsumenta i produce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5"/>
          <p:cNvSpPr/>
          <p:nvPr/>
        </p:nvSpPr>
        <p:spPr>
          <a:xfrm>
            <a:off x="539640" y="136224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konsumenta (inaczej – rynek odbior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producenci, by móc sprzedać swoje produkty, muszą dostosować je do konkretnych gustów i potrzeb konsument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producenta (inaczej – rynek dostaw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konsumenci są zmuszeni kupować produkty o cechach określonych przez producenta i na warunkach przez niego ustalonych (ponieważ na rynku nie ma innych dostawców); np. mogą kupować jedynie czarne samochody o małej pojemności silnik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orawska M., W sidłach inflacji , serwis prowadzony przez Polskie Radio i Narodowy Bank Polski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aźmierczak A., Polityka pieniężna w gospodarce rynkowej, Wydawnictwo Naukowe PWN, Warszawa  2003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bportal.pl/pl/np/artykuly/pieniadz/historia_inflacji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orawski W., Zarys powszechnej historii pieniądza i bankowości, Wydawnictwo TRIO, Warszawa 2002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udoł S., Przedsiębiorstwo. Podstawy nauki o przedsiębiorstwie. Teorie i praktyka zarządzania, Toruń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elizer V. A., (Prze)znaczenie pieniądza, [w:] Sztompka P., Bogunia-Borowska M. (red.), Socjologia codzienności, Wydawnictwo Znak, Kraków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Komisji Europejskiej, dział: Sprawy Gospodarcze i Finansowe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c.europa.eu/economy_finance/focuson/inflation/what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Fundacji Forum Obywatelskiego Rozwoju założonej przez prof. Leszka Balcerowicza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for.org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179280" y="981000"/>
            <a:ext cx="8713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lickr.com/photos/59937401@N07/5929566423/in/photostream/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Monety3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oins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59937401@N07/5929568821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. Euro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euros), autor: Images Money, źródło: http://www.flickr.com/photos/59937401@N07/5930025654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Rulon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20 pound note roll), autor: Images Money, źródło: http://www.flickr.com/photos/59937401@N07/5930028236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Marka polska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ikimedia Commons, http://pl.wikipedia.org/wiki/Plik:1_Marka_Polska_(1919).jpg#fi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Monety2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05264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la pieniądza w gospodarce (rodzaje pieniądza, ekonomiczne i społeczne funkcje pieniądza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ż pieniąd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 niedomiaru i nadmiaru pieniądza w obrocie handlow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inflacji do deflacji (inflacja, deflacja, hiperinflacja, stagflacja, skutki inflac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y kryzysów inflacyjnych w XX wieku (w latach 20. w Niemczech i w Polsce, na Węgrzech w 1946 r., pod koniec lat 80. i na początku lat 90. w Polsc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precjacja, aprecjacja i dewaluac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i: producenta i konsument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niąd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395280" y="1268280"/>
            <a:ext cx="8137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pewien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zechnie akceptowany towar, za pomocą którego dokonujemy płat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 dostarczone dobra lub wywiązujemy się ze zobowiązań (np. spłacamy długi). Inaczej mówiąc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st to środek wymia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o: na Wyspach Admiralicji były to psie zęby, w niektórych regionach Afryki – muszle, a w XIX w. – zł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gospodarce bezpieniężnej wymiana ma charak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pośredn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jedne dobra są wymieniane na i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Wydawnictw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5929566423_f6b95feff9.jpg"/>
          <p:cNvPicPr/>
          <p:nvPr/>
        </p:nvPicPr>
        <p:blipFill>
          <a:blip r:embed="rId1"/>
          <a:stretch/>
        </p:blipFill>
        <p:spPr>
          <a:xfrm>
            <a:off x="6340320" y="3357720"/>
            <a:ext cx="2803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250920" y="112536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st nie tylko środkiem wymiany, ale też dobrem o zastosowaniu przemysłowym (np. sztabka złota) czy konsumpcyjnym (np. papierosy w obozach jenieckich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ymbol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to środek płatniczy, którego wartość (siła nabywcza) znacznie przewyższa koszt jego wytworzenia lub wartość jako towaru w innych niż pieniądz zastosowaniach (np. banknot o nominale 100 zł, który ma o wiele większą wartość jako pieniądz, niż jako arkusik zadrukowanego papier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gotówk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go podstawą jest wierzytelność przedsiębiorstwa lub osoby prywatnej (np. depozyt bankowy uruchamiany za pomocą czek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ektron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cyfrowy odpowiednik gotówk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5"/>
          <p:cNvSpPr/>
          <p:nvPr/>
        </p:nvSpPr>
        <p:spPr>
          <a:xfrm>
            <a:off x="539640" y="119700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łatniczym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środkiem wymian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dnostką rozrachunkow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 tej jednostce wyrażone są ceny i prowadzone rozliczeni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rzechowywania wartości (tezauryzacji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zn. można go „zaoszczędzić” i wykorzystać do dokonania zakupów dopiero w przyszł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ernikiem odroczonych płat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tzn. w tej jednostce wyrażane są też zobowiązania finansowe, np. w przypad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życzki – kwota do spłat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6" descr="money1.jpg"/>
          <p:cNvPicPr/>
          <p:nvPr/>
        </p:nvPicPr>
        <p:blipFill>
          <a:blip r:embed="rId1"/>
          <a:stretch/>
        </p:blipFill>
        <p:spPr>
          <a:xfrm>
            <a:off x="6300720" y="4083120"/>
            <a:ext cx="26082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ołe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11280" y="1341360"/>
            <a:ext cx="72738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hawior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tyw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zintegr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grująco-instytucjon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53964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ałkowita wartość znajdujących się w obiegu zasobów pieniądz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występującego w roli środka wymiany. Kontrolę nad podażą pieniądza sprawują banki centralne – w Polsce robi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odowy Bank Polsk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zerwy obowiązk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procentowe banku centralnego (depozytową, lombardową, redyskontową, referencyjną 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cje otwartego rynku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5" descr="rysunek4_T4_monety3_w_prezentacji.jpg"/>
          <p:cNvPicPr/>
          <p:nvPr/>
        </p:nvPicPr>
        <p:blipFill>
          <a:blip r:embed="rId1"/>
          <a:stretch/>
        </p:blipFill>
        <p:spPr>
          <a:xfrm>
            <a:off x="4788000" y="4005360"/>
            <a:ext cx="4187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domiar i nadmiar pieniądza w obrocie handlowy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5"/>
          <p:cNvSpPr/>
          <p:nvPr/>
        </p:nvSpPr>
        <p:spPr>
          <a:xfrm>
            <a:off x="539640" y="2349360"/>
            <a:ext cx="770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ługim okresie ilość pieniądza w obiegu decyduje o poziomie c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w gospodarce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duż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pyt na dobra i usługi przewyższa ich podaż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rosn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staje się coraz wyżs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mał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jawiają się kłopoty ze sprzedażą dóbr i usług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spadaj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co oznac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zyko reces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d inflacji do de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611280" y="1052640"/>
            <a:ext cx="770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to wzrost przeciętnego poziomu cen dóbr i usług w jakimś okres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Inflacja zmniejsza wartość pieniądza, a więc za taką samą kwotę można kupić coraz mn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 długotrwały spadek przeciętnego poziomu c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zjawisko polegając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utrzymywaniu się bardzo wysoki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infla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g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współwystępowa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j inflacji i dużego bezroboci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5" descr="rysunek6_T4_euro_w_prezentacji.jpg"/>
          <p:cNvPicPr/>
          <p:nvPr/>
        </p:nvPicPr>
        <p:blipFill>
          <a:blip r:embed="rId1"/>
          <a:stretch/>
        </p:blipFill>
        <p:spPr>
          <a:xfrm>
            <a:off x="0" y="3141720"/>
            <a:ext cx="4140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27T05:45:07Z</dcterms:modified>
  <cp:revision>899</cp:revision>
  <dc:subject/>
  <dc:title>Slajd 1</dc:title>
</cp:coreProperties>
</file>