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CD79-98C3-418E-AE4C-3E580E9A36A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B1CB-4999-447C-89B0-53C7ACFDDA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0A1D-1EEE-4ACC-85B9-E65AB1EF4D7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421-3B35-4DE8-9121-C1C2FF29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2D1-F5D7-4ECB-8067-07EC9B55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729-85E2-4076-965D-CAE726D1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A40-0E06-4743-81D9-5F15F78F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AD60-0B56-4CE6-8485-6BADB8DF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B5E9-3CCE-4698-9BA5-99359A82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8AF2-523D-4CB9-B627-BA465C2F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79F8-4385-4E7C-B9F5-CF330979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0F1C-35A6-4C42-8337-A19DCC40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79BA-AE14-4AE1-9E99-4BE024A3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4EF2-E3A1-43BE-9C2E-EDA0DDE9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860-9245-4592-A4FB-F5780497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21EA-0D06-4CFB-BA37-193967E7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E598-D469-47CC-AB98-2C44CECE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D648-01AB-46B0-AD86-D7A0DAB1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082F-C721-4916-998D-9F55C81B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1E26-0C3E-4206-9633-2F81D617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FD2-0CE4-4F89-8427-1386E7C3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FC3-909D-4A4E-A4D2-99FCB59A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7E9-3173-413E-A086-26CA4F02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002-3E36-4DDC-8D0A-22A64FDD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0CE-22E9-40A6-9F88-FCD18904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22B-4F34-4F50-BF8C-4EE89E72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E03-22D4-44F0-91DA-CA3E456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F328-6DA6-44C6-BE3B-9CAE6124B17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B369-9F09-4D9F-AE48-EC0BCDCA7BF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c.europa.eu/economy_finance/focuson/inflation/inflation_in_daily_life_across_the_eu_pl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bportal.pl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bportal.pl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as.polskieradio.pl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iznes.pwn.pl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as.polskieradio.pl/" TargetMode="External"/><Relationship Id="rId2" Type="http://schemas.openxmlformats.org/officeDocument/2006/relationships/hyperlink" Target="http://www.nbportal.pl/pl/np/artykuly/pieniadz/historia_inflacji4" TargetMode="External"/><Relationship Id="rId3" Type="http://schemas.openxmlformats.org/officeDocument/2006/relationships/hyperlink" Target="http://www.nbportal.pl/" TargetMode="External"/><Relationship Id="rId4" Type="http://schemas.openxmlformats.org/officeDocument/2006/relationships/hyperlink" Target="http://www.pwn.pl/" TargetMode="External"/><Relationship Id="rId5" Type="http://schemas.openxmlformats.org/officeDocument/2006/relationships/hyperlink" Target="http://www.biznes.pwn.pl/" TargetMode="External"/><Relationship Id="rId6" Type="http://schemas.openxmlformats.org/officeDocument/2006/relationships/hyperlink" Target="http://www.encyklopedia.pwn.pl/" TargetMode="External"/><Relationship Id="rId7" Type="http://schemas.openxmlformats.org/officeDocument/2006/relationships/hyperlink" Target="http://ec.europa.eu/economy_finance/focuson/inflation/what_pl.htm" TargetMode="External"/><Relationship Id="rId8" Type="http://schemas.openxmlformats.org/officeDocument/2006/relationships/hyperlink" Target="http://www.for.org.pl/" TargetMode="External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59937401@N07/5929566423/in/photostream/" TargetMode="External"/><Relationship Id="rId2" Type="http://schemas.openxmlformats.org/officeDocument/2006/relationships/hyperlink" Target="http://www.flickr.com/photos/amagill/3367543094/" TargetMode="External"/><Relationship Id="rId3" Type="http://schemas.openxmlformats.org/officeDocument/2006/relationships/hyperlink" Target="http://www.flickr.com/photos/59937401@N07/5929568821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ym jest gospodarka towarowo-pieniężna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kutki infl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5"/>
          <p:cNvSpPr/>
          <p:nvPr/>
        </p:nvSpPr>
        <p:spPr>
          <a:xfrm>
            <a:off x="395280" y="1268280"/>
            <a:ext cx="8209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śli inflacja je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ska, stabilna i zgodna z oczekiwaniam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rm i konsumentów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sprawia większych problem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Natomia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a i niestabilna inflacj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trudnia długoterminowe planowanie, zniechęca do inwestowania i oszczędzania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jest źródłem niepewnośc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ia, że pieniądze i ich posiadacz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racą na „sile nabywczej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trudnia podejmowanie decyzji finansowych (np. dotyczących zaciągania kredytów), ponieważ wiążą się one 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im ryzykie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niechęca przedsiębiorców do inwestowania w przyszłości, przez co zmniejsza się ich konkurencyjność – to wywier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egatywny wpływ na wzrost gospodarczy i zatrudnie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c.europa.eu/economy_finance/focuson/inflation/inflation_in_daily_life_across_the_eu_pl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y inflacyjne – przykł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5"/>
          <p:cNvSpPr/>
          <p:nvPr/>
        </p:nvSpPr>
        <p:spPr>
          <a:xfrm>
            <a:off x="395280" y="1268280"/>
            <a:ext cx="8209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konomiści używają takich terminów, jak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ełzaj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zrost ogólnego poziomu cen wynosi 1-2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ocz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poniżej 10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alopuj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zrost przeciętnego poziomu cen do 100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hiperin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kiedy inflacja sięga powyżej 50 proc. miesięczn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XX wieku było kilka kryzysów związanych z hiperinflacją, m.in.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iemczech w latach dwudziestych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w latach dwudziest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Węgrzech w 1946 r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pod koniec lat osiemdziesiąt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w latach dziewięćdziesiątych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Obraz 5" descr="rysunek5_T4_rulon_w_prezentacji.jpg"/>
          <p:cNvPicPr/>
          <p:nvPr/>
        </p:nvPicPr>
        <p:blipFill>
          <a:blip r:embed="rId1"/>
          <a:stretch/>
        </p:blipFill>
        <p:spPr>
          <a:xfrm>
            <a:off x="5508720" y="4149720"/>
            <a:ext cx="3058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Niemczech w latach 2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5"/>
          <p:cNvSpPr/>
          <p:nvPr/>
        </p:nvSpPr>
        <p:spPr>
          <a:xfrm>
            <a:off x="395280" y="1268280"/>
            <a:ext cx="820908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914 r. pół kilograma chleba kosztowało 19 fenigów, w czerwcu 1922 r. już 3,5 marki, a siedem miesięcy później już 700 marek; ceny wzrastały tak szybko, że portfele zostały zastąpione walizkami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e wrześniu 1923 r. bochenek chleba kosztował 2 miliony marek, a miesiąc później 630 milion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botnicy dostawali wypłatę dwa razy dziennie i od razu robili zakupy, żeby zdążyć, zanim podstawowe produkty zdrożej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krótce okazało się, że nawet milionowe ceny są przeszłością, bo już w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listopadzie 1923 r. pół kilograma chleba kosztowało 80 miliardów marek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jerkiewicz W., Szaleniec M., 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Polsce w latach 2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5"/>
          <p:cNvSpPr/>
          <p:nvPr/>
        </p:nvSpPr>
        <p:spPr>
          <a:xfrm>
            <a:off x="395280" y="1413000"/>
            <a:ext cx="84978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y rząd zastąpił waluty państw zaborczy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rką polsk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 wydatki na wojsko i administrację spowodowały wzrost inflacj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maju 1923 r. dolar był wart 52,5 tys. polskich marek, a w grudniu już 6 ml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czerwcu 1923 r. Ministerstwo Skarbu zawiesiło obroty walutami i zamknęło giełdy pienięż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nasiliło się te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zadowolenie społecz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jesienią wybuchły strajki na kole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górnictwie i hutnictwie);</a:t>
            </a:r>
            <a:br>
              <a:rPr sz="2000"/>
            </a:b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jerkiewicz W., Szaleniec M.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az 5" descr="rysunek6_T4_marka_polska_w_prezentacji.jpg"/>
          <p:cNvPicPr/>
          <p:nvPr/>
        </p:nvPicPr>
        <p:blipFill>
          <a:blip r:embed="rId2"/>
          <a:stretch/>
        </p:blipFill>
        <p:spPr>
          <a:xfrm>
            <a:off x="4643280" y="3500280"/>
            <a:ext cx="3780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1946 r. na Węgrz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5"/>
          <p:cNvSpPr/>
          <p:nvPr/>
        </p:nvSpPr>
        <p:spPr>
          <a:xfrm>
            <a:off x="395280" y="1125360"/>
            <a:ext cx="8497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raz po wojnie, gdy węgierski rząd zupełnie nie panował nad inflacją, jej poziom wynosił niemal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42 tryliony procent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946 r. ceny towarów i surowców podwajały się z dnia na dzień, a dokładniej mówiąc – mniej więcej co 14 godzi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w obiegu były już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anknoty o nominałach stu trylionów pengő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ówczesna waluta węgierska), władze rozważały wprowadzenie banknotu o nominale tryliarda (a tryliard to jedynka z 24 zerami!); nie doszło do tego, ponieważ przeprowadzono denominację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zterysta tysięcy kwadrylionów pengő wymieniano na jednego forinta, czyli nową walutę węgiersk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orawska M., W sidłach inflacji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las.polskieradio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Polsce pod koniec lat 80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 w latach 90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5"/>
          <p:cNvSpPr/>
          <p:nvPr/>
        </p:nvSpPr>
        <p:spPr>
          <a:xfrm>
            <a:off x="179280" y="1628640"/>
            <a:ext cx="8748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89 r. odnotowano inflację na poziomie 600 proc., a już w następnym roku wzrost cen wyniósł 1395 proc.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niądze traciły na wartości w zastraszającym tempie – na przełomie lat 80. i 90. banknotem o najniższym nominale było 50 zł – za tę sumę niemal nic nie można było kupić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93 r. inflacja zmusiła państwo do dodruku banknotów o nominale 2 mln zł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es tej inflacji położył dopier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95 r. pakiet reform wprowadzony przez prof. Leszka Balcerowicz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ówczesnego wicepremiera i ministra finansów;</a:t>
            </a:r>
            <a:br>
              <a:rPr sz="1800"/>
            </a:br>
            <a:br>
              <a:rPr sz="18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ałtowski M., Miszewski M., Transformacja gospodarcza w Polsce, Wydawnictwo Naukowe PWN, Warszawa 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precjacja, aprecjacja i dewalu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5"/>
          <p:cNvSpPr/>
          <p:nvPr/>
        </p:nvSpPr>
        <p:spPr>
          <a:xfrm>
            <a:off x="539640" y="134136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precjacja jest to spadek ce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w szczególności ten termin używany jest w odniesieniu d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adku wartości waluty krajowej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stosunku do waluty zagranicznej, np. gdy spada kurs złotówki w dolarach i obniża się jej wartość międzynarodowa mówimy o deprecjacji. Jej przeciwieństwo, czyl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zrost wartości, to aprecj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systemu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tałego kursu walutowego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wyższenie kursu danej waluty wynikające z decyzji administracyjnej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ewalu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 obniżenie kursu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walu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Na podstawie: Begg D., Fischer S., Dornbusch R., Makroekonomi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Obraz 5" descr="w stertach.jpg"/>
          <p:cNvPicPr/>
          <p:nvPr/>
        </p:nvPicPr>
        <p:blipFill>
          <a:blip r:embed="rId1"/>
          <a:stretch/>
        </p:blipFill>
        <p:spPr>
          <a:xfrm>
            <a:off x="6084720" y="4292640"/>
            <a:ext cx="2827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ynek konsumenta i producen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5"/>
          <p:cNvSpPr/>
          <p:nvPr/>
        </p:nvSpPr>
        <p:spPr>
          <a:xfrm>
            <a:off x="539640" y="136224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konsumenta (inaczej – rynek odbiorcy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rynek, na którym producenci, by móc sprzedać swoje produkty, muszą dostosować je do konkretnych gustów i potrzeb konsument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producenta (inaczej – rynek dostawcy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rynek, na którym konsumenci są zmuszeni kupować produkty o cechach określonych przez producenta i na warunkach przez niego ustalonych (ponieważ na rynku nie ma innych dostawców); np. mogą kupować jedynie czarne samochody o małej pojemności silnik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znes.pwn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3"/>
          <p:cNvSpPr/>
          <p:nvPr/>
        </p:nvSpPr>
        <p:spPr>
          <a:xfrm>
            <a:off x="179280" y="907920"/>
            <a:ext cx="8785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ałtowski M., Miszewski M., Transformacja gospodarcza w Polsce, Wydawnictwo Naukowe PWN, Warszawa 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orawska M., W sidłach inflacji , serwis prowadzony przez Polskie Radio i Narodowy Bank Polski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las.polskieradio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Kaźmierczak A., Polityka pieniężna w gospodarce rynkowej, Wydawnictwo Naukowe PWN, Warszawa  2003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ajerkiewicz W., Szaleniec M., 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bportal.pl/pl/np/artykuly/pieniadz/historia_inflacji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ishkin F.S., Ekonomika pieniądza, bankowości i rynków finansowych, PWN, Warszawa 20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orawski W., Zarys powszechnej historii pieniądza i bankowości, Wydawnictwo TRIO, Warszawa 2002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udoł S., Przedsiębiorstwo. Podstawy nauki o przedsiębiorstwie. Teorie i praktyka zarządzania, Toruń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elizer V. A., (Prze)znaczenie pieniądza, [w:] Sztompka P., Bogunia-Borowska M. (red.), Socjologia codzienności, Wydawnictwo Znak, Kraków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Wiedzy PWN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Komisji Europejskiej, dział: Sprawy Gospodarcze i Finansowe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ec.europa.eu/economy_finance/focuson/inflation/what_pl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Fundacji Forum Obywatelskiego Rozwoju założonej przez prof. Leszka Balcerowicza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for.org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3"/>
          <p:cNvSpPr/>
          <p:nvPr/>
        </p:nvSpPr>
        <p:spPr>
          <a:xfrm>
            <a:off x="179280" y="981000"/>
            <a:ext cx="87138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1.  Monety1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5 pence coins), autor: 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lickr.com/photos/59937401@N07/5929566423/in/photostream/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. Plik banknotów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money), fot. Andrew Magill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lickr.com/photos/amagill/3367543094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3. Monety3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coins), autor: 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lickr.com/photos/59937401@N07/5929568821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. Euro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euros), autor: Images Money, źródło: http://www.flickr.com/photos/59937401@N07/5930025654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5. Rulon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20 pound note roll), autor: Images Money, źródło: http://www.flickr.com/photos/59937401@N07/5930028236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6. Marka polska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Wikimedia Commons, http://pl.wikipedia.org/wiki/Plik:1_Marka_Polska_(1919).jpg#fi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7. Monety2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stacks of pound coins), autor: Images Money, źródło: http://www.flickr.com/photos/59937401@N07/5930116778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*licencja CC BY: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052640"/>
            <a:ext cx="8497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la pieniądza w gospodarce (rodzaje pieniądza, ekonomiczne i społeczne funkcje pieniądza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aż pieniądz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utki niedomiaru i nadmiaru pieniądza w obrocie handlowy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 inflacji do deflacji (inflacja, deflacja, hiperinflacja, stagflacja, skutki inflac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y kryzysów inflacyjnych w XX wieku (w latach 20. w Niemczech i w Polsce, na Węgrzech w 1946 r., pod koniec lat 80. i na początku lat 90. w Polsce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eprecjacja, aprecjacja i dewaluacj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ynki: producenta i konsument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ieniąd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5"/>
          <p:cNvSpPr/>
          <p:nvPr/>
        </p:nvSpPr>
        <p:spPr>
          <a:xfrm>
            <a:off x="395280" y="1268280"/>
            <a:ext cx="81374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pewien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wszechnie akceptowany towar, za pomocą którego dokonujemy płatnośc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 dostarczone dobra lub wywiązujemy się ze zobowiązań (np. spłacamy długi). Inaczej mówiąc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est to środek wymia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owo: na Wyspach Admiralicji były to psie zęby, w niektórych regionach Afryki – muszle, a w XIX w. – zło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gospodarce bezpieniężnej wymiana ma charak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ezpośredn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jedne dobra są wymieniane na in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Begg D., Fischer S., Dornbusch R., Makroekonomia, Polskie Wydawnictw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8" descr="5929566423_f6b95feff9.jpg"/>
          <p:cNvPicPr/>
          <p:nvPr/>
        </p:nvPicPr>
        <p:blipFill>
          <a:blip r:embed="rId1"/>
          <a:stretch/>
        </p:blipFill>
        <p:spPr>
          <a:xfrm>
            <a:off x="6340320" y="3357720"/>
            <a:ext cx="2803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dza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5"/>
          <p:cNvSpPr/>
          <p:nvPr/>
        </p:nvSpPr>
        <p:spPr>
          <a:xfrm>
            <a:off x="250920" y="1125360"/>
            <a:ext cx="8497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waro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jest nie tylko środkiem wymiany, ale też dobrem o zastosowaniu przemysłowym (np. sztabka złota) czy konsumpcyjnym (np. papierosy w obozach jenieckich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ymbolicz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to środek płatniczy, którego wartość (siła nabywcza) znacznie przewyższa koszt jego wytworzenia lub wartość jako towaru w innych niż pieniądz zastosowaniach (np. banknot o nominale 100 zł, który ma o wiele większą wartość jako pieniądz, niż jako arkusik zadrukowanego papieru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ezgotówko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jego podstawą jest wierzytelność przedsiębiorstwa lub osoby prywatnej (np. depozyt bankowy uruchamiany za pomocą czeku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lektronicz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cyfrowy odpowiednik gotówk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konomiczne funkc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5"/>
          <p:cNvSpPr/>
          <p:nvPr/>
        </p:nvSpPr>
        <p:spPr>
          <a:xfrm>
            <a:off x="539640" y="119700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rodkiem płatniczym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środkiem wymian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ednostką rozrachunkową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 tej jednostce wyrażone są ceny i prowadzone rozliczeni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rodkiem przechowywania wartości (tezauryzacji)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zn. można go „zaoszczędzić” i wykorzystać do dokonania zakupów dopiero w przyszłoś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ernikiem odroczonych płat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tzn. w tej jednostce wyrażane są też zobowiązania finansowe, np. w przypad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życzki – kwota do spłat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Begg D., Fischer S., Dornbusch R., Makroekonomia, Polski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Obraz 6" descr="money1.jpg"/>
          <p:cNvPicPr/>
          <p:nvPr/>
        </p:nvPicPr>
        <p:blipFill>
          <a:blip r:embed="rId1"/>
          <a:stretch/>
        </p:blipFill>
        <p:spPr>
          <a:xfrm>
            <a:off x="6300720" y="4083120"/>
            <a:ext cx="26082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ołeczne funkc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5"/>
          <p:cNvSpPr/>
          <p:nvPr/>
        </p:nvSpPr>
        <p:spPr>
          <a:xfrm>
            <a:off x="611280" y="1341360"/>
            <a:ext cx="727380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hawioral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tyw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form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zintegr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grująco-instytucjonal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Mishkin F.S., Ekonomika pieniądza, bankowości i rynków finansowych, PWN, Warszawa 20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daż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53964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ałkowita wartość znajdujących się w obiegu zasobów pieniądz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występującego w roli środka wymiany. Kontrolę nad podażą pieniądza sprawują banki centralne – w Polsce robi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rodowy Bank Polsk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poprze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zerwy obowiązk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py procentowe banku centralnego (depozytową, lombardową, redyskontową, referencyjną 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eracje otwartego rynku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az 5" descr="rysunek4_T4_monety3_w_prezentacji.jpg"/>
          <p:cNvPicPr/>
          <p:nvPr/>
        </p:nvPicPr>
        <p:blipFill>
          <a:blip r:embed="rId1"/>
          <a:stretch/>
        </p:blipFill>
        <p:spPr>
          <a:xfrm>
            <a:off x="4788000" y="4005360"/>
            <a:ext cx="41878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iedomiar i nadmiar pieniądza w obrocie handlowy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5"/>
          <p:cNvSpPr/>
          <p:nvPr/>
        </p:nvSpPr>
        <p:spPr>
          <a:xfrm>
            <a:off x="539640" y="2349360"/>
            <a:ext cx="770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długim okresie ilość pieniądza w obiegu decyduje o poziomie c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pieniądza w gospodarce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 duż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pyt na dobra i usługi przewyższa ich podaż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eny rosną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lacja staje się coraz wyższ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pieniądza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 mał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jawiają się kłopoty ze sprzedażą dóbr i usług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eny spadaj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co oznacz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zyko recesj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fl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d inflacji do defl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5"/>
          <p:cNvSpPr/>
          <p:nvPr/>
        </p:nvSpPr>
        <p:spPr>
          <a:xfrm>
            <a:off x="611280" y="1052640"/>
            <a:ext cx="770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lacja to wzrost przeciętnego poziomu cen dóbr i usług w jakimś okres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Inflacja zmniejsza wartość pieniądza, a więc za taką samą kwotę można kupić coraz mni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 długotrwały spadek przeciętnego poziomu c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Hiperin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o zjawisko polegając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utrzymywaniu się bardzo wysokiej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py inflac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tag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o współwystępowa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j inflacji i dużego bezroboci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Obraz 5" descr="rysunek6_T4_euro_w_prezentacji.jpg"/>
          <p:cNvPicPr/>
          <p:nvPr/>
        </p:nvPicPr>
        <p:blipFill>
          <a:blip r:embed="rId1"/>
          <a:stretch/>
        </p:blipFill>
        <p:spPr>
          <a:xfrm>
            <a:off x="0" y="3141720"/>
            <a:ext cx="41403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27T05:45:07Z</dcterms:modified>
  <cp:revision>899</cp:revision>
  <dc:subject/>
  <dc:title>Slajd 1</dc:title>
</cp:coreProperties>
</file>