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16F-CE85-496F-94B9-AD85C76959E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579E-C6EB-4CD7-8018-32B2FC99C8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C22-E859-4238-9CF6-402D27844B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642-0E91-4427-8D2C-8AA0E9E325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885-D978-4EA9-8284-6726F73E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A91-9C21-414F-9B7C-507BABF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EFC-6AFE-4478-83B1-18425B2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84A-4DCD-426B-AD00-DD3A9A56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715-25BB-4F3D-A6B2-16AF6C04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091F-66EB-4386-864C-7D6AE57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37DD-F569-417B-A2FB-97BD9CD9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926C-0D4F-4AAB-A278-D983499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756B-32B6-4D3A-82CF-FF2661C6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2EBB-E001-4BC3-8130-0A6C504D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FB26-3744-4EB8-9977-4DA1801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D2B-001C-4DAD-9E9F-7E20DBA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BC7A-859D-46FF-9D85-77518F7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143-FFD4-49C8-84A0-760F4B4E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756-F220-4E29-8D3D-1A18CDC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2123-B5E5-4A83-BFD0-C7659AC2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CAC2-0CFD-4B06-A19C-2EFD2C8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9CF-F61B-482C-B04B-034A54EA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143-E63D-477A-A867-DBE78DC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D3C-E391-45CA-9629-1ADFCA2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A54-DD4F-404C-8B56-C4E02CC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C71-21A3-415D-B20C-C805253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4F0-12DE-45D2-8455-AD0FF31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B1F-4692-4E1A-AC1F-78B97D2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0D4-00F2-432E-B37B-EB9EE29741F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9EF-ADF6-4E6E-9CD2-2F90AD7C92D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zeglad-tygodnik.pl/pl/artykul/ile-kosztuje-panstwo-opiekuncze-rozmowa-prof-joakimem-palmem" TargetMode="External"/><Relationship Id="rId2" Type="http://schemas.openxmlformats.org/officeDocument/2006/relationships/hyperlink" Target="http://www.nowapolitologia.pl/" TargetMode="External"/><Relationship Id="rId3" Type="http://schemas.openxmlformats.org/officeDocument/2006/relationships/hyperlink" Target="http://www.nowapolitologia.pl/politologia/systemy-polityczne/szwedzki-model-panstwa-opiekunczego" TargetMode="External"/><Relationship Id="rId4" Type="http://schemas.openxmlformats.org/officeDocument/2006/relationships/hyperlink" Target="http://www.polityka.pl/spoleczenstwo/artykuly/1517622,1,rozmowa-maciejem-zaremba-bielawskim.read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państwo opiekuńcz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gumenty przeciw państwu opiekuńcze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3"/>
          <p:cNvSpPr/>
          <p:nvPr/>
        </p:nvSpPr>
        <p:spPr>
          <a:xfrm>
            <a:off x="539640" y="1700280"/>
            <a:ext cx="7201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konomi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ksze wydatki państwa na cele socjalne oznaczają konieczność podwyższania podatków i spowolnienie wzrostu gospodarcz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lity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za mocno wkracza w życie prywatne obywateli, ingeruje np. w wychowanie dzieci; nadmiernie rozbudza też oczekiwania ludzi i choć ze względu na kondycję gospodarki szczodra pomoc socjalna powinna być ograniczona,  politycy nie są gotowi tego zrobić, bo takie działania nie przysparzają popularnoś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no-kulturow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taki system zmniejsza samodzielność i odpowiedzialność jednostek za własne funkcjonowanie, uzależnia i uczy przyjmowania postaw roszczeni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3" descr="pan4.jpg"/>
          <p:cNvPicPr/>
          <p:nvPr/>
        </p:nvPicPr>
        <p:blipFill>
          <a:blip r:embed="rId1"/>
          <a:stretch/>
        </p:blipFill>
        <p:spPr>
          <a:xfrm>
            <a:off x="7529400" y="836640"/>
            <a:ext cx="1614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III sektora w świadczeniu usług społe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395280" y="20606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I sekto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 organizacje (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warzyszenia i fundacj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, które nie są nastawione na zysk i nie są elementem struktury państwa – nazywamy 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zarządowym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ang. non-governmental organiz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e dostarczać wysokiej jakości usług, przede wszystkim socjalnych (np. zdrowotnych) i publicznych (np. edukacyjnych) – zwykl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przy tym taniej i sprawniej, niż administracja publicz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arcza usług i dóbr, których nie dostarcza wolny rynek, poniewa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przynoszą one korzyści biznesow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chodzi np. o usługi dla osób bezdomnyc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3"/>
          <p:cNvSpPr/>
          <p:nvPr/>
        </p:nvSpPr>
        <p:spPr>
          <a:xfrm>
            <a:off x="3708360" y="263700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rawiedliwość społeczną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 się pogodzić z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fektywnością ekonom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4" descr="pani.jpg"/>
          <p:cNvPicPr/>
          <p:nvPr/>
        </p:nvPicPr>
        <p:blipFill>
          <a:blip r:embed="rId1"/>
          <a:stretch/>
        </p:blipFill>
        <p:spPr>
          <a:xfrm>
            <a:off x="0" y="1628640"/>
            <a:ext cx="3798720" cy="2664000"/>
          </a:xfrm>
          <a:prstGeom prst="rect">
            <a:avLst/>
          </a:prstGeom>
          <a:ln w="0">
            <a:noFill/>
          </a:ln>
        </p:spPr>
      </p:pic>
      <p:sp>
        <p:nvSpPr>
          <p:cNvPr id="128" name="Dowolny kształt 6"/>
          <p:cNvSpPr/>
          <p:nvPr/>
        </p:nvSpPr>
        <p:spPr>
          <a:xfrm>
            <a:off x="3774960" y="1773360"/>
            <a:ext cx="5369040" cy="185760"/>
          </a:xfrm>
          <a:custGeom>
            <a:avLst/>
            <a:gdLst/>
            <a:ahLst/>
            <a:rect l="l" t="t" r="r" b="b"/>
            <a:pathLst>
              <a:path w="5747657" h="224246">
                <a:moveTo>
                  <a:pt x="0" y="224246"/>
                </a:moveTo>
                <a:lnTo>
                  <a:pt x="2991394" y="198120"/>
                </a:lnTo>
                <a:cubicBezTo>
                  <a:pt x="3884023" y="165463"/>
                  <a:pt x="4963885" y="56606"/>
                  <a:pt x="5355771" y="28303"/>
                </a:cubicBezTo>
                <a:cubicBezTo>
                  <a:pt x="5747657" y="0"/>
                  <a:pt x="5342708" y="28303"/>
                  <a:pt x="5342708" y="28303"/>
                </a:cubicBezTo>
                <a:lnTo>
                  <a:pt x="5342708" y="2830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lementy państwa opiekuńczego w polskich real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3"/>
          <p:cNvSpPr/>
          <p:nvPr/>
        </p:nvSpPr>
        <p:spPr>
          <a:xfrm>
            <a:off x="395280" y="1844640"/>
            <a:ext cx="835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socjalne obywateli są opisane w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nstytucji RP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artykułach od 65 do 76 oraz w nawiązujących do ni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stawa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znajdujemy zobowiązania państwa m.in. dotyczą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walcz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roboc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warantowania obywatelowi płacy minimalnej, dni wolnych od pracy, płatnego urlop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obywatelow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bezpieczenia społecznego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ytuacji, gdy ten stracił pracę nie ze swojej winy albo nie może pracować z powodu choroby czy inwalidztw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równego dostępu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i zdrowot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finansowanej ze środków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płatnej nau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zkołach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ciwdział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domnośc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wspierania rozwoju budownictwa socjalneg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czególn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hrony praw dziecka, matek, rodzin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zwłaszcza wielodzietnych i niepełnych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3"/>
          <p:cNvSpPr/>
          <p:nvPr/>
        </p:nvSpPr>
        <p:spPr>
          <a:xfrm>
            <a:off x="179280" y="981000"/>
            <a:ext cx="87854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Jodkowska L., Państwo opiekuńcze w Polsce i w Niemczech, Wydawnictwo Difin, Warszawa 2009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Kapiszewski J., Ile kosztuje państwo opiekuńcze  - rozmowa z prof. Joakimem Palmem, wywiad na stronie tygodnika Przegląd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rzeglad-tygodnik.pl/pl/artykul/ile-kosztuje-panstwo-opiekuncze-rozmowa-prof-joakimem-palmem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Lieder W., Szwedzki model państwa opiekuńczego, artykuł na portalu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owapolitologia.pl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owapolitologia.pl/politologia/systemy-polityczne/szwedzki-model-panstwa-opiekunczego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ytka R., Globalizacja – sprawiedliwość społeczna – efektywność ekonomiczna. Francuskie dylematy, Wydawnictwo Uniwersytetu Śląskiego, Katowice 2008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innicka E., Szwecja to Szwecja, Polska to Polska - wywiad z Maciejem Zarembą-Bielawskim na stronie tygodnia Polityka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olityka.pl/spoleczenstwo/artykuly/1517622,1,rozmowa-maciejem-zaremba-bielawskim.read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awadzki S., Państwo o orientacji społecznej: geneza - doświadczenia - perspektywy, Scholar, Warszawa 199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Ministerstwa Pracy i Polityki Społecznej, www.mpips.gov.p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 www.ngo.p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3"/>
          <p:cNvSpPr/>
          <p:nvPr/>
        </p:nvSpPr>
        <p:spPr>
          <a:xfrm>
            <a:off x="468360" y="1413000"/>
            <a:ext cx="8207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Grafiki: parasol 1, parasol 2, parasol 3, parasol 4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rys. Agnieszka Żak-Biełowa , źródło: Przewodnik po dobrych pomysłach, wyd. Stowarzyszenie Dziennikarzy i Dokumentalistów Koncentrat, Warszawa 2009; grafiki udostępnione dzięki uprzejmości wydawcy, wyłącznie na użytek niniejszej prezentacj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Flaga Niemiec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commons.wikimedia.org/wiki/File:Flag_of_Germany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Flaga Fran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France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Flaga Szwe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Sweden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557360"/>
            <a:ext cx="835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państwa opiekuńczego i jego geneza (nazwa, założenia, cel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py i przykłady współczesnych państw opiekuńcz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sady działania państwa opiekuńczego na przykładzie Szwecji, Francji i Niemie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gumenty przeciw welfare state (ocena zdolności przetrwania systemów opiekuńczych w czasach kryzysu i prosperit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la III sektora w świadczeniu usług społ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ementy państwa opiekuńczego w polskich realia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piekuńczość, dobrobyt czy bezpieczeństwo socjal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3"/>
          <p:cNvSpPr/>
          <p:nvPr/>
        </p:nvSpPr>
        <p:spPr>
          <a:xfrm>
            <a:off x="179280" y="1989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mówimy najczęściej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opiekuńczym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dobrobytu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le funkcjonują też określenia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pomocy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o orientacji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bezpieczeństwa socjalnego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5" descr="pan2.jpg"/>
          <p:cNvPicPr/>
          <p:nvPr/>
        </p:nvPicPr>
        <p:blipFill>
          <a:blip r:embed="rId1"/>
          <a:stretch/>
        </p:blipFill>
        <p:spPr>
          <a:xfrm>
            <a:off x="6443640" y="3357720"/>
            <a:ext cx="2700360" cy="30794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179280" y="3716280"/>
            <a:ext cx="6408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nione nazwy nawiązują 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giel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elfare stat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„państwo dobrobytu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ancu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État-providenc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opatrznościow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miec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ozialstaa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socjaln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aństwo opiekuń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2700360" y="134136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ą jest założenie, ż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nie może ignorować problemów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np. biedy czy bezrobocia) i ma podejmować działania zabezpieczające obywateli przed negatywnymi skutkami funkcjonowania wolnego rynk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4" descr="pan3.jpg"/>
          <p:cNvPicPr/>
          <p:nvPr/>
        </p:nvPicPr>
        <p:blipFill>
          <a:blip r:embed="rId1"/>
          <a:stretch/>
        </p:blipFill>
        <p:spPr>
          <a:xfrm>
            <a:off x="324000" y="1484280"/>
            <a:ext cx="2124000" cy="20970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39640" y="414972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bierze na siebie prawa socjalne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nieważ oni sami (ani ich rodziny, sąsiedzi czy gmina) nie są w stanie zaspokoić swoich potrzeb i potrzebna jest im pomoc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ele kapitalistycznego państwa dobrobyt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468360" y="1916280"/>
            <a:ext cx="8136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gwarantowanie jednostkom i rodzinom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nimum docho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 względu na rynkową wartość ich własnośc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niejszenie niepew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umożliwienie jednostkom i rodzinom pokonywania takich przeszkód jak, choroba, starość, bezrobocie, które mogłoby prowadzić do kryz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ewnienie wszystkim obywatelom, bez względu na ich status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jlepszych standardów życ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ough I., Welfare State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zy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y welfare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395280" y="1197000"/>
            <a:ext cx="84978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liberalne (np. USA, Kanada, Australia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omoc socjalna jest niewielka i skierowana tylko do najuboższych;  osoby, które z niej korzystają są postrzegane jako „nieudacznicy”, którzy nie radzą sobie z wyzwaniami uznawanymi za „normalne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erwatywne (np. Niemcy, Austria, Francja, Włochy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ychodzi z założenia, że rodzina, gmina czy parafia nie są w stanie sprostać niektórym zadaniom, np. opiece nad dzieckiem, gdy matka postanawia podjąć pracę; państwo jest więc instytucją pomocnicz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jaldemokratyczne (np. kraje skandynawskie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bierze na siebie zapewnienie wyższych standardów i wspiera nie tylko najuboższych, ale też klasę średnią; państwo bierze też na siebie odpowiedzialność za dzieci, ludzi starych, biednych, bezbronnych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sping-Andersen G., The Three Worlds of Welfare Capitalism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m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3"/>
          <p:cNvSpPr/>
          <p:nvPr/>
        </p:nvSpPr>
        <p:spPr>
          <a:xfrm>
            <a:off x="324000" y="155736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uż kancler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tto von Bismarck prowadził aktywną politykę społeczną (k. XIX w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cnie system obejmuj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bezpieczen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horobowe, emerytalne, wypadkowe, pielęgnacyjne i ubezpieczenie na wypadek bezrobocia; z podatków finansowane są tak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dla bezrobotnych, zasiłki rodzicielskie i rodzin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st w dużej mierze prywatna i droga, ale powszechnie dostępna dzięki ubezpieczeniom chorobowym i kasom chorych, które refundują koszty lecz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rodzin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jmuje płatny urlop macierzyński i pieniądze na wyprawkę dla dziecka (odpowiednik „becikowego”); jeśli rodzic przerywa pracę, by opiekować się dzieckiem, otrzymuje przez rok zasiłek rodzicielski w wysokości 67 proc. ostatniego wynagrodze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dla bezrobotnych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wysokości 60 albo 67 proc. wynagrodzenia są wypłacane przez okres od 6 do nawet 32 miesięcy – jest to zależne od stażu pracy i wieku bezrobotn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3" descr="Flag_of_Germany.svg.png"/>
          <p:cNvPicPr/>
          <p:nvPr/>
        </p:nvPicPr>
        <p:blipFill>
          <a:blip r:embed="rId1"/>
          <a:stretch/>
        </p:blipFill>
        <p:spPr>
          <a:xfrm>
            <a:off x="7236000" y="260280"/>
            <a:ext cx="1620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3"/>
          <p:cNvSpPr/>
          <p:nvPr/>
        </p:nvSpPr>
        <p:spPr>
          <a:xfrm>
            <a:off x="250920" y="1628640"/>
            <a:ext cx="8642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ystem pomocy społecznej opart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adzie subsydiarn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edług niej państwo nie powinno zajmować się tym, co jednostka może osiągnąć sama dzięki własnej inicjatywi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wiadczenia socjalne nie przysługują obywatelowi w sposób automatycz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gdy chce on uzyskać pomoc i spełnia jasno określone przez państwo kryteria, powinien zwrócić się do ośrodka pomocy, który sprawdza jego dochody i majątek, by ocenić właściwie jego potrzeby i możliwość ich samodzielnego zaspokoj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społeczna obejmuje wszystkich obywatel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zarówno pracownicy, jak i pracodawcy płacą obowiązkowe składki ubezpieczeniowe (funkcjonuje kasa ubezpieczenia zdrowotnego, kasa zasiłków rodzinnych i kasa zabezpieczenia na starość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systemu emerytalnego minimalne świadczenie mają zapewnione wszystkie osoby, które ukończyły 65 la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4" descr="Flag_of_France.svg.png"/>
          <p:cNvPicPr/>
          <p:nvPr/>
        </p:nvPicPr>
        <p:blipFill>
          <a:blip r:embed="rId1"/>
          <a:stretch/>
        </p:blipFill>
        <p:spPr>
          <a:xfrm>
            <a:off x="7380360" y="260280"/>
            <a:ext cx="14810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zwe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324000" y="1413000"/>
            <a:ext cx="84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aństwo przeznacza obecnie na cele społe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7 proc. swojego PKB – najwięcej ze wszystkich krajów na świe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i emerytur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finansowane z podatków, a nie z dodatkowych ubezpieczeń społe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e Szwecji mogą liczyć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wszech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rodzin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datki mieszkaniow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wysokości niemal całego miesięcznego czynszu)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ę lekarską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habilitację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dodatki ułatwiające zmianę zamieszkania w związku z pracą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śli ktoś nie może uzyskiwać dochodów z pracy, np. z powodu choroby, otrzymuje rentę albo emeryturę dodatkową, rentę albo emeryturę zawodową, zasiłek chorobowy albo zasiłek dla bezrobotnych (tak, by świadczenie było zbliżone wysokością do utraconych dochodów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rdzo prężnie dział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wiązki zawod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do których należy 80 proc. pracujących – rygorystycznie pilnują praw pracowniczych i analizują wywiązywanie się pracodawców z zapisów zawartych w umowach o pracę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4" descr="Flag_of_Sweden.svg.png"/>
          <p:cNvPicPr/>
          <p:nvPr/>
        </p:nvPicPr>
        <p:blipFill>
          <a:blip r:embed="rId1"/>
          <a:stretch/>
        </p:blipFill>
        <p:spPr>
          <a:xfrm>
            <a:off x="7308720" y="260280"/>
            <a:ext cx="1544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5-12T17:40:16Z</dcterms:modified>
  <cp:revision>449</cp:revision>
  <dc:subject/>
  <dc:title>Slajd 1</dc:title>
</cp:coreProperties>
</file>