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20EC-EF59-4DD9-9D04-5DFF103AFF7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6CDF-9CDE-4ED3-9C2F-50B199E868B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A4AB-A2E3-4AB1-9EB9-EA96DE52931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C3E4-8224-4FE9-BE48-AA9653C835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437-B43F-4122-A402-51F82C42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BBF-BB74-4F62-836C-CBBC618F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1E4-56DC-4B69-956D-72695D04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14B-B567-459A-BBDF-50CF096E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82C0-BB8B-44FB-811C-AE9A91C8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BE62-EA3B-41BD-8E0F-9D027248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2FA4-B374-4439-B800-640D082A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E8E2-BE37-440E-AC99-DDE556B0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E5C2-2955-4F3A-91D7-E27B90CF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E633-ABCC-4C8C-876E-2A034265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7106-4107-4A4C-B5C6-55179E9B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315-1B27-4889-815A-5EBC4FB5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9B22-064C-4F6B-ABC8-6DA88E2C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F871-7E95-47DB-A5AA-4928F979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45ED-E749-42DB-9F6E-4655FBF7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4548-E4CF-4B76-B692-D479929D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9BEA-775D-4B13-BEAD-19427F60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C85-41C0-4AB6-965D-8F66272B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961-E0A9-4CD1-B6DA-9E1AAB99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57F-D4BA-4CE5-9355-BA830586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2E8D-2F15-48B0-8079-E0504E04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2FF-E73B-4469-8063-F44F14B5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D7C-D356-4088-A5AC-BB81CA08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477-79B9-477E-96D7-3F31E974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3EB5-ECFC-4220-94E6-BDA245A5F1F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336D-F3CE-47D6-B166-99EB92C6912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odtytuł 2"/>
          <p:cNvSpPr/>
          <p:nvPr/>
        </p:nvSpPr>
        <p:spPr>
          <a:xfrm>
            <a:off x="1522440" y="4184640"/>
            <a:ext cx="612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ytuł 1"/>
          <p:cNvSpPr/>
          <p:nvPr/>
        </p:nvSpPr>
        <p:spPr>
          <a:xfrm>
            <a:off x="22320" y="1773360"/>
            <a:ext cx="91216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Społeczeństwo polskie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obec okupantów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 okresie II wojny światowej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012-05-24-822"/>
          <p:cNvPicPr/>
          <p:nvPr/>
        </p:nvPicPr>
        <p:blipFill>
          <a:blip r:embed="rId1"/>
          <a:stretch/>
        </p:blipFill>
        <p:spPr>
          <a:xfrm>
            <a:off x="920880" y="620640"/>
            <a:ext cx="4135320" cy="5472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364000" y="1268280"/>
            <a:ext cx="3384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formacja o przekazaniu 2 milionów marek niemieckich na rozbudowę obozu koncentracyjnego  Auschwit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Archiwum PMA-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755640" y="692280"/>
            <a:ext cx="748836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padek militarny Polski w 1939 roku </a:t>
            </a:r>
            <a:r>
              <a:rPr b="0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artyzantka powrześniowa np. oddział Majora Henryka Dobrzańskiego (pseudonim Hubal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legalna emigracja do Francji w celu dołączenia do oddziałów formowanych przez Polski Rząd Emigracyjny generała Władysława Sikors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468360" y="333360"/>
            <a:ext cx="820728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ksploatacja ekonomiczna kraju i społeczeństwa. Przymus pracy, obowiązkowe kontyngenty dostaw płodów rolnych dla rolników     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botaż w miejscach pra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pagowanie stylu pracy powolnego, niedbałego przynoszącego straty okupant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krywanie części plonów, hodowli zwierzą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legalne młyny, rzeźnie, przemyt,hand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renaż sił roboczych poprzez wywózki do pracy w Niemczech (praca w rolnictwie lub przemyśle) 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kcje propagandowe nawołujące do unikania wyjaz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nikanie stawiennictwa na punkty zbor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Bundesarchiv_Bild_101I_270_0298_07__Polen__Ghetto_Warschau__Mauer_jpg-seo"/>
          <p:cNvPicPr/>
          <p:nvPr/>
        </p:nvPicPr>
        <p:blipFill>
          <a:blip r:embed="rId1"/>
          <a:stretch/>
        </p:blipFill>
        <p:spPr>
          <a:xfrm>
            <a:off x="539640" y="476280"/>
            <a:ext cx="8002800" cy="4635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179280" y="5376960"/>
            <a:ext cx="89647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ur graniczny oddzielający Polaków i Żydów w gettcie warszawsk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:Bundesarchiv_Bild_101I-270-0298-07,_Polen,_Ghetto_Warschau,_Maue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68360" y="62064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szczenie edukacji, ograniczenie edukacji powszechnej, likwidacja szkolnictwa średniego i wyższego, aresztowania wśród nauczycieli 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ajne nauczanie w zakresie przedmiotów zakazanych przez okupanta (np. historia) prowadzone przez nauczyciel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rywatnych mieszkaniach (tzw. komplet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zkolnictwo średnie i wyższe mające na celu umożliwienie dalszej edukacji dla maturzystów i studentó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óba zapobiegania demoralizacji i patologii wśród młodzież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95280" y="76500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cisk ideologiczny oraz niszczenie kultury polskiej poprzez system prasy polskojęzycznej cenzurowanej przez okupanta, skrajne ograniczenie dostępu do informacji radiowej, plakaty propagandowe, niskiej wartości sztuki teatralne oraz produkcje filmowe  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dukcja i kolportaż prasy konspiracyj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kcje ulotkowe oraz malowanie znaków działalności konspiracyjnej na mur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spiracyjne koncerty oraz przedstawienia teatral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539640" y="6922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śladowanie i eksterminacja ludności żydowskiej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krywanie pod groźbą śmierci Żydów zbiegłych z gett lub transportów do obozów śmier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raźna pomoc w postaci pożywienia, lekarstw, jednorazowego nocleg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organizowana akcja pomocy – Rada Pomocy Żydom „Żegota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dobywanie informacji na temat eksterminacji Żyd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rzekazanie ich na Zachó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95280" y="750960"/>
            <a:ext cx="806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egatywne postawy części społeczeństw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klaracja niemieckiej narodowości niepodyktowana groźbą deportacji z terenów III Rzeszy bądź innymi formami repres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półpraca z okupantami. Przekazywanie informacji na temat przedwojennych działaczy politycz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dział w siatce donosicieli organizowanych przez Gestapo oraz NKWD mających na celu przeciwdziałanie sabotowaniu zarządzeń okupantów oraz wspomagających ich walkę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podziemiem niepodległościow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moc w tropieniu ukrywających się poza gettami Żydów lub szantażowanie w celu zagarnięcia ich kosztowności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olskaWalcz_ca"/>
          <p:cNvPicPr/>
          <p:nvPr/>
        </p:nvPicPr>
        <p:blipFill>
          <a:blip r:embed="rId1"/>
          <a:stretch/>
        </p:blipFill>
        <p:spPr>
          <a:xfrm>
            <a:off x="971640" y="628560"/>
            <a:ext cx="3409920" cy="5113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5219640" y="1108080"/>
            <a:ext cx="3097440" cy="33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ymbol Polski Walczącej malowany na murach głównie przez harcerzy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 tzw. Szarych Szereg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osztuce.blogspot.com/2010/08/historia-pewnego-znaku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95280" y="333360"/>
            <a:ext cx="835344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error, egzekucje, łapanki, wysyłki do obozów koncentracyjnych, akcje pacyfikacyjne wsi  </a:t>
            </a:r>
            <a:r>
              <a:rPr b="0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powstanie zbrojnych organizacji podziemnyc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P (Służba Zwycięstwu Polski) od września 1939 do listopada 1939 przemianowana następnie w ZWZ  (Związek Walki Zbrojnej), w lutym 1942 w AK (Armię Krajową). Oddziały te były podporządkowane Polskiemu Rządowi Emigracyjne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Ch (Bataliony Chłopskie) istniały od połowy 1940 roku. Ich zadaniem była obrona mieszkańców wsi. Współpracowały z A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L (Gwardia Ludowa) istniała od marca 1942 od początku 1944 roku przekształcone w AL (Armię Ludową). Oddziały były podporządkowane ZSR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L WRN (Gwardia Ludowa – Wolność Równość Niezawisłość). Oddziały współpracowały z A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SZ (Narodowe Siły Zbrojn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ŻOB i ŻOW (Żydowska Organizacja Bojowa i Żydowska Organizacja Wojskow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is treśc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684360" y="1341360"/>
            <a:ext cx="81356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Skutki agresji III Rzeszy i Związku Radzieckiego na Polskę we wrześniu 1939 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neksja ziem podbitych przez III Rzeszę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nekscja ziem podbitych przez Związek Radzieck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rześladowania Polaków na terenach anektowanych przez III Rzeszę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rześladowania Polaków na terenach anektowanych przez ZSR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kcje eksterminacyjne podejmowane przez III Rzeszę i ZSRR wobec obywateli polskich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ostawy społeczne wobec okupantów (akcja – reakcja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Główne zadania organizacji bojowych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odziemne Państwo Polsk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Zasadnicze nurty postaw wśród społeczeństwa polskiego po zakończeniu II wojny światowej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Główne skutki II wojny światowej dla społeczeństwa polskieg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554040" y="692280"/>
            <a:ext cx="8339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zadania organizacji boj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ałania partyzanckie skierowane przeciwko samowoli okupan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abotaż polegający na niszczeniu systemów komunikacji, dezorganizacji szlaków kolejowych it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ywers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walnianie więźni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kcje odwetowe wobec wysokich dowódców SS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Gestap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ałania wywiadowcze i propagand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lakat Obwieszczenie"/>
          <p:cNvPicPr/>
          <p:nvPr/>
        </p:nvPicPr>
        <p:blipFill>
          <a:blip r:embed="rId1"/>
          <a:stretch/>
        </p:blipFill>
        <p:spPr>
          <a:xfrm>
            <a:off x="826920" y="549360"/>
            <a:ext cx="4248360" cy="5705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5537160" y="1628640"/>
            <a:ext cx="28512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bwieszczenie władz hitlerowskich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 wykonaniu egzekucji jako odwet za akcje organizacji podziem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 : Główna Komisja  Badania  Zbrodni Hitlerowskich w Polsce (zbiory autor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611280" y="404640"/>
            <a:ext cx="8281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omimo okupacji na okupowanych terenach funkcjonowało tzw. 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Polskie Państwo Podziemn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owstało ona na bazie ZWZ – AK obejmowało dwa pion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odległy one prezydentow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ojskowy podległy Naczelnemu Wodzowi zarządzany przez Dowódcę AK oraz Kierownictwo Walki Podziemnej składał się m.in.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 następujących komórek organizacyjnyc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ywersj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Łącznośc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Kwatermistrzows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Operacyjny i in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Cywilny podległy premierowi Rządu Emigracyjnego. Składał się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 komórek organizacyjnych typowych dla funkcjonowania organizmu państwowego czyli: skarbu, spraw wewnętrznych, oświaty, sprawiedliwości, komunikacji it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611280" y="549360"/>
            <a:ext cx="81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ziałalność Polskiego Państwa Podziemnego podzielone było na obszary administracyj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zar I Mazows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zar II Białyst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zar III Lw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zar IV Zachó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az samodzielne okręgi: Warszawa-miasto, Kielce-Radom, Łódź, Kraków, Śląsk, Lublin, Woły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611280" y="47628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jwybitniejszymi przywódcami Polskiego Państwa Podziemnego byl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Michał Tokarzewski-Karaszewicz pierwszy dowódca SZ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Kazimierz Sosnkowski – Komendant ZW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Stefan Rowecki pseudonim „Grot” – Komendant AK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Tadeusz Komorowski pseudonim „Bór” – Komendant 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Leopold Okulicki pseudonim „Niedźwiadek”– Komendant 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539640" y="4762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sadnicze nurty postaw wśród społeczeństwa polskiego po zakończeniu II wojny światowej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tawa negacji dla władzy utworzonej przez ośrodki polityczne wspierane przez władze ZSR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ierna (krytyka i nieufność wobec ośrodków władzy tymczasowej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ktywna (kontynuacja działań konspiracyjnyc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tawa wyczekiwania (oczekiwanie rozstrzygnięć politycznych wynikająca z umów mocarstw w sprawie Polsk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tawa akceptująca lub wspierająca ośrodki władzy, powstające w oparciu o rząd PKWN mający poparcie Józefa Stal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611280" y="442800"/>
            <a:ext cx="81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łówne skutki II wojny światowej dla społeczeństwa polskieg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ysokie straty biologiczne (polegli w skutek działań wojennych, represji okupantów, w skutek ciężkich warunków bytowych, duża ilość inwalidów, rekonwalescentów i sierot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uże straty w zasobach kulturalno-naukowych (śmierć wybitnych uczonych, inteligencji, dewastacja wyższych uczelni, archiwum, bibli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miany terytorialne skutkujące przesunięciem granic (utrata własności prywatnej, straty kulturaln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niszczenie infrastruktury w skutek działań wojennych (zniszczone lub uszkodzone szlaki komunikacyjne, łączności, elektryczne itd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rastyczne przemiany polityczne oraz w zakresie własności prywatnej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1"/>
          <p:cNvSpPr/>
          <p:nvPr/>
        </p:nvSpPr>
        <p:spPr>
          <a:xfrm>
            <a:off x="826920" y="1268280"/>
            <a:ext cx="756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esław Brzoza - Polska w czasach niepodległości i drugiej wojny światow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1918-1945), Kraków 200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cek Chrobaczyński – Dramatyczny rok 1943, Rzeszów Kraków 201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dam Cyra, Wiesław J. Wysocki, Rotmistrz Witold Pilecki, Warszawa 199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eportacje i przemieszczenia ludności polskiej w głąb ZSRR 1939 – 1945. Przegląd piśmiennictwa – Warszawa 198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rbara Engelking, Jolanta Żyndul, Feliks Tych, Andrzej Żbikowski – Historia Żydów Polskich przed, w czasie, i po Zagładzie – Warszawa 20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rzy Kobryń - Wspomnienia Sybiraków, Bystrzyca Kłodzka 20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erman Langbein – Ludzie w Auschwitz, Oświęcim 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esław Madajczyk - Polityka III Rzeszy w okupowanej Polsce, Warszawa 19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rek Ney-Krwawicz - Dowódcy Armii Krajowej, RYTM 200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rek Ney-Krwawicz  - Armia Krajowa. Szkic historyczny, Warszawa 199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omasz Szarota - Okupowanej Warszawy dzień powszedni, Warszawa 201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lie Wiesel – Noc, Oświęcim 200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611280" y="549360"/>
            <a:ext cx="7921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Skutki agresji III Rzeszy i Związku Radzieckiego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na Polskę we wrześniu 1939 ro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Utrata dotychczasowej podmiotowości państwowej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i politycz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Zniszczenia infrastruktury przemysłowej, transportowej, energetycznej, wodociągow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Straty biologiczne w wyniku działań wojennych, akcji odwetowych, działalności plutonów egzekucyjnych i sądów specjalnych wyznaczonych do eliminacji warstw przywódczych państwa pol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Na mocy tajnego protokołu paktu Ribbentrop – Mołotow zawartego 23.08.1939 roku terytorium Polski zostało podzielone pomiędzy dwa obce organizmy państwo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395280" y="549360"/>
            <a:ext cx="82090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neksja ziem podbitych przez III Rzesz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ączenie do Niemiec terenów Górnego Śląska, Wielkopolski, Pomorza Gdańskiego (przedwojenne województwa: śląskie, łódzkie, poznańskie, pomorskie, a także część województw mazowieckiego, kieleckiego oraz część terenów Suwalszczyzny). Ogółem około 94 tys. km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mieszkały przez 10 milionów ludz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tworzenie na pozostałych ziemiach podbitych organu administracyjno-terytorialnego o nazwie Generalne Gubernatorstwo z siedzibą w Krakowie. Był on bezpośrednio podległy zwierzchności III Rzeszy oraz obsadzony przez niemieckich urzędni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539640" y="333360"/>
            <a:ext cx="820908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neksja ziem podbitych przez Związek Radziec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kroczenie na wschodnie tereny Polski Armii Czerwonej 17.01.1939 ro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ział zajętych ziem na Zachodnią Białoruś (obejmowała dawne polskie województwa : białostockie, nowogródzkie, poleskie, wileńskie oraz część warszawskiego) oraz Zachodnią Ukrainę (obejmowała dawne polskie województwa: tarnopolskiego, stanisławowskiego, wołyńskiego, wschodnia część lwowskieg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aździerniku 1939 roku zorganizowano na anektowanych terytoriach wybory. Były one zaprzeczeniem demokratycznych reguł wyborczych. W ich wyniku utworzono Zgromadzenie Ludowe na Białorusi oraz Zgromadzenie Narodowe Zachodniej Ukrainy. Obydwie Rady przyjęły uchwały o przyłączeniu tych terenów do ZSR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705px-28_Nazi_Germany_1940"/>
          <p:cNvPicPr/>
          <p:nvPr/>
        </p:nvPicPr>
        <p:blipFill>
          <a:blip r:embed="rId1"/>
          <a:stretch/>
        </p:blipFill>
        <p:spPr>
          <a:xfrm>
            <a:off x="468360" y="620640"/>
            <a:ext cx="6480000" cy="5504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7199280" y="1844640"/>
            <a:ext cx="194472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apa obrazująca podział terytoriów Polski pomiędzy III Rzeszę i ZSR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:28_Nazi_Germany_1940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468360" y="549360"/>
            <a:ext cx="8136000" cy="55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ześladowania Polaków na terenach anektowanych przez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I Rzeszę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ikwidacja wszelkich symboli państwa polskie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prowadzenie szczególnych obostrzeń wobec Polaków znajdujących się na terytorium Rzeszy (zakaz posiadania pojazdów mechanicznych, radioodbiorników, ograniczenie swobody przemieszczania się, ograniczenia w dostępie do miejsc publicznych, praktycznie całkowita likwidacja edukacji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śladowania ekonomiczne, ograniczenia w zakresie wykonywania usług, rugowanie z miejsc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kwirowanie mieszkań, domów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prowadzenie specjalnych przepisów sankcjonujących drakońskie kary za najdrobniejsze uchybien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prowadzenie masowych wysiedleń ludności polskiej (w tym także Żydów) do Generalnego Gubernatorst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cisk wobec części społeczeństwa prowadzący do zadeklarowania przez nią narodowości niemieckiej – tzw. podpisanie Volkslis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468360" y="476280"/>
            <a:ext cx="806436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eśladowania Polaków na terenach anektowanych przez ZSR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Likwidacja wszelkich symboli państwa pols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śladowania kościoła i księż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właszczenia i deportacje Polaków (także Żydów obywateli polskich przed 1939 rokiem) w głąb ZSRR. Transporty kierowano do Kazachstanu lub w rejony dalekowschodnie. Ciężkie warunki transportu oraz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miejscu deportacji przyczyniły się do bardzo dużej śmiertelnośc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684360" y="333360"/>
            <a:ext cx="813564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kcje eksterminacyjne podejmowane przez III Rzeszę i ZSRR wobec obywateli polski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więzienie i likwidacja na mocy tajnych instrukcji Gestapo (Geheime Staatspolizei - Tajna Policja Państwowa) i NKWD (Ludowy Komisariat Spraw Wewnętrznych)  warstw przywódczych społeczeństwa polskiego: działaczy politycznych, społecznych, księży, naukowców, nauczycie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sadzenie w/w w obozach koncentracyjnych na terenie III Rzeszy lub tzw. łagrach na terenie ZSR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nad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terenach okupowanych przez Niemcy represje wobec ludności żydowskiej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rowadzenie oznakowania w postaci opasek, naszywek itp., wyznaczenie specjalnych zamkniętych obszarów mieszkalnych tzw. get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terenach okupowanych przez ZSRR eksterminacja polskich oficerów (także policjantów, leśników, celników itd.) wziętych do niewoli w 1939 ro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Andrzej</cp:lastModifiedBy>
  <dcterms:modified xsi:type="dcterms:W3CDTF">2013-08-31T17:04:23Z</dcterms:modified>
  <cp:revision>30</cp:revision>
  <dc:subject>szablon prezentacji KPW</dc:subject>
  <dc:title>Zrównoważony rozwój</dc:title>
</cp:coreProperties>
</file>