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6E05-04CD-47E1-8A0D-8C06EE6FED7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1958-0C28-4E73-AA74-3BF4799D1FB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C1A6-B0EF-4F3A-BBEF-C3946CA727E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5B6F-8C93-4F08-90AD-27935E4B225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E402-C921-4B57-9D49-F9C5761F43F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4A26-B8D2-4FDE-835D-647EE242197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F34B-9DD4-4192-83DB-5360FB489CD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CA03-067E-46D4-AD24-985F977D37F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0230-8D7F-4BC9-AEC5-88B4E6A96BC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0F70-8FBA-48EF-84AE-A51A5B911F9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1C6E-24CC-4383-B939-EA5F99300F3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201F-9C7B-4F95-B3D6-C9107A0C985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A2F5-BACA-4277-AC42-10C4FF973DC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1B48-5EA5-455F-A011-60824B2EB09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11AC-DADD-4A0C-A71C-FF84AA9DD1D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A11F-08CE-4FC6-94E4-626397CAE52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7640-BDBA-4F25-8038-F739D64B954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A232-1A1D-460A-BBDE-1ED0D24EDF5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EF27-0EAE-40B2-8AA3-6A955D2D6C3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D300-B194-4CD2-B32D-BD5C90C36DD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B2F7-2F3E-4A3A-8413-F7E109E9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F9B3-1C14-4221-9D0F-F165887D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2226-AB7C-4356-BE41-9C8AA328F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8349-788A-44B6-A493-C7AFAC51C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DCB5-3AB4-4A80-BED6-793444FA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5DC2-CC5B-48E9-A860-6DE8C1D8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EE03-1BB8-4360-A6C4-23484D78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D8D8-D213-433C-ABA4-C73EFA96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0018-97AD-4A19-8F19-7723084D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3895-FD56-448E-9CD3-8AA83C12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4ADF-8F43-47FE-BD98-D3AF1837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CD17-5F2E-4E1B-901B-8662B60D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3B62-824A-4D8D-822B-C3C352E8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8B10-F249-4914-A9CD-EA243CD1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BD8A-9790-4D22-880E-DF2E564D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8C28-B241-4425-9489-B3DA11EF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D2A9-2743-4BD7-87E0-5DD8459BF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A40A-1066-4BBA-B47D-969BC6FD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93FF-2910-43FB-84D8-9713F2E7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9EFF-10A4-4A8E-A826-AA46B511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5500-7992-4998-8986-352BFBC5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02A6-81CE-484C-B66E-E926C1E4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3418-6789-41A9-BB6D-18F733E1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1C2A-3E6A-4E8A-9F64-883DBC30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AC75-AE66-43CF-B3FB-CDEC97268BCD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F021-1D7B-42ED-A022-F731CA801409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uzeum.archidiecezja.wroc.pl/" TargetMode="External"/><Relationship Id="rId2" Type="http://schemas.openxmlformats.org/officeDocument/2006/relationships/hyperlink" Target="http://www.katedra.archidiecezja.wroc.pl/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upload.wikimedia.org/wikipedia/commons/2/22/Poland_Wroclaw_Cathedral_2007.jpg" TargetMode="Externa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pl.wikipedia.org/wiki/Plik:Ratusz_wroclaw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ewaloryzacja.com/pracownia/projekty/bedzin_koncepcja/prezentacja.htm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zamkipolskie.com/olsz/olsz.html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wawel.krakow.pl/pl/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gfx.mmka.pl/newsph/338316/525668.3.jpg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odziemiarynku.com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n.wroclaw.pl/przewodnik/sredniowieczeRzezbaKamienna.pdf" TargetMode="External"/><Relationship Id="rId2" Type="http://schemas.openxmlformats.org/officeDocument/2006/relationships/hyperlink" Target="http://mn.wroclaw.pl/przewodnik/sredniowieczeSala2.pdf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Wirtualne zwiedzani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lternatywa-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rocław – Muzeum Narod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5"/>
          <p:cNvSpPr/>
          <p:nvPr/>
        </p:nvSpPr>
        <p:spPr>
          <a:xfrm>
            <a:off x="324000" y="1773360"/>
            <a:ext cx="82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arta pracy uczni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o możemy sądzić o kulturze Wrocławia, obserwując zabytki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laczego na Śląsku wyjątkowa była pozycja wrocławskiego biskup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akie znaczenie na ówczesnym Śląsku miała kultura niemiecka? Czy mogło być to przeszkodą w uzyskaniu tronu w Krakowi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im był Henryk IV Probu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ak wygląda sarkofag Henryka Probusa? Czy książę został przedstawiony jako władca, czy jako rycerz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o możemy powiedzieć o przedmiotach codziennego użytku zgromadzonych na wystawi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rocław – Muzeum Archidiecezjalne, Kated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rostokąt 2"/>
          <p:cNvSpPr/>
          <p:nvPr/>
        </p:nvSpPr>
        <p:spPr>
          <a:xfrm>
            <a:off x="1403280" y="1700280"/>
            <a:ext cx="449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uzeum.archidiecezja.wroc.pl/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http://www.katedra.archidiecezja.wroc.pl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rostokąt 6"/>
          <p:cNvSpPr/>
          <p:nvPr/>
        </p:nvSpPr>
        <p:spPr>
          <a:xfrm>
            <a:off x="2850840" y="256536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http://upload.wikimedia.org/wikipedia/commons/2/22/Poland_Wroclaw_Cathedral_2007.jpg"/>
          <p:cNvPicPr/>
          <p:nvPr/>
        </p:nvPicPr>
        <p:blipFill>
          <a:blip r:embed="rId3"/>
          <a:stretch/>
        </p:blipFill>
        <p:spPr>
          <a:xfrm>
            <a:off x="5724360" y="1628640"/>
            <a:ext cx="2948040" cy="4152960"/>
          </a:xfrm>
          <a:prstGeom prst="rect">
            <a:avLst/>
          </a:prstGeom>
          <a:ln w="0">
            <a:noFill/>
          </a:ln>
        </p:spPr>
      </p:pic>
      <p:sp>
        <p:nvSpPr>
          <p:cNvPr id="130" name="Prostokąt 9"/>
          <p:cNvSpPr/>
          <p:nvPr/>
        </p:nvSpPr>
        <p:spPr>
          <a:xfrm>
            <a:off x="1116000" y="3429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upload.wikimedia.org/wikipedia/commons/2/22/Poland_Wroclaw_Cathedral_2007.jp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rostokąt 10"/>
          <p:cNvSpPr/>
          <p:nvPr/>
        </p:nvSpPr>
        <p:spPr>
          <a:xfrm>
            <a:off x="3211200" y="458136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rocław – Ratus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rostokąt 9"/>
          <p:cNvSpPr/>
          <p:nvPr/>
        </p:nvSpPr>
        <p:spPr>
          <a:xfrm>
            <a:off x="179280" y="2060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l.wikipedia.org/wiki/Plik:Ratusz_wroclaw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rostokąt 10"/>
          <p:cNvSpPr/>
          <p:nvPr/>
        </p:nvSpPr>
        <p:spPr>
          <a:xfrm>
            <a:off x="402840" y="306864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Plik:Ratusz wroclaw.JPG"/>
          <p:cNvPicPr/>
          <p:nvPr/>
        </p:nvPicPr>
        <p:blipFill>
          <a:blip r:embed="rId2"/>
          <a:stretch/>
        </p:blipFill>
        <p:spPr>
          <a:xfrm>
            <a:off x="3348000" y="1773360"/>
            <a:ext cx="554040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rocław – Ratus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1"/>
          <p:cNvSpPr/>
          <p:nvPr/>
        </p:nvSpPr>
        <p:spPr>
          <a:xfrm>
            <a:off x="3942720" y="-69480"/>
            <a:ext cx="1258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arta pracy ucznia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ole tekstowe 7"/>
          <p:cNvSpPr/>
          <p:nvPr/>
        </p:nvSpPr>
        <p:spPr>
          <a:xfrm>
            <a:off x="684360" y="1773360"/>
            <a:ext cx="792000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arta pracy uczni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o możemy sądzić o kulturze Wrocławia, obserwując zabytk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kład urbanistyczny – czy miasto rozrastało się planowo, czy chaotyczni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ronność miasta – czy było obronne w sposób naturaln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nstytucje miejskie – gdzie były położo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8287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mki królew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rostokąt 10"/>
          <p:cNvSpPr/>
          <p:nvPr/>
        </p:nvSpPr>
        <p:spPr>
          <a:xfrm>
            <a:off x="6308280" y="558972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79280" y="4299120"/>
            <a:ext cx="864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zczegóły dotyczące zamku w Będzini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://www.miasto.org.pl/index.php?option=com_content&amp;task=view&amp;id=39&amp;Itemid=4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"/>
              </a:rPr>
              <a:t>http://rewaloryzacja.com/pracownia/projekty/bedzin_koncepcja/prezentacja.htm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6" descr="Image"/>
          <p:cNvPicPr/>
          <p:nvPr/>
        </p:nvPicPr>
        <p:blipFill>
          <a:blip r:embed="rId2"/>
          <a:stretch/>
        </p:blipFill>
        <p:spPr>
          <a:xfrm>
            <a:off x="2268360" y="1125360"/>
            <a:ext cx="428652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32000" y="836280"/>
            <a:ext cx="4211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mki królew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rostokąt 6"/>
          <p:cNvSpPr/>
          <p:nvPr/>
        </p:nvSpPr>
        <p:spPr>
          <a:xfrm>
            <a:off x="6659640" y="3645000"/>
            <a:ext cx="19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esmycki P. , 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Przewodnik po Krakowsko-Wieluńskim paśmie górskim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 Kielce 1908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C:\Documents and Settings\Grzes\Moje dokumenty\Downloads\orlegniazda przesmycki.jpg"/>
          <p:cNvPicPr/>
          <p:nvPr/>
        </p:nvPicPr>
        <p:blipFill>
          <a:blip r:embed="rId1"/>
          <a:stretch/>
        </p:blipFill>
        <p:spPr>
          <a:xfrm>
            <a:off x="395280" y="189000"/>
            <a:ext cx="4448160" cy="5800680"/>
          </a:xfrm>
          <a:prstGeom prst="rect">
            <a:avLst/>
          </a:prstGeom>
          <a:ln w="0">
            <a:noFill/>
          </a:ln>
        </p:spPr>
      </p:pic>
      <p:cxnSp>
        <p:nvCxnSpPr>
          <p:cNvPr id="146" name="Łącznik prosty ze strzałką 8"/>
          <p:cNvCxnSpPr/>
          <p:nvPr/>
        </p:nvCxnSpPr>
        <p:spPr>
          <a:xfrm>
            <a:off x="2268000" y="1773000"/>
            <a:ext cx="3744360" cy="648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Łącznik prosty ze strzałką 9"/>
          <p:cNvCxnSpPr/>
          <p:nvPr/>
        </p:nvCxnSpPr>
        <p:spPr>
          <a:xfrm>
            <a:off x="1332000" y="836640"/>
            <a:ext cx="6193440" cy="15134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8" name="pole tekstowe 11"/>
          <p:cNvSpPr/>
          <p:nvPr/>
        </p:nvSpPr>
        <p:spPr>
          <a:xfrm>
            <a:off x="7596360" y="2060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lszty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ole tekstowe 12"/>
          <p:cNvSpPr/>
          <p:nvPr/>
        </p:nvSpPr>
        <p:spPr>
          <a:xfrm>
            <a:off x="6084720" y="2349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iró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mki królew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rostokąt 10"/>
          <p:cNvSpPr/>
          <p:nvPr/>
        </p:nvSpPr>
        <p:spPr>
          <a:xfrm>
            <a:off x="6308280" y="558972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79280" y="4862880"/>
            <a:ext cx="86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zczegóły dotyczące zamku w Olsztyni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"/>
              </a:rPr>
              <a:t>http://www.zamkipolskie.com/olsz/olsz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khit.pttk.pl/index.php?co=tx_kkms_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C:\Documents and Settings\Grzes\Pulpit\nowaplyta\15_03_W9_Od_rozbicia_dzielnicowego\ilustracje1\IMG_7993.JPG"/>
          <p:cNvPicPr/>
          <p:nvPr/>
        </p:nvPicPr>
        <p:blipFill>
          <a:blip r:embed="rId2"/>
          <a:stretch/>
        </p:blipFill>
        <p:spPr>
          <a:xfrm>
            <a:off x="4788000" y="1341360"/>
            <a:ext cx="4138560" cy="2144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3"/>
          <a:stretch/>
        </p:blipFill>
        <p:spPr>
          <a:xfrm>
            <a:off x="250920" y="1341360"/>
            <a:ext cx="426060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mki królew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rostokąt 10"/>
          <p:cNvSpPr/>
          <p:nvPr/>
        </p:nvSpPr>
        <p:spPr>
          <a:xfrm>
            <a:off x="6308280" y="558972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79280" y="4496760"/>
            <a:ext cx="475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zczegóły dotyczące zamku w Mirowi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://www.zamkipolskie.com/mirow/mirow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khit.pttk.pl/index.php?co=tx_kkms_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5003640" y="1341360"/>
            <a:ext cx="378000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mki królew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rostokąt 10"/>
          <p:cNvSpPr/>
          <p:nvPr/>
        </p:nvSpPr>
        <p:spPr>
          <a:xfrm>
            <a:off x="6308280" y="558972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68360" y="2852280"/>
            <a:ext cx="356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zczegóły dotyczące zamku w Lanckoroni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://www.ciekawe-miejsca.net/przewodnik/polska/lanckorona_czas_zatrzyma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4284720" y="1484280"/>
            <a:ext cx="410364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597672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Wawel Zaginiony i Katedra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C:\Documents and Settings\Grzes\Pulpit\nowaplyta\15_03_W9_Od_rozbicia_dzielnicowego\ilustracje1\IMG_0914.JPG"/>
          <p:cNvPicPr/>
          <p:nvPr/>
        </p:nvPicPr>
        <p:blipFill>
          <a:blip r:embed="rId1"/>
          <a:stretch/>
        </p:blipFill>
        <p:spPr>
          <a:xfrm>
            <a:off x="611280" y="2276640"/>
            <a:ext cx="4319640" cy="3240000"/>
          </a:xfrm>
          <a:prstGeom prst="rect">
            <a:avLst/>
          </a:prstGeom>
          <a:ln w="0">
            <a:noFill/>
          </a:ln>
        </p:spPr>
      </p:pic>
      <p:sp>
        <p:nvSpPr>
          <p:cNvPr id="99" name="pole tekstowe 4"/>
          <p:cNvSpPr/>
          <p:nvPr/>
        </p:nvSpPr>
        <p:spPr>
          <a:xfrm>
            <a:off x="5076720" y="2133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akieta wzgórza Wawelskigo w XII 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odtytuł 2"/>
          <p:cNvSpPr/>
          <p:nvPr/>
        </p:nvSpPr>
        <p:spPr>
          <a:xfrm>
            <a:off x="250920" y="3789360"/>
            <a:ext cx="3456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Rotunda i fragmenty starej kamieniar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Documents and Settings\Grzes\Pulpit\nowaplyta\15_03_W9_Od_rozbicia_dzielnicowego\ilustracje1\IMG_0913.JPG"/>
          <p:cNvPicPr/>
          <p:nvPr/>
        </p:nvPicPr>
        <p:blipFill>
          <a:blip r:embed="rId1"/>
          <a:stretch/>
        </p:blipFill>
        <p:spPr>
          <a:xfrm>
            <a:off x="395280" y="404640"/>
            <a:ext cx="4511520" cy="338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Documents and Settings\Grzes\Pulpit\nowaplyta\15_03_W9_Od_rozbicia_dzielnicowego\ilustracje1\IMG_1445.JPG"/>
          <p:cNvPicPr/>
          <p:nvPr/>
        </p:nvPicPr>
        <p:blipFill>
          <a:blip r:embed="rId2"/>
          <a:stretch/>
        </p:blipFill>
        <p:spPr>
          <a:xfrm>
            <a:off x="3708360" y="2637000"/>
            <a:ext cx="4859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5219640" cy="187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Katedra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C:\Documents and Settings\Grzes\Pulpit\nowaplyta\15_03_W9_Od_rozbicia_dzielnicowego\ilustracje1\IMG_1431.JPG"/>
          <p:cNvPicPr/>
          <p:nvPr/>
        </p:nvPicPr>
        <p:blipFill>
          <a:blip r:embed="rId1"/>
          <a:stretch/>
        </p:blipFill>
        <p:spPr>
          <a:xfrm>
            <a:off x="2340000" y="1341360"/>
            <a:ext cx="3917880" cy="3240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900000" y="4585680"/>
            <a:ext cx="496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iały dodatkowe dostępne na stronach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://www.katedra-wawelska.pl/zarys_dziejow_katedry,32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/>
              </a:rPr>
              <a:t>http://www.wawel.krakow.p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6" descr="http://gfx.mmka.pl/newsph/338316/525668.3.jpg"/>
          <p:cNvPicPr/>
          <p:nvPr/>
        </p:nvPicPr>
        <p:blipFill>
          <a:blip r:embed="rId3"/>
          <a:stretch/>
        </p:blipFill>
        <p:spPr>
          <a:xfrm>
            <a:off x="6372360" y="1268280"/>
            <a:ext cx="2462040" cy="3517920"/>
          </a:xfrm>
          <a:prstGeom prst="rect">
            <a:avLst/>
          </a:prstGeom>
          <a:ln w="0">
            <a:noFill/>
          </a:ln>
        </p:spPr>
      </p:pic>
      <p:sp>
        <p:nvSpPr>
          <p:cNvPr id="107" name="pole tekstowe 5"/>
          <p:cNvSpPr/>
          <p:nvPr/>
        </p:nvSpPr>
        <p:spPr>
          <a:xfrm>
            <a:off x="6875640" y="4797360"/>
            <a:ext cx="201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gfx.mmka.pl/newsph/338316/525668.3.jp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dostęp 27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7" descr="C:\Documents and Settings\Grzes\Pulpit\nowaplyta\15_03_W9_Od_rozbicia_dzielnicowego\ilustracje1\IMG_1514.JPG"/>
          <p:cNvPicPr/>
          <p:nvPr/>
        </p:nvPicPr>
        <p:blipFill>
          <a:blip r:embed="rId5"/>
          <a:stretch/>
        </p:blipFill>
        <p:spPr>
          <a:xfrm>
            <a:off x="179280" y="1341360"/>
            <a:ext cx="20829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ościół św. Andrze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C:\Documents and Settings\Grzes\Pulpit\nowaplyta\15_03_W9_Od_rozbicia_dzielnicowego\ilustracje1\kosciol romanski.jpg"/>
          <p:cNvPicPr/>
          <p:nvPr/>
        </p:nvPicPr>
        <p:blipFill>
          <a:blip r:embed="rId1"/>
          <a:stretch/>
        </p:blipFill>
        <p:spPr>
          <a:xfrm>
            <a:off x="2627280" y="1413000"/>
            <a:ext cx="3457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9672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ynek, kościół św. Wojciech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C:\Documents and Settings\Grzes\Pulpit\nowaplyta\15_03_W9_Od_rozbicia_dzielnicowego\ilustracje1\HPIM1662.JPG"/>
          <p:cNvPicPr/>
          <p:nvPr/>
        </p:nvPicPr>
        <p:blipFill>
          <a:blip r:embed="rId1"/>
          <a:stretch/>
        </p:blipFill>
        <p:spPr>
          <a:xfrm>
            <a:off x="1547640" y="1341360"/>
            <a:ext cx="5732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ynek, podzie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rostokąt 4"/>
          <p:cNvSpPr/>
          <p:nvPr/>
        </p:nvSpPr>
        <p:spPr>
          <a:xfrm>
            <a:off x="1929240" y="3789360"/>
            <a:ext cx="51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odziemiarynku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ole tekstowe 5"/>
          <p:cNvSpPr/>
          <p:nvPr/>
        </p:nvSpPr>
        <p:spPr>
          <a:xfrm>
            <a:off x="1493640" y="2492280"/>
            <a:ext cx="607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zczegółowy plan i wirtualne zwiedzanie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ożna znaleźć pod adrese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rostokąt 6"/>
          <p:cNvSpPr/>
          <p:nvPr/>
        </p:nvSpPr>
        <p:spPr>
          <a:xfrm>
            <a:off x="3571560" y="458136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7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ury miejskie Krak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K:\Foto\architektura\HPIM1680a.jpg"/>
          <p:cNvPicPr/>
          <p:nvPr/>
        </p:nvPicPr>
        <p:blipFill>
          <a:blip r:embed="rId1"/>
          <a:stretch/>
        </p:blipFill>
        <p:spPr>
          <a:xfrm>
            <a:off x="395280" y="1341360"/>
            <a:ext cx="1927080" cy="4248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K:\Foto\architektura\HPIM1690.JPG"/>
          <p:cNvPicPr/>
          <p:nvPr/>
        </p:nvPicPr>
        <p:blipFill>
          <a:blip r:embed="rId2"/>
          <a:stretch/>
        </p:blipFill>
        <p:spPr>
          <a:xfrm>
            <a:off x="2484360" y="1557360"/>
            <a:ext cx="2343240" cy="403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K:\Foto\architektura\HPIM1693.JPG"/>
          <p:cNvPicPr/>
          <p:nvPr/>
        </p:nvPicPr>
        <p:blipFill>
          <a:blip r:embed="rId3"/>
          <a:stretch/>
        </p:blipFill>
        <p:spPr>
          <a:xfrm>
            <a:off x="4932360" y="1557360"/>
            <a:ext cx="302436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lternatywa-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rocław – Muzeum Narod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2"/>
          <p:cNvSpPr/>
          <p:nvPr/>
        </p:nvSpPr>
        <p:spPr>
          <a:xfrm>
            <a:off x="324000" y="1628640"/>
            <a:ext cx="6769080" cy="37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zczegółowy plan i wirtualne zwiedzanie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ożna znaleźć pod adresam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www.mnwr.art.pl/CMS/wystawy_stale/sztuka_slaska_XII-XVIw.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mn.wroclaw.pl/przewodnik/sredniowieczeRzezbaKamienna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mn.wroclaw.pl/przewodnik/sredniowieczeSala1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mn.wroclaw.pl/przewodnik/sredniowieczeSala2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rostokąt 4"/>
          <p:cNvSpPr/>
          <p:nvPr/>
        </p:nvSpPr>
        <p:spPr>
          <a:xfrm>
            <a:off x="906840" y="537372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7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4-06T18:35:39Z</dcterms:modified>
  <cp:revision>25</cp:revision>
  <dc:subject/>
  <dc:title>Slajd 1</dc:title>
</cp:coreProperties>
</file>