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4A33-E334-475E-9488-5EE3A350D6D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E5E-D096-4E03-87C6-92F1C75AFD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3DD5-2D52-4152-82B6-18417B6AA1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F4AA-A7CB-4EA4-B6DD-60BF9C7022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706F-9360-4229-AD9D-6F4EB57A1E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E97-3741-4243-845B-A08D5C780C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CB96-65D8-492F-BC07-DDC130FD28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AF0B-7F75-40CE-B096-B8E109463D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E4C-6BAB-4489-AB28-7F942F228D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1ADD-8569-4C5E-8010-91F01D0C64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FE54-E54A-473B-A44D-1608913B66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6F2C-9A36-498E-8A32-039577E5B0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6D39-5D6A-4DA8-86EB-4262DEA526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D1D9-0CD1-4521-AD8A-62269FF0E5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99F-8C91-47F4-8F7D-E9DEC379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5F9-120C-4D31-B103-E8B5CC8D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30C-F7DD-49B5-87CB-F703B254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6D3-F8CD-4910-81AE-89C3DBC1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228F-1D18-43B2-B03C-381ED023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F080-9C49-48C5-A6B7-B8EAD8F0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917B-0290-4E40-93D3-B0C1CAF4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DC8B-0CF2-4FA7-9521-D19CC29C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FEB4-C37C-464A-8473-62B037E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A079-D2DC-4F47-8A22-91FC391F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DAB-E076-4130-84DF-C43D72D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447-2191-4A3B-AAE5-1D5D0AAC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4A05-1CA7-464B-A97C-5D482475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EEA8-93D5-4F82-B2A9-41227AC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E061-44AF-41B2-93DF-9F39416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5B2C-6E9C-43E7-8711-67501B53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8BDF-07AA-4E8D-9AFE-6B3D5357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616-895E-4CA7-BD5F-DF7B021E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361-ED8B-4A42-94D4-02835DB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9A1-5091-4BAA-89F1-6567569C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6D0-D93E-4A61-B400-B304B51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03E-4B45-4271-8946-4C35D75E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D3E-3B43-4B5A-9BCA-10FF991B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959-9933-4616-B755-DFCA2AA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C27C-41C8-4AED-A6B9-521BE102517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623C-6A9B-45A6-ADB1-C26DDE4C55E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Sarkofag_&#346;w._Stanis&#322;awa_w_Katedrze_na_Wawelu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95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Dwie wizje sprawowania władzy – papiestwo a cesarstwo. Miecz czy pastorał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dtytuł 2"/>
          <p:cNvSpPr/>
          <p:nvPr/>
        </p:nvSpPr>
        <p:spPr>
          <a:xfrm>
            <a:off x="3564000" y="1197000"/>
            <a:ext cx="5321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fesja św. Stanisław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: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Sarkofag_%C5%9Aw._Stanis%C5%82awa_w_Katedrze_na_Wawelu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" descr="Plik:Sarkofag Św. Stanisława w Katedrze na Wawelu.jpg"/>
          <p:cNvPicPr/>
          <p:nvPr/>
        </p:nvPicPr>
        <p:blipFill>
          <a:blip r:embed="rId2"/>
          <a:srcRect l="11339" t="0" r="11339" b="6299"/>
          <a:stretch/>
        </p:blipFill>
        <p:spPr>
          <a:xfrm>
            <a:off x="611280" y="404640"/>
            <a:ext cx="29527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dtytuł 2"/>
          <p:cNvSpPr/>
          <p:nvPr/>
        </p:nvSpPr>
        <p:spPr>
          <a:xfrm>
            <a:off x="4427640" y="1341360"/>
            <a:ext cx="337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kordat wormac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" descr="3662000_orig"/>
          <p:cNvPicPr/>
          <p:nvPr/>
        </p:nvPicPr>
        <p:blipFill>
          <a:blip r:embed="rId1"/>
          <a:stretch/>
        </p:blipFill>
        <p:spPr>
          <a:xfrm>
            <a:off x="826920" y="404640"/>
            <a:ext cx="3313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4"/>
          <p:cNvSpPr/>
          <p:nvPr/>
        </p:nvSpPr>
        <p:spPr>
          <a:xfrm>
            <a:off x="468360" y="1052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ibat – zasada bezżenności duchownych. Wprowadzony w Europie w XII/XIII w., utrwalony w wieku XVI. Walczono też z symonią (zakupem sakramentów kościelnych). Opornych duchownych suspendow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ężem w walce z cesarstwem była ekskomunika – kara pozbawiająca praw w życiu kościoła (np. niemożność przyjmowania lub udzielania sakramentów, uczestnictwa w liturg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dtytuł 2"/>
          <p:cNvSpPr/>
          <p:nvPr/>
        </p:nvSpPr>
        <p:spPr>
          <a:xfrm>
            <a:off x="5292720" y="1989000"/>
            <a:ext cx="3851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czątki sporu związane są z rokiem 800 i koronacją cesarską Karola Wielkiego. Karol chciał koronować się sam, tymczasem koronacji dokonał papież. Jak sądzisz, dlaczego ten fakt uraził cesarz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koronacja+karola+wielkiego"/>
          <p:cNvPicPr/>
          <p:nvPr/>
        </p:nvPicPr>
        <p:blipFill>
          <a:blip r:embed="rId1"/>
          <a:stretch/>
        </p:blipFill>
        <p:spPr>
          <a:xfrm>
            <a:off x="539640" y="549360"/>
            <a:ext cx="4768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dtytuł 2"/>
          <p:cNvSpPr/>
          <p:nvPr/>
        </p:nvSpPr>
        <p:spPr>
          <a:xfrm>
            <a:off x="5435640" y="1557360"/>
            <a:ext cx="337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westytura bisku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inwestytura"/>
          <p:cNvPicPr/>
          <p:nvPr/>
        </p:nvPicPr>
        <p:blipFill>
          <a:blip r:embed="rId1"/>
          <a:stretch/>
        </p:blipFill>
        <p:spPr>
          <a:xfrm>
            <a:off x="684360" y="620640"/>
            <a:ext cx="4095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dtytuł 2"/>
          <p:cNvSpPr/>
          <p:nvPr/>
        </p:nvSpPr>
        <p:spPr>
          <a:xfrm>
            <a:off x="5364000" y="1268280"/>
            <a:ext cx="3168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l błaga opata Cluny i hrabinę Matyldę o wstawiennictwo u papieża. Canossa 107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anossa"/>
          <p:cNvPicPr/>
          <p:nvPr/>
        </p:nvPicPr>
        <p:blipFill>
          <a:blip r:embed="rId1"/>
          <a:stretch/>
        </p:blipFill>
        <p:spPr>
          <a:xfrm>
            <a:off x="826920" y="476280"/>
            <a:ext cx="43927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dtytuł 2"/>
          <p:cNvSpPr/>
          <p:nvPr/>
        </p:nvSpPr>
        <p:spPr>
          <a:xfrm>
            <a:off x="1187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olesław II Szczodry, mal. J. Matej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200px-Boleslaw_Smialy"/>
          <p:cNvPicPr/>
          <p:nvPr/>
        </p:nvPicPr>
        <p:blipFill>
          <a:blip r:embed="rId1"/>
          <a:stretch/>
        </p:blipFill>
        <p:spPr>
          <a:xfrm>
            <a:off x="2843280" y="692280"/>
            <a:ext cx="26654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dtytuł 2"/>
          <p:cNvSpPr/>
          <p:nvPr/>
        </p:nvSpPr>
        <p:spPr>
          <a:xfrm>
            <a:off x="4859280" y="1557360"/>
            <a:ext cx="3673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lesław II Szczodry podczas sporu z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. Stanisław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karanie niewiernych ż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2"/>
          <p:cNvPicPr/>
          <p:nvPr/>
        </p:nvPicPr>
        <p:blipFill>
          <a:blip r:embed="rId1"/>
          <a:stretch/>
        </p:blipFill>
        <p:spPr>
          <a:xfrm>
            <a:off x="539640" y="260280"/>
            <a:ext cx="40323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dtytuł 2"/>
          <p:cNvSpPr/>
          <p:nvPr/>
        </p:nvSpPr>
        <p:spPr>
          <a:xfrm>
            <a:off x="5508720" y="1413000"/>
            <a:ext cx="22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IMG_1677"/>
          <p:cNvPicPr/>
          <p:nvPr/>
        </p:nvPicPr>
        <p:blipFill>
          <a:blip r:embed="rId1"/>
          <a:stretch/>
        </p:blipFill>
        <p:spPr>
          <a:xfrm>
            <a:off x="1403280" y="476280"/>
            <a:ext cx="330192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5364000" y="1360080"/>
            <a:ext cx="341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Biskup krakowski Stanisła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(XI w.), z jego postacią związany jest najbardziej tajemniczy konflikt w średniowiecznej Polsce. Mamy mało źródeł, wiemy tylko że konflikt biskup przypłacił życiem, a król – wygn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i rychłą śmiercią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przed ołtarzem. Barokowy obra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dtytuł 2"/>
          <p:cNvSpPr/>
          <p:nvPr/>
        </p:nvSpPr>
        <p:spPr>
          <a:xfrm>
            <a:off x="4284720" y="1197000"/>
            <a:ext cx="460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ze wskrzeszonym Piotrem z Piotrawina. Barokowa rzeźba 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leżnie od tego, jaki był prawdziwy przebieg konfliktu, św. Stanisław stał się symbolem konieczności oporu wobec niesprawiedliwej władzy. Każdorazowy hołd każdego nowo koronowanego króla polskiego u grobu św. Stanisława miał przypominać królowi, by rządził sprawiedli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IMG_1671"/>
          <p:cNvPicPr/>
          <p:nvPr/>
        </p:nvPicPr>
        <p:blipFill>
          <a:blip r:embed="rId1"/>
          <a:srcRect l="0" t="16040" r="0" b="21874"/>
          <a:stretch/>
        </p:blipFill>
        <p:spPr>
          <a:xfrm>
            <a:off x="611280" y="404640"/>
            <a:ext cx="3481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dtytuł 2"/>
          <p:cNvSpPr/>
          <p:nvPr/>
        </p:nvSpPr>
        <p:spPr>
          <a:xfrm>
            <a:off x="1116000" y="3933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eden z czterech orłów, strzegących ciała męczennika. Barokowa rzeźb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  sanktuarium na Skałce.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ot. 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IMG_1666"/>
          <p:cNvPicPr/>
          <p:nvPr/>
        </p:nvPicPr>
        <p:blipFill>
          <a:blip r:embed="rId1"/>
          <a:srcRect l="19689" t="0" r="19689" b="0"/>
          <a:stretch/>
        </p:blipFill>
        <p:spPr>
          <a:xfrm>
            <a:off x="2411280" y="765000"/>
            <a:ext cx="29322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01:30:54Z</dcterms:modified>
  <cp:revision>11</cp:revision>
  <dc:subject/>
  <dc:title>Slajd 1</dc:title>
</cp:coreProperties>
</file>