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4481-F746-4FF1-A006-19946688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55CA-0623-46C2-957E-B7E17D87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3C8-2047-445D-925B-CC887CCB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002B-F6E7-49BA-895E-EB3F74A9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B097-C2B6-419B-A7A4-5D5AE590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125B-9FF5-4415-98EE-4E03B03E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3597-7A61-48D5-BA35-9879B39E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32D-136E-48C5-96A8-2BBD5635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46F-60C0-49DF-9977-5548B353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A5B9-B632-4AAD-8CA9-A0DFA801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88BC-39FE-410E-BEB7-93819BC7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66D-1AC3-48F6-BF71-92A69ABF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D0D3-4CD1-4C4D-A889-7426B9B21F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826920" y="1484280"/>
            <a:ext cx="7561440" cy="4229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Utworzona w listopadzie 1918 roku w Poznaniu, składała się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z polskich działaczy politycznych skupionych wcześniej przy działającym od 1916 roku w warunkach konspiracji Centralnym Komitecie Obywatelsk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W skład Komisariatu NRL weszli m.in.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: Wojciech Korfanty,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ks. Stanisław Adamski oraz Józef Rymar , a jej reprezentantem przy Komitecie Narodowym Polski w Paryżu był Władysław Grabsk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Celem NRL było ewolucyjne i pokojowe przejęcie władzy na terenie Wielkopolski .Po wybuchu powstania przejęła faktyczną władzę na jej teren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Działała do końca sierpnia 1919 roku by, następnie przekazać swoje kompetencje władzom centralnym w Warszaw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1:53:57Z</dcterms:created>
  <dc:creator>rena</dc:creator>
  <dc:description/>
  <dc:language>en-US</dc:language>
  <cp:lastModifiedBy>IB</cp:lastModifiedBy>
  <dcterms:modified xsi:type="dcterms:W3CDTF">2013-03-14T17:22:33Z</dcterms:modified>
  <cp:revision>5</cp:revision>
  <dc:subject/>
  <dc:title>PowerPoint Presentation</dc:title>
</cp:coreProperties>
</file>