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EA56-C914-4FBF-AD82-B17ACF4EE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9E59-AFC2-464B-B7F0-963789610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FA90-30D4-42F2-9218-D95C3373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0F5D-4D3D-4253-AE57-E07EF287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A41E-4789-4276-8D01-77134919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C5FC-3CBD-4EFE-9E4A-C8123904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0819-DEF1-4AA0-903B-17ADF944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CD06-40D8-42AF-9A61-AE960409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422B-4F9A-493B-972F-51464BA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FA4-C277-426B-9533-6DA72595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B5B-4C68-4850-BD4A-D1E8B108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B5AD-49E9-4309-B10E-055A6BD1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2A1B-377D-41A1-827E-F1AF4EE37A0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55640" y="1557360"/>
            <a:ext cx="7848720" cy="4688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dniu 12.09.1917 roku jako władza zwierzchnia dla terenów Królestwa Polskiego z inicjatywy władz niemieckich i austriack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październiku 1918 roku wydała Manifest do Narodu Polskiego zapowiadający odbudowanie niepodległego państ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dniu 23.10.1918 roku powołała rząd Józefa Świeżyń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wyniku słabości wewnętrznej oraz walk politycznych doszło do upadku gabinetu Świeżyńskiego oraz marginalizacji znaczenia Rady Regencyjn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18Z</dcterms:created>
  <dc:creator>rena</dc:creator>
  <dc:description/>
  <dc:language>en-US</dc:language>
  <cp:lastModifiedBy>IB</cp:lastModifiedBy>
  <dcterms:modified xsi:type="dcterms:W3CDTF">2013-03-14T17:25:36Z</dcterms:modified>
  <cp:revision>6</cp:revision>
  <dc:subject/>
  <dc:title>Rada Regencyjna</dc:title>
</cp:coreProperties>
</file>