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5B9-7923-4AF9-A0C0-C17FFF67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603-D538-445B-907C-A69CA208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3490-845E-4A5F-9B60-E4B6FC8F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2E7-5374-4251-97F2-06F7C799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889-674D-413E-8B83-A37E97DD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4D4D-48B7-44E7-88C3-6E8E59F0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BC6-498A-4CF4-A383-54FB47C4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2F60-8432-4DB6-984B-052CC97C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CE4-D12E-45C5-8093-E4DFDAB01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5192-DBE4-42F4-A1BD-800F189C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B733-687B-4CD7-BDAC-0929241F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CDB-37CD-49A5-BE45-8CD4A1DD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DF6F-4A79-47FE-BDC9-35DDC93D00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539640" y="1413000"/>
            <a:ext cx="7561440" cy="18003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Rada Delegatów Robotniczych w Lublinie utworzona w dniu 5.11.1918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Calibri"/>
              </a:rPr>
              <a:t>roku z inicjatywy Socjaldemokracji Królestwa Polskiego i Litwy oraz Polskiej Partii Socjalistyczn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2:00:24Z</dcterms:created>
  <dc:creator>rena</dc:creator>
  <dc:description/>
  <dc:language>en-US</dc:language>
  <cp:lastModifiedBy>rena</cp:lastModifiedBy>
  <dcterms:modified xsi:type="dcterms:W3CDTF">2013-03-05T17:53:32Z</dcterms:modified>
  <cp:revision>3</cp:revision>
  <dc:subject/>
  <dc:title>Rada Delegatów Robotniczych w Lublinie</dc:title>
</cp:coreProperties>
</file>