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D32-9144-4497-B4AB-521AC1932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972E-33A4-4188-B5D3-13F94EDB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0B34-800C-40BF-88AD-DD9090B3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3EA-EA8D-4FE4-98B4-A3E16EE76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9EAC-DBED-4200-A642-EC9E3D6E0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C6B-51A6-4C4E-978E-2069F57A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B4E-91FA-4398-8D19-EC212DA6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B5A-7DA1-43B3-A1A6-3A5B2BD0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F0B3-7D19-4F1C-937C-DEEC1065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F08-C5EE-412E-BAA2-B610E348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39B5-06CD-4859-988F-84A4C26A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756E-658F-4585-BF0F-C12DABB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161C-FCF6-4AC2-8111-569D298CDD8A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711160" y="59230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5.12.1867 – 12.05.19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Piłsudski"/>
          <p:cNvPicPr/>
          <p:nvPr/>
        </p:nvPicPr>
        <p:blipFill>
          <a:blip r:embed="rId1"/>
          <a:stretch/>
        </p:blipFill>
        <p:spPr>
          <a:xfrm>
            <a:off x="2484360" y="333360"/>
            <a:ext cx="3940200" cy="5465880"/>
          </a:xfrm>
          <a:prstGeom prst="rect">
            <a:avLst/>
          </a:prstGeom>
          <a:ln w="0">
            <a:noFill/>
          </a:ln>
        </p:spPr>
      </p:pic>
      <p:sp>
        <p:nvSpPr>
          <p:cNvPr id="43" name="TextBox 1"/>
          <p:cNvSpPr/>
          <p:nvPr/>
        </p:nvSpPr>
        <p:spPr>
          <a:xfrm>
            <a:off x="279864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07Z</dcterms:modified>
  <cp:revision>4</cp:revision>
  <dc:subject/>
  <dc:title>Slajd 1</dc:title>
</cp:coreProperties>
</file>