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B2EB-A0A7-469B-AEAE-0656E52909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2679-6478-4AF9-B1F7-F372A0B3EDB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26D-C88B-471F-80B3-072898B4B0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4367-7086-42FE-88FA-9E34A481E8C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880F5-8F96-48CD-B6E1-5508D1D62B38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F730-EE7B-49C2-A740-D3E76960784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004C-B443-4FC9-8D0C-BA5D4F7AF26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0F6E-3D95-4C61-BBD2-0CF5D875ED0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41C8-3CA4-4002-A3FC-F347A2FBB160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319-D38C-4533-B7F1-68AF964C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A881-A57D-42D6-BFED-10022C89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C3D-D7F0-46E5-AEE4-E61DB482B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9B3-FE08-4313-8649-F5EC8FBD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9343D-F838-4391-9544-7220C53F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FA0A-5411-4489-9329-C8A3A0ED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7CFF-69EF-405A-8C5F-EF6952F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7CB8-C431-4F01-9F89-DE489413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2100B-C454-4DED-A1AA-C9084E07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F8923-3BB1-473C-8124-13C85896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AF4EC-AEE2-4E02-BB7B-B76A2CF8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A375-E8EB-4C52-85E9-EEE198A0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3634-1138-4696-BBD3-2A310A70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633D9-B94D-4181-9747-933D63AE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E8D6A-E7CB-4136-9DF7-18C64113A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0A3A-8BCE-4056-9221-5B2F9F11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47F-A786-4C36-B746-FBB930D59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72567-9892-4108-8C76-AFA0B57C0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787E-E5C0-4476-965A-135ADB9A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57BD-2A40-4E7C-BBFB-7F2C48E1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B0261-2369-4C8E-8C80-6FA0BAC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213F6-9960-4B2E-96B6-76D9DBDAA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60B-E973-4BD5-881C-7CC31CDF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3E527-9F42-48AE-BC31-F20D249CA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8837-3E0C-4568-AFF5-0C9D57B2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5018-F202-43AA-A34A-7014E5E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6C45-FC7E-4C04-9B18-581F3229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3B2F7-0FE2-49B4-8EF9-62127569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8E125-2626-4B34-B038-9177B9C1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275A7-DAC5-4756-9D64-44A2AE3B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EE3B1-AE5F-408A-85B6-531FF1FE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3D32A-02A7-4334-8308-DBE292C5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0DAA5-4D36-4210-BF8B-2C1A01AE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4476-5995-451A-BB6E-FDAA249F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E8BD0-B6B7-40F2-BA18-6CD39A70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484C6-EDCF-46ED-9415-E020233E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75E53-8705-49B4-A22D-8D90DF3D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46FF-DF2E-4A33-9451-5D06FC3C9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C619D-D1A8-423C-A895-43E1B602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BA4A0-933D-474E-81A2-13BA694D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51D9B-5BF7-4525-B29F-336A8D56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F02FE-35DE-4654-A7B5-28EF956F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0A2F1-3E4C-4BA7-B47F-A0C820E0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54DF8-446B-4B57-997F-032DC5CA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9AD-5626-4E35-8AE6-CF4EFD98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8DC9F-4D67-4BCD-B444-0DE35A49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3376F-DAC2-45A3-9248-EDDF5E74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FC6605-EFEA-458F-ADDD-C8806AF1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2042D-BB1A-47C4-A547-9068BD1A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A74F-370A-4C07-9AD0-9FD991811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9B3E6-E269-4F78-B66D-DACA4C1C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F485-F94D-4918-A857-323FDDB7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950C9-89BD-44E2-886E-E75B54BF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9D6E6-C812-489C-B9E4-DC85A8D1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DF4D9-0E82-4C7A-9A05-77EB05339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1EA-86F3-4327-BE4D-451CDDFB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AFF22-4BE6-40AE-95B4-2CEAC298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285F9-63CE-4CF0-94BB-51980759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1A07B-300C-48DB-8CB6-DBCB85F6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A6A61-DCB9-4AF9-B007-47159B59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62011-557B-49B4-B601-F8987BBB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371C4-F89F-4EAD-A073-BBA1E452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8B91-BDC4-42E0-8F26-2FF0BFA6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86B4A-511C-4380-9B81-12A6428B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6628B-42D8-45BB-8CBB-C13124CC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7065D-6DEB-46B0-BA79-6D280B37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3B8-EF8E-4E39-B39D-123A6FC0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8970-74E6-4E0E-939D-EEFD9794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29F3B-DD71-445E-89F4-B8D913B30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AAA87-C71A-4B5A-BAA2-E91157A8D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45876-FB94-44F3-BCF6-33E8EC517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6340A-DCF8-4EA1-8440-920C8A4A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41F62B-078A-4114-8A39-273F3472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6B239-4E01-4E70-B2B4-010FF45B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F15D1-1CA9-4DB9-94B0-B4FDC3918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216BD-1961-428D-AFDB-B5E1E636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747E4-7C02-4041-B647-44EF5519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D346-5305-4AAD-8BC4-5CF690BE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31D1E-1158-4DBB-AF7E-F5C83338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D7BA1-AC57-4588-854E-49CEE35F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2DEA6-892B-48B5-A69B-802E45951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90C39-7854-404B-8FC4-82293FCA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A411-6939-423A-85A0-043F0896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9152-9AEE-4728-A2C9-A61B32FF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81F5-E4D6-4920-9888-E97547CC90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9196-AE0D-4D7E-AC26-3BF9397DE0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5CE8-81ED-407C-B794-52BDB4BEAD3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809-6D9D-4163-BBD8-853D252D5C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1AE0A-E9E5-4E09-8E4A-DC58BD68DD0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BF39-BE61-40E1-9DCD-0FED8E431B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01EC-84DD-4F5F-929D-7DBD767980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95160" y="1139760"/>
            <a:ext cx="7875720" cy="153036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82560" y="3133800"/>
            <a:ext cx="7796160" cy="148104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41400" y="268776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53735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5"/>
          <a:stretch/>
        </p:blipFill>
        <p:spPr>
          <a:xfrm>
            <a:off x="2298600" y="4584600"/>
            <a:ext cx="458316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7" name="Diagram 1" descr=""/>
          <p:cNvPicPr/>
          <p:nvPr/>
        </p:nvPicPr>
        <p:blipFill>
          <a:blip r:embed="rId2"/>
          <a:stretch/>
        </p:blipFill>
        <p:spPr>
          <a:xfrm>
            <a:off x="457200" y="974880"/>
            <a:ext cx="8229600" cy="56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8037360" cy="3483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lebiscyt_na_Warmii_i_Mazurach_2.gif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749160" y="268200"/>
            <a:ext cx="7944120" cy="11588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68000" y="1341000"/>
            <a:ext cx="82184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3"/>
          <p:cNvSpPr/>
          <p:nvPr/>
        </p:nvSpPr>
        <p:spPr>
          <a:xfrm>
            <a:off x="539640" y="1268280"/>
            <a:ext cx="7272360" cy="446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669960" y="268200"/>
            <a:ext cx="80233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8841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pór polsko-czechosłowac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z Czechosłowacj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lne Miasto Gdań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lebiscyt na Warmii i Mazu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Diagram 1" descr=""/>
          <p:cNvPicPr/>
          <p:nvPr/>
        </p:nvPicPr>
        <p:blipFill>
          <a:blip r:embed="rId2"/>
          <a:stretch/>
        </p:blipFill>
        <p:spPr>
          <a:xfrm>
            <a:off x="822240" y="1390680"/>
            <a:ext cx="79930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4" name="Diagram 2" descr=""/>
          <p:cNvPicPr/>
          <p:nvPr/>
        </p:nvPicPr>
        <p:blipFill>
          <a:blip r:embed="rId2"/>
          <a:stretch/>
        </p:blipFill>
        <p:spPr>
          <a:xfrm>
            <a:off x="407880" y="1359000"/>
            <a:ext cx="837576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6" name="Diagram 3" descr=""/>
          <p:cNvPicPr/>
          <p:nvPr/>
        </p:nvPicPr>
        <p:blipFill>
          <a:blip r:embed="rId2"/>
          <a:stretch/>
        </p:blipFill>
        <p:spPr>
          <a:xfrm>
            <a:off x="665280" y="1390680"/>
            <a:ext cx="7594560" cy="49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" descr=""/>
          <p:cNvPicPr/>
          <p:nvPr/>
        </p:nvPicPr>
        <p:blipFill>
          <a:blip r:embed="rId2"/>
          <a:stretch/>
        </p:blipFill>
        <p:spPr>
          <a:xfrm>
            <a:off x="604800" y="1123920"/>
            <a:ext cx="7655040" cy="48974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517680" y="1152360"/>
            <a:ext cx="7997760" cy="48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549360" y="1163520"/>
            <a:ext cx="82533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5" name="Diagram 3" descr=""/>
          <p:cNvPicPr/>
          <p:nvPr/>
        </p:nvPicPr>
        <p:blipFill>
          <a:blip r:embed="rId2"/>
          <a:stretch/>
        </p:blipFill>
        <p:spPr>
          <a:xfrm>
            <a:off x="201600" y="1390680"/>
            <a:ext cx="874080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5T20:09:47Z</dcterms:created>
  <dc:creator>rena</dc:creator>
  <dc:description/>
  <dc:language>en-US</dc:language>
  <cp:lastModifiedBy>Andrzej</cp:lastModifiedBy>
  <dcterms:modified xsi:type="dcterms:W3CDTF">2013-09-01T18:07:02Z</dcterms:modified>
  <cp:revision>17</cp:revision>
  <dc:subject/>
  <dc:title>WALKI O NIEPODLEGŁOŚĆ POLSKI  W LATACH 1918 - 1921</dc:title>
</cp:coreProperties>
</file>