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F66D-9605-4B69-A758-6865C3E84C9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BFDA-3F32-4564-B8E1-7EE42AC31DF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CB1F-FAC1-4342-AFC5-095C0AE40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EF73-ADEB-42C5-85A3-C99ED5A3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A909-2402-48D7-A485-5D05173BA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75B3-1186-4BCA-98A0-347B88003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AB7F-02E3-4F25-81DD-E1A79A55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E5E-710D-44FF-8E27-F0759FD3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7390-04B1-44DA-A1E7-164A828F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EF8C-622A-45D4-9ACD-3FFA5E63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805-C536-474F-B887-2B9E5982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1B01-3702-43FB-8E88-FA45C833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7897-31C9-4BE1-B705-922BC521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5E16-4E28-48C2-94FE-64D03BA4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C790-2361-4C4D-A481-D0D710D6257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5"/>
          <p:cNvSpPr/>
          <p:nvPr/>
        </p:nvSpPr>
        <p:spPr>
          <a:xfrm>
            <a:off x="4284720" y="1341360"/>
            <a:ext cx="576360" cy="936720"/>
          </a:xfrm>
          <a:prstGeom prst="downArrow">
            <a:avLst>
              <a:gd name="adj1" fmla="val 50000"/>
              <a:gd name="adj2" fmla="val 40631"/>
            </a:avLst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116000" y="2708280"/>
            <a:ext cx="6985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Włączanie w skład państwa na wschodzie jedynie terenów zamieszkanych </a:t>
            </a:r>
            <a:br>
              <a:rPr sz="2800"/>
            </a:br>
            <a:r>
              <a:rPr b="0" lang="pl-PL" sz="2800" spc="-1" strike="noStrike">
                <a:solidFill>
                  <a:srgbClr val="1f497d"/>
                </a:solidFill>
                <a:latin typeface="Calibri"/>
              </a:rPr>
              <a:t>w większości przez Polaków aby możliwa była pełna asymilacja mieszkającej ten ludności (powrót lub korzystna korekta granic przedrozbiorowych na zachodzie oraz do granic z 1792 na wschodzi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1:31:00Z</dcterms:created>
  <dc:creator>rjuraszczyk</dc:creator>
  <dc:description/>
  <dc:language>en-US</dc:language>
  <cp:lastModifiedBy>IB</cp:lastModifiedBy>
  <dcterms:modified xsi:type="dcterms:W3CDTF">2013-03-14T17:14:47Z</dcterms:modified>
  <cp:revision>6</cp:revision>
  <dc:subject/>
  <dc:title>Koncepcja granic Romana Dmowskiego</dc:title>
</cp:coreProperties>
</file>