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D04-4F16-4169-8CE1-C1447C51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C6C5-95F2-4CEB-800C-4EC2A5E8E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724B-0785-4E4A-8062-243BB8B5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91F6-B6DA-41DA-90EB-6B6B7E0C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CD96-11D3-4A9D-B14D-DC29EAF8E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7B08-DA31-4867-B04A-9A7E63ED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E0E5-290B-4D6E-86E9-78006412A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60B1-FA05-4EB8-BBE0-55E69628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8D5C-21DD-4403-80EE-44BB02A2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1A7-AD3D-477C-906F-63CCA1C0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29A-A43F-4EF9-B64A-C0B37D64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7D6-90EB-4092-83DF-3E2F3BFC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3601-ACCE-49ED-B64E-3AA710DB3A8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Polska w Traktacie Wersal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971640" y="1052640"/>
            <a:ext cx="7018200" cy="5487840"/>
          </a:xfrm>
          <a:prstGeom prst="rect">
            <a:avLst/>
          </a:prstGeom>
          <a:ln w="0">
            <a:noFill/>
          </a:ln>
        </p:spPr>
      </p:pic>
      <p:pic>
        <p:nvPicPr>
          <p:cNvPr id="42" name="Title 1" descr=""/>
          <p:cNvPicPr/>
          <p:nvPr/>
        </p:nvPicPr>
        <p:blipFill>
          <a:blip r:embed="rId2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7:12:17Z</dcterms:created>
  <dc:creator>IB</dc:creator>
  <dc:description/>
  <dc:language>en-US</dc:language>
  <cp:lastModifiedBy>rena</cp:lastModifiedBy>
  <dcterms:modified xsi:type="dcterms:W3CDTF">2013-03-05T18:00:07Z</dcterms:modified>
  <cp:revision>2</cp:revision>
  <dc:subject/>
  <dc:title>Slajd 1</dc:title>
</cp:coreProperties>
</file>