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22216-F396-492B-A054-A1F19E1463D5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995A-75DD-4E12-BD8E-8E27A7C1A00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A1A9-99A0-4081-9DF5-46C3893E6F5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BA88-96E1-4D66-AA62-7A0B17DBB9C7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8A90-272A-45FB-AB36-6B793934613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EA4-CFDF-441D-9579-252FF0F22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1F1-CDBE-41CF-A2A4-97A8909F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6E5F-1FB7-4AC3-990D-F442247F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9CA-0EBE-44E8-9A82-C446E75F7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BCD5-6E15-40CC-AB09-40F275DC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6149-7B64-4D07-B37B-B4776562E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4A30-0C34-47C5-9548-5C673E17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9A768-19F0-434D-8550-AA4ABBE2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F5BB-CA65-45D2-A3DF-38763D37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9092-33DB-4781-A6D7-3EEA8269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04D68-2071-4FF5-A779-90394C52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B707-C02A-49AF-9AEE-9BF2DB574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5DE2-A92B-46AC-9CC4-646425A5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4D41-9E29-4A49-A38B-B0C7C10A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C58D7-20AE-4627-B315-257B3CFB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2E681-D117-494A-A1D4-0E52B17B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9D4F-6828-468E-8383-57D5EEC89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14630-DF6D-4903-B15F-045FC3B3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AB83-51A9-4CE7-98BD-632A9BF9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EE7A8-C7A5-465D-840C-96F858C3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D47AF-56A4-4B55-9116-6E6E30E8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317A-90DD-476E-9010-AE098146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BC8-4F02-4D56-9040-A8998254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FCC56-FDEB-4DA9-97F6-AD1D6C9C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A3F10-1187-4787-B964-C47D966C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94E54-19BD-40AB-A201-1313D22B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35973-7C30-4AF7-BD24-8C02C045D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BB35E-A939-4CCC-BDEA-A3BCC6D9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E561-011F-44D7-91EC-3AB4D29A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9D28B-76CC-41C4-A414-D266F496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EB8F9-55DE-4A8B-B5F8-365B72CF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6CECA-6946-42B2-8676-F94B93AB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783CA-4151-4D99-AF52-50D6BB12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9C5-393C-446B-8E16-CB1EB4EF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352D-5807-4672-8F40-8E34B3CF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D3A7-56DF-41DC-9643-CEF9F14C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1309E-743B-4B2B-90A9-DC24FCB4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ECF17-13FC-449A-8ADF-E94BBDEA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1DA26-F62F-42CD-97BA-2F0CDE19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7B0FA-091B-4E50-BC33-3CE353D5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0E7DB1-D18E-4E5A-9D85-B53B096E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CDE71-D755-4304-BBE5-38BD22BA1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522A8-DF42-4FC7-9D06-EF6EC969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29A33-D06D-4B09-91B0-2B9DCB8E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FCE-2814-4FBE-BF10-26DE6C2B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6D93E-6978-4EAA-9ADD-71B760D8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68959-EFAE-4D8B-8734-3D5F2A59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D79AD-B3E2-4568-B933-EE00B7D0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6E4F6-8BD5-476F-81C2-3D0235CE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D5ECD-2D12-4FB6-82CD-A5A6F8E5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8D4DF-901E-4F1B-9F94-D13A1090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DB47C-DD01-4C7F-A90A-9E5CD719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7FCF3-2852-439B-A34A-CFB7B1FC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3F3CC-2115-446B-8D91-F73E2DAC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39589-4243-4C4F-9B79-381A79E0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7E7F-66E7-4F24-B7FC-2AF30FE8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D7E39-05AE-4FF4-8BD5-B8FF0DB3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75044-D2D7-4D65-AB22-C92E46DCA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E0C1E-F36A-41FD-94F1-19DB3705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FF7C5-9A05-4937-BF1B-DEF1EF72A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ECF0C-8B03-414C-BAC0-C555F071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5EA0-A471-4983-98F7-9C443A84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D3225-15EA-413A-8A0F-B3848CAE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DA828-FC91-4988-87D3-47AAA9AC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3C792-02CE-4DB0-B622-9EA1993C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9D451-F0B6-44A9-B2A3-F3EC479A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FE93-AA87-4A56-A1A0-35A99EBC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930A8-B3FE-40BC-B961-CB94B361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012C4-A0A3-4D4A-808B-C501A390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B6B73-5CFE-4EEC-8078-1A1BE1CC9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9B4A0-1F0C-4558-B0AE-032B0643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102B0-301F-44E6-86D8-EB187AF6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735CE-6CD3-4275-A11F-46CA7EB40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30AFF-6C3E-4BAD-BBAE-9BAF3084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58411-8F45-4481-94E3-3FEBE28B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755280" y="274320"/>
            <a:ext cx="7931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F68F8-2E68-4A7D-A80B-E5701BE8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EBEF35-E0DE-47B9-866A-C4E648F2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588D-AB6F-4D14-81E6-1D4E0B0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224C5-E602-455C-94B5-395DCCF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AA327-B592-4EE8-9C3D-A1178E57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4D02CD-A248-4977-BBCE-13357159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7BBB3-1AD9-4B2D-8C98-6684139A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4C5CD-3D85-4F17-A1EA-339838154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6FC2-315C-40B2-975A-A9BBBBBB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EB56-D8A8-44EB-A3E7-17BA354BE5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EFDE-DC84-4CA2-906A-80A9BDB184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C1FB-284D-4ACB-830B-81D1134951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F2A7-2896-436A-8350-432C118DA55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17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3D01-1948-4949-BD3B-ABF3BDBB9D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17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18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AAA8-BF14-4F6C-8EB2-55FF2EBB9CA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0" y="576108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2" descr=""/>
          <p:cNvPicPr/>
          <p:nvPr/>
        </p:nvPicPr>
        <p:blipFill>
          <a:blip r:embed="rId3"/>
          <a:stretch/>
        </p:blipFill>
        <p:spPr>
          <a:xfrm>
            <a:off x="-4680" y="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262" name="Obraz 8" descr="stopka_cz_b_pion.gif"/>
          <p:cNvPicPr/>
          <p:nvPr/>
        </p:nvPicPr>
        <p:blipFill>
          <a:blip r:embed="rId4"/>
          <a:stretch/>
        </p:blipFill>
        <p:spPr>
          <a:xfrm>
            <a:off x="0" y="5877000"/>
            <a:ext cx="9144000" cy="1125360"/>
          </a:xfrm>
          <a:prstGeom prst="rect">
            <a:avLst/>
          </a:prstGeom>
          <a:ln w="0">
            <a:noFill/>
          </a:ln>
        </p:spPr>
      </p:pic>
      <p:pic>
        <p:nvPicPr>
          <p:cNvPr id="263" name="Obraz 9" descr="nagłówek_cz_b_pion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94EF-A212-43A4-8120-5911410923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676440" y="1500120"/>
            <a:ext cx="7877160" cy="1535040"/>
          </a:xfrm>
          <a:prstGeom prst="rect">
            <a:avLst/>
          </a:prstGeom>
          <a:ln w="0">
            <a:noFill/>
          </a:ln>
        </p:spPr>
      </p:pic>
      <p:pic>
        <p:nvPicPr>
          <p:cNvPr id="313" name="Title 1" descr=""/>
          <p:cNvPicPr/>
          <p:nvPr/>
        </p:nvPicPr>
        <p:blipFill>
          <a:blip r:embed="rId2"/>
          <a:stretch/>
        </p:blipFill>
        <p:spPr>
          <a:xfrm>
            <a:off x="603360" y="3352680"/>
            <a:ext cx="7785000" cy="1481400"/>
          </a:xfrm>
          <a:prstGeom prst="rect">
            <a:avLst/>
          </a:prstGeom>
          <a:ln w="0">
            <a:noFill/>
          </a:ln>
        </p:spPr>
      </p:pic>
      <p:pic>
        <p:nvPicPr>
          <p:cNvPr id="314" name="Obraz 6" descr="nagłówek_cz_b_poz.gif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pic>
        <p:nvPicPr>
          <p:cNvPr id="315" name="Obraz 7" descr="stopka_cz_b_poz.gif"/>
          <p:cNvPicPr/>
          <p:nvPr/>
        </p:nvPicPr>
        <p:blipFill>
          <a:blip r:embed="rId4"/>
          <a:stretch/>
        </p:blipFill>
        <p:spPr>
          <a:xfrm>
            <a:off x="0" y="6189840"/>
            <a:ext cx="9159840" cy="668160"/>
          </a:xfrm>
          <a:prstGeom prst="rect">
            <a:avLst/>
          </a:prstGeom>
          <a:ln w="0">
            <a:noFill/>
          </a:ln>
        </p:spPr>
      </p:pic>
      <p:sp>
        <p:nvSpPr>
          <p:cNvPr id="316" name="Prostokąt zaokrąglony 11"/>
          <p:cNvSpPr/>
          <p:nvPr/>
        </p:nvSpPr>
        <p:spPr>
          <a:xfrm>
            <a:off x="914400" y="3068640"/>
            <a:ext cx="7343640" cy="64764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Title 1" descr=""/>
          <p:cNvPicPr/>
          <p:nvPr/>
        </p:nvPicPr>
        <p:blipFill>
          <a:blip r:embed="rId5"/>
          <a:stretch/>
        </p:blipFill>
        <p:spPr>
          <a:xfrm>
            <a:off x="907920" y="4102200"/>
            <a:ext cx="778536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8" name="Diagram 1" descr=""/>
          <p:cNvPicPr/>
          <p:nvPr/>
        </p:nvPicPr>
        <p:blipFill>
          <a:blip r:embed="rId2"/>
          <a:stretch/>
        </p:blipFill>
        <p:spPr>
          <a:xfrm>
            <a:off x="407880" y="1023840"/>
            <a:ext cx="84013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2" descr=""/>
          <p:cNvPicPr/>
          <p:nvPr/>
        </p:nvPicPr>
        <p:blipFill>
          <a:blip r:embed="rId2"/>
          <a:stretch/>
        </p:blipFill>
        <p:spPr>
          <a:xfrm>
            <a:off x="1332000" y="1052640"/>
            <a:ext cx="6335640" cy="486252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397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Marzec 1919 r.</a:t>
            </a:r>
            <a:br>
              <a:rPr sz="4400"/>
            </a:b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Grudzień 1919 r.</a:t>
            </a:r>
            <a:br>
              <a:rPr sz="4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"/>
          <p:cNvPicPr/>
          <p:nvPr/>
        </p:nvPicPr>
        <p:blipFill>
          <a:blip r:embed="rId2"/>
          <a:stretch/>
        </p:blipFill>
        <p:spPr>
          <a:xfrm>
            <a:off x="1832040" y="1197000"/>
            <a:ext cx="5904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640" y="572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Czerwiec 1920 r.</a:t>
            </a:r>
            <a:br>
              <a:rPr sz="4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4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62658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11280" y="5730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ierpień 1920 r.</a:t>
            </a:r>
            <a:br>
              <a:rPr sz="4400"/>
            </a:b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Źródło: http://pl.wikipedia.org/wiki/Wojna_polsko-bolszewic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5" descr=""/>
          <p:cNvPicPr/>
          <p:nvPr/>
        </p:nvPicPr>
        <p:blipFill>
          <a:blip r:embed="rId2"/>
          <a:stretch/>
        </p:blipFill>
        <p:spPr>
          <a:xfrm>
            <a:off x="1116000" y="1052640"/>
            <a:ext cx="6408720" cy="49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33440" y="1878120"/>
            <a:ext cx="7881840" cy="1687320"/>
          </a:xfrm>
          <a:prstGeom prst="rect">
            <a:avLst/>
          </a:prstGeom>
          <a:ln w="0">
            <a:noFill/>
          </a:ln>
        </p:spPr>
      </p:pic>
      <p:pic>
        <p:nvPicPr>
          <p:cNvPr id="352" name="Title 1" descr=""/>
          <p:cNvPicPr/>
          <p:nvPr/>
        </p:nvPicPr>
        <p:blipFill>
          <a:blip r:embed="rId2"/>
          <a:stretch/>
        </p:blipFill>
        <p:spPr>
          <a:xfrm>
            <a:off x="633240" y="-6480"/>
            <a:ext cx="778536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4" name="Diagram 1" descr=""/>
          <p:cNvPicPr/>
          <p:nvPr/>
        </p:nvPicPr>
        <p:blipFill>
          <a:blip r:embed="rId2"/>
          <a:stretch/>
        </p:blipFill>
        <p:spPr>
          <a:xfrm>
            <a:off x="433440" y="1365120"/>
            <a:ext cx="8448480" cy="51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6" name="Diagram 2" descr=""/>
          <p:cNvPicPr/>
          <p:nvPr/>
        </p:nvPicPr>
        <p:blipFill>
          <a:blip r:embed="rId2"/>
          <a:stretch/>
        </p:blipFill>
        <p:spPr>
          <a:xfrm>
            <a:off x="158760" y="981000"/>
            <a:ext cx="8790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58" name="Diagram 2" descr=""/>
          <p:cNvPicPr/>
          <p:nvPr/>
        </p:nvPicPr>
        <p:blipFill>
          <a:blip r:embed="rId2"/>
          <a:stretch/>
        </p:blipFill>
        <p:spPr>
          <a:xfrm>
            <a:off x="901800" y="1262160"/>
            <a:ext cx="736416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3" descr=""/>
          <p:cNvPicPr/>
          <p:nvPr/>
        </p:nvPicPr>
        <p:blipFill>
          <a:blip r:embed="rId2"/>
          <a:stretch/>
        </p:blipFill>
        <p:spPr>
          <a:xfrm>
            <a:off x="1403280" y="1125360"/>
            <a:ext cx="6323040" cy="4918320"/>
          </a:xfrm>
          <a:prstGeom prst="rect">
            <a:avLst/>
          </a:prstGeom>
          <a:ln w="0">
            <a:noFill/>
          </a:ln>
        </p:spPr>
      </p:pic>
      <p:sp>
        <p:nvSpPr>
          <p:cNvPr id="361" name="Title 1"/>
          <p:cNvSpPr/>
          <p:nvPr/>
        </p:nvSpPr>
        <p:spPr>
          <a:xfrm>
            <a:off x="46836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www.wikipedia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ounded Rectangle 4"/>
          <p:cNvSpPr/>
          <p:nvPr/>
        </p:nvSpPr>
        <p:spPr>
          <a:xfrm>
            <a:off x="395280" y="1268280"/>
            <a:ext cx="7705800" cy="482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93560" y="268200"/>
            <a:ext cx="8199720" cy="1158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25520" y="15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Rozbiory Polski w latach 1772 – 179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ształtowanie granicy wschodniej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jna polsko-ukraiń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Wojna polsko-bolszew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onflikt polsko-litew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raktat rys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Granice Polski na wschodz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19280" indent="-449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ytuł 1" descr=""/>
          <p:cNvPicPr/>
          <p:nvPr/>
        </p:nvPicPr>
        <p:blipFill>
          <a:blip r:embed="rId1"/>
          <a:stretch/>
        </p:blipFill>
        <p:spPr>
          <a:xfrm>
            <a:off x="560520" y="328680"/>
            <a:ext cx="8205480" cy="1152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68000" y="1341360"/>
            <a:ext cx="828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rzoza Czesław – Polska w czasach niepodległości i II wojny światowej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(1918-1945), Kraków 2003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uszko Józef – Historia Polski 1864-1948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Chojnowski Andrzej – Koncepcje polityki narodowościowej rządów polskich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w  latach 1921-1931, Warszawa 197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Davies Norman – Boże Igrzysko, Historia Polski, warszawa 1989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Faryś Janusz – Historia Polski 1918-1939, Poznań 1997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Garlicki Andrzej – Józef Piłsudski 1867-1935, Warszawa 198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Konopczyński Władysław - Historia polityczna Polski : 1914-1939, Warszawa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Mroczka Ludwik – Spór o Galicje Wschodnią, Kraków 199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Pajewski Janusz – Odbudowa Drugiej Rzeczypospolitej 1918-1926, Kraków 199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Szczepański Janusz – Społeczeństwo polskie w walce z najazdem bolszewickim </a:t>
            </a:r>
            <a:br>
              <a:rPr sz="1800"/>
            </a:b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1920 roku, Warszawa-Pułtusk 200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Biuletyn Instytutu Pamięci Narodowej nr 11-12, IPN Listopad- Grudzień 2008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ytuł 1" descr=""/>
          <p:cNvPicPr/>
          <p:nvPr/>
        </p:nvPicPr>
        <p:blipFill>
          <a:blip r:embed="rId1"/>
          <a:stretch/>
        </p:blipFill>
        <p:spPr>
          <a:xfrm>
            <a:off x="-6480" y="1908000"/>
            <a:ext cx="9156960" cy="1889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1496880" y="1125360"/>
            <a:ext cx="6743880" cy="528480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609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alibri"/>
              </a:rPr>
              <a:t>Źródło: http://pl.wikipedia.org/wiki/Pliki:Partitions_of_Poland.png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5" name="Diagram 5" descr=""/>
          <p:cNvPicPr/>
          <p:nvPr/>
        </p:nvPicPr>
        <p:blipFill>
          <a:blip r:embed="rId2"/>
          <a:stretch/>
        </p:blipFill>
        <p:spPr>
          <a:xfrm>
            <a:off x="701640" y="1474920"/>
            <a:ext cx="7594560" cy="49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Content Placeholder 3" descr=""/>
          <p:cNvPicPr/>
          <p:nvPr/>
        </p:nvPicPr>
        <p:blipFill>
          <a:blip r:embed="rId1"/>
          <a:stretch/>
        </p:blipFill>
        <p:spPr>
          <a:xfrm>
            <a:off x="396720" y="1560600"/>
            <a:ext cx="8345520" cy="4651200"/>
          </a:xfrm>
          <a:prstGeom prst="rect">
            <a:avLst/>
          </a:prstGeom>
          <a:ln w="0">
            <a:noFill/>
          </a:ln>
        </p:spPr>
      </p:pic>
      <p:pic>
        <p:nvPicPr>
          <p:cNvPr id="327" name="Title 1" descr=""/>
          <p:cNvPicPr/>
          <p:nvPr/>
        </p:nvPicPr>
        <p:blipFill>
          <a:blip r:embed="rId2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29" name="Diagram 1" descr=""/>
          <p:cNvPicPr/>
          <p:nvPr/>
        </p:nvPicPr>
        <p:blipFill>
          <a:blip r:embed="rId2"/>
          <a:stretch/>
        </p:blipFill>
        <p:spPr>
          <a:xfrm>
            <a:off x="974880" y="1390680"/>
            <a:ext cx="71085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1" name="Diagram 1" descr=""/>
          <p:cNvPicPr/>
          <p:nvPr/>
        </p:nvPicPr>
        <p:blipFill>
          <a:blip r:embed="rId2"/>
          <a:stretch/>
        </p:blipFill>
        <p:spPr>
          <a:xfrm>
            <a:off x="743040" y="1390680"/>
            <a:ext cx="7731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3" name="Diagram 1" descr=""/>
          <p:cNvPicPr/>
          <p:nvPr/>
        </p:nvPicPr>
        <p:blipFill>
          <a:blip r:embed="rId2"/>
          <a:stretch/>
        </p:blipFill>
        <p:spPr>
          <a:xfrm>
            <a:off x="407880" y="2809800"/>
            <a:ext cx="8255160" cy="3865680"/>
          </a:xfrm>
          <a:prstGeom prst="rect">
            <a:avLst/>
          </a:prstGeom>
          <a:ln w="0">
            <a:noFill/>
          </a:ln>
        </p:spPr>
      </p:pic>
      <p:sp>
        <p:nvSpPr>
          <p:cNvPr id="334" name="Prostokąt zaokrąglony 11"/>
          <p:cNvSpPr/>
          <p:nvPr/>
        </p:nvSpPr>
        <p:spPr>
          <a:xfrm>
            <a:off x="468360" y="1268280"/>
            <a:ext cx="8136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ereny wschodnie zamieszkiwała ludność etnicznie zróżnicowa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Stronami konfliktu był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63680" y="0"/>
            <a:ext cx="7785000" cy="1487520"/>
          </a:xfrm>
          <a:prstGeom prst="rect">
            <a:avLst/>
          </a:prstGeom>
          <a:ln w="0">
            <a:noFill/>
          </a:ln>
        </p:spPr>
      </p:pic>
      <p:pic>
        <p:nvPicPr>
          <p:cNvPr id="336" name="Diagram 1" descr=""/>
          <p:cNvPicPr/>
          <p:nvPr/>
        </p:nvPicPr>
        <p:blipFill>
          <a:blip r:embed="rId2"/>
          <a:stretch/>
        </p:blipFill>
        <p:spPr>
          <a:xfrm>
            <a:off x="596880" y="1122480"/>
            <a:ext cx="780408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1:42:20Z</dcterms:created>
  <dc:creator>rena</dc:creator>
  <dc:description/>
  <dc:language>en-US</dc:language>
  <cp:lastModifiedBy>Andrzej</cp:lastModifiedBy>
  <dcterms:modified xsi:type="dcterms:W3CDTF">2013-09-01T18:06:23Z</dcterms:modified>
  <cp:revision>43</cp:revision>
  <dc:subject/>
  <dc:title>WALKI O NIEPODLEGŁOŚĆ POLSKI  W LATACH 1918 - 1921</dc:title>
</cp:coreProperties>
</file>