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D142-EF5F-482C-BD5E-96C18605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A8E-F1EA-4926-A390-9B4EBEEE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D3E-A450-4CC8-8F46-D47A910BC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0A3B-78FD-49F0-9316-79877891F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0B8-FE3E-441F-BCB9-0D1B7A8E2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3A7-8998-4B04-AB3F-3B15BA3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F0D-55DF-4FC3-8AC9-73F7B15FB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61BD-9079-42F1-A63C-7B069023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C73-698F-4AED-8C6D-50A15333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AB88-0192-4CA2-B0B5-F3D5E239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F25-B00B-462C-B324-184D8EB1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22FE-9FAB-41B6-844F-C97F61FA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0580-3889-4B48-ABAC-50DDA78128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396720" y="11592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Witos"/>
          <p:cNvPicPr/>
          <p:nvPr/>
        </p:nvPicPr>
        <p:blipFill>
          <a:blip r:embed="rId2"/>
          <a:stretch/>
        </p:blipFill>
        <p:spPr>
          <a:xfrm>
            <a:off x="2124000" y="1413000"/>
            <a:ext cx="4918320" cy="3695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2505240" y="5373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22.01.1874 – 31.10.19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419640" y="6076800"/>
            <a:ext cx="33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Źródło Wikipedia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21:01:02Z</dcterms:created>
  <dc:creator>rena</dc:creator>
  <dc:description/>
  <dc:language>en-US</dc:language>
  <cp:lastModifiedBy>rena</cp:lastModifiedBy>
  <dcterms:modified xsi:type="dcterms:W3CDTF">2013-03-05T18:42:22Z</dcterms:modified>
  <cp:revision>4</cp:revision>
  <dc:subject/>
  <dc:title>WINCENTY WITOS</dc:title>
</cp:coreProperties>
</file>