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81F-CA5A-4DEC-BE40-8D40F0F1F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49AC-87C4-4C9D-ACCA-16AC7DEC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9E0-CDC7-4C58-A689-440CC308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D69D-78BA-4F06-BAA9-B97855C1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DFA-3E8A-4E8D-BD33-800B5A7FF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22DA-6BC4-4A85-9131-6653C1E4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3E9C-6867-41D0-ACD3-E235BB96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9BB5-7E37-4036-B49F-311B3779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9A51-A505-4ADD-B9AC-E8ECAC117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14D-1671-46F6-A4CE-C98A39C7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FBD0-0F68-44CF-B7C4-8D674688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9979-5261-4E0F-8BB0-B9C46B44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C043-AF59-4B24-86F7-7556B39E00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3"/>
          <p:cNvSpPr/>
          <p:nvPr/>
        </p:nvSpPr>
        <p:spPr>
          <a:xfrm>
            <a:off x="539640" y="1361880"/>
            <a:ext cx="8280360" cy="4483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Traktat Werslaski został podpisany przez państwa uczestników I wojny światowej </a:t>
            </a:r>
            <a:br>
              <a:rPr sz="1800"/>
            </a:b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w dniu 28.06.1919 roku. Jego ratyfikacja nastąpiła w dniu 10.01.1920 rok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Traktat Wersalski miał duży wpływ na kształt granic Polski. Aspiracje Polski obejmowały obok ziem należących przed 1772 rokiem do Polski także tereny zamieszkane przez większość polsk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Rada Najwyższa Konferencji powołała 18 stycznia 1919 r Komisję do Spraw Polskich. Chciała ona oddać Polsce Górny Śląsk, Wielkopolskę, Pomorze, Gdańsk oraz Dolny Śląsk oraz przeprowadzić plebiscyt na Warmii i Mazur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Korzystne dla Polski rozwiązania zniweczył sprzeciw Wielkiej Brytani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Ostatecznie Polska na mocy traktatu otrzymała Pomorze wschodnie bez Gdańs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ffffff"/>
                </a:solidFill>
                <a:latin typeface="Calibri"/>
              </a:rPr>
              <a:t>Ponadto zarządzono plebiscyty na Górnym Śląsku i Mazura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2:13:05Z</dcterms:created>
  <dc:creator>rjuraszczyk</dc:creator>
  <dc:description/>
  <dc:language>en-US</dc:language>
  <cp:lastModifiedBy>IB</cp:lastModifiedBy>
  <dcterms:modified xsi:type="dcterms:W3CDTF">2013-03-14T17:26:25Z</dcterms:modified>
  <cp:revision>7</cp:revision>
  <dc:subject/>
  <dc:title>TRAKTAT WERSALSKI</dc:title>
</cp:coreProperties>
</file>