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765C-C8AE-47F5-9E2A-D46DF1BBB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10F5-F726-45AF-9A00-869080E12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1B34-01C1-4770-8220-53F6A593B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6708-285F-43C9-99F3-7548BCAE4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8ED3-F785-40A4-8080-C29FCAC8C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BFCF-313C-496A-A1C1-BC57D0F4A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044E-47D2-4AF5-AF03-F84FE9E81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9EDE-AFBB-46A4-BB4A-9B1085006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1DAB-8755-4B45-BCDE-7DEAE669D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2C7F-7054-4D24-AB83-503F41F6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74B2-C41F-48A5-AC9A-2E0449A2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431C-EA5C-4451-AD03-2794FD50E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8480F-5018-4CEC-8B5E-564A890C394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C:\Documents and Settings\JLubecka\Ustawienia lokalne\Temporary Internet Files\Content.IE5\AJY4M1XL\Witos.pp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396720" y="11592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611280" y="1557360"/>
            <a:ext cx="7704000" cy="30351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alibri"/>
              </a:rPr>
              <a:t>Utworzona w 28.10.1918 roku w Krakowie jako efekt inicjatyw politycznych tzw. Koła Polskiego w parlamencie Austro-Węgi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alibri"/>
              </a:rPr>
              <a:t>W jej skład weszli m.in. </a:t>
            </a:r>
            <a:r>
              <a:rPr b="0" lang="pl-PL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incenty Witos</a:t>
            </a:r>
            <a:r>
              <a:rPr b="0" lang="pl-PL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Calibri"/>
              </a:rPr>
              <a:t>i Ignacy Daszyńsk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alibri"/>
              </a:rPr>
              <a:t>Po wycofaniu się wojsk austriackich od 31.10.1918 roku przejęła faktyczną władzę w Małopolsce Zachodnie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7T11:55:21Z</dcterms:created>
  <dc:creator>rena</dc:creator>
  <dc:description/>
  <dc:language>en-US</dc:language>
  <cp:lastModifiedBy>IB</cp:lastModifiedBy>
  <dcterms:modified xsi:type="dcterms:W3CDTF">2013-03-14T17:24:04Z</dcterms:modified>
  <cp:revision>6</cp:revision>
  <dc:subject/>
  <dc:title>PowerPoint Presentation</dc:title>
</cp:coreProperties>
</file>