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116B-F00B-40EA-BA91-BDD2964A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1F5-C700-44EE-8178-7EDB037DE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EEC3-5DFA-43B6-86B7-AA8353B74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62D-AA80-4F68-9511-ED47FCE58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31E3-B773-41E2-9381-CAE70FFD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C19-397F-474D-A324-55EC6186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C573-B927-4B2C-85F3-4B2D21EE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5FB-BF6A-4565-9D6C-FE1D0B5F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8BF7-B03C-4C7B-9345-533B89DE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A9DC-C57C-4FC1-B204-0919357D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C3E7-F381-4F08-914F-8C8FD525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BA28-73AD-4FAC-BDCE-62019172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DB24-FD44-4127-A295-76795A6A366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60480"/>
            <a:ext cx="8229600" cy="1390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84360" y="1557360"/>
            <a:ext cx="7561080" cy="3400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Utworzony w dniu 7.11.1918 roku w Lublinie z inicjatywy ugrupowań lewicowych: Polskiej Partii Socjalistycznej, Polskiej Partii Socjaldemokratycznej, części Polskiego Stronnictwa Ludowego „Wyzwoleni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Na czele TRL stanął Ignacy Daszyńs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Rząd nie był akceptowany przez pozostałe ugrupowania polityczne, niechętne ideom lewicowym a jego wpływy ograniczały się do terenu Lubl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59:24Z</dcterms:created>
  <dc:creator>rena</dc:creator>
  <dc:description/>
  <dc:language>en-US</dc:language>
  <cp:lastModifiedBy>IB</cp:lastModifiedBy>
  <dcterms:modified xsi:type="dcterms:W3CDTF">2013-03-14T17:27:33Z</dcterms:modified>
  <cp:revision>6</cp:revision>
  <dc:subject/>
  <dc:title>PowerPoint Presentation</dc:title>
</cp:coreProperties>
</file>