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8261-2082-4B1B-A6AA-969E81EA5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C67D-82F8-4B55-A990-A9E366B4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0551-3CC6-437D-8C64-7DFDFE68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FD4-2130-48C3-9573-AF3BD75C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C782-5A04-4696-9358-8A99FDB1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B9B8-CE69-4AA0-8EBC-119F4CB9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992-2F40-4B84-BA68-1C282F8C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593-9462-41E8-8DCD-514D80B9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1F3-8F28-4120-97B0-121A015BF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EB0-6C5E-49C5-83F2-A41FBA30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18B2-CA35-4300-9A44-5F2F9E3F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47DB-4706-406E-BF84-6FCE00AE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E723-5653-4DF1-9537-4EC16C13FC16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524680" y="5873760"/>
            <a:ext cx="397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9.08.1864 – 2.01.1939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Dmowski"/>
          <p:cNvPicPr/>
          <p:nvPr/>
        </p:nvPicPr>
        <p:blipFill>
          <a:blip r:embed="rId1"/>
          <a:stretch/>
        </p:blipFill>
        <p:spPr>
          <a:xfrm>
            <a:off x="2484360" y="189000"/>
            <a:ext cx="3694320" cy="55324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208320" y="64342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36:41Z</dcterms:created>
  <dc:creator>IB</dc:creator>
  <dc:description/>
  <dc:language>en-US</dc:language>
  <cp:lastModifiedBy>rena</cp:lastModifiedBy>
  <dcterms:modified xsi:type="dcterms:W3CDTF">2013-03-05T18:46:53Z</dcterms:modified>
  <cp:revision>7</cp:revision>
  <dc:subject/>
  <dc:title>Slajd 1</dc:title>
</cp:coreProperties>
</file>