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FED6-0C04-4866-9F44-67AC178D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C82D-271D-4F4D-9E66-8AAE2244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188-496E-4BD0-8315-166116BE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89D7-6FF2-4458-B447-3D80AF9F1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818F-D3BF-454C-B6EC-DE66E8EC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126-F05E-400E-A8D5-9D6CDE2F8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FB3-C7C5-4426-96B1-BC98FFAA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0BE6-50D9-4D77-B483-BBF349DF5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741-8E89-4263-ADC4-C270CE68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939C-FB5A-49FB-9535-8A145AB9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F1B6-FAAC-4DA6-8ED1-EEDA7768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7906-556F-48D4-B3DB-63530B96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EB88-96FD-449B-B10F-367756362D4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0600" y="10944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2771640" y="1197000"/>
            <a:ext cx="2833920" cy="437040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2611440" y="57135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20.04.1873 – 17.08.193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203640" y="62136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21:02:54Z</dcterms:created>
  <dc:creator>rena</dc:creator>
  <dc:description/>
  <dc:language>en-US</dc:language>
  <cp:lastModifiedBy>Andrzej</cp:lastModifiedBy>
  <dcterms:modified xsi:type="dcterms:W3CDTF">2013-07-20T06:20:33Z</dcterms:modified>
  <cp:revision>4</cp:revision>
  <dc:subject/>
  <dc:title>IGNACY MOŚCICKI</dc:title>
</cp:coreProperties>
</file>