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BC2-0ECD-4300-BB63-42B265AA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71C-183E-4FE5-B864-A765229F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251E-B0B4-42EB-946D-FBB9152B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BA0A-DE27-4F8F-A6C5-12AF426F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48A5-8C67-41C9-9BC3-069FF6A7F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2A16-0B32-4DAB-BC81-62FB34E30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9946-AE80-4B49-BA30-531939F2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DD6-3872-432B-A15F-3BAF88AF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8B5-0FAE-4C11-A4A3-AAEBD979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81DA-2283-4B25-A54C-5FD14E248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6141-576D-4E7F-9822-93777E48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06E-1F88-4324-A7DA-CCD84CCE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32C0-0CA0-4F47-A247-D0D03397ECDC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416320" y="5873760"/>
            <a:ext cx="418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17.03.1865 - 16.12.19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Narutowicz"/>
          <p:cNvPicPr/>
          <p:nvPr/>
        </p:nvPicPr>
        <p:blipFill>
          <a:blip r:embed="rId1"/>
          <a:stretch/>
        </p:blipFill>
        <p:spPr>
          <a:xfrm>
            <a:off x="2484360" y="476280"/>
            <a:ext cx="3832200" cy="5165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3321000" y="644688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6:36:41Z</dcterms:created>
  <dc:creator>IB</dc:creator>
  <dc:description/>
  <dc:language>en-US</dc:language>
  <cp:lastModifiedBy>rena</cp:lastModifiedBy>
  <dcterms:modified xsi:type="dcterms:W3CDTF">2013-03-05T18:41:53Z</dcterms:modified>
  <cp:revision>6</cp:revision>
  <dc:subject/>
  <dc:title>Slajd 1</dc:title>
</cp:coreProperties>
</file>