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81E7-F200-401F-AC68-54914FF1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34E-FB6B-434F-9E11-780562F1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E93-D5BF-48C9-B597-C86DCCF2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1A6-6B6C-4CD2-AF05-A6BBAB41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2E5C-E049-44C1-91D9-1643F2DD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E950-75FB-4F8D-B224-F0404E69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45EA-3244-4C71-B92E-4DE34B75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8186-3C42-4A7D-9A8E-A23CB924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FDB-CD02-470D-AE80-A3C77B39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AC1D-F134-43FA-8E57-4F5518B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ED5-48EC-4196-A465-6B6F76F7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D1A-4945-4D39-B48D-AD1DE494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5A00-B953-4FA7-96D4-E5E40090C25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979640" y="2708280"/>
            <a:ext cx="56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1f497d"/>
                </a:solidFill>
                <a:latin typeface="Arial"/>
              </a:rPr>
              <a:t>Powrót do granic przedrozbiorowych. Ponadto utworzenie w Europie wschodniej bloku niepodległych państw: Ukrainy, Białorusi, Litwy stanowiących zaporę dla ekspansji ZS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0:17Z</dcterms:created>
  <dc:creator>rjuraszczyk</dc:creator>
  <dc:description/>
  <dc:language>en-US</dc:language>
  <cp:lastModifiedBy>IB</cp:lastModifiedBy>
  <dcterms:modified xsi:type="dcterms:W3CDTF">2013-03-14T17:20:25Z</dcterms:modified>
  <cp:revision>5</cp:revision>
  <dc:subject/>
  <dc:title>Koncepcja granic Józefa Piłsudsiego</dc:title>
</cp:coreProperties>
</file>