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EBE-824B-4938-83E1-C5BB96FB5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8D3-5B1F-4791-ACD5-326C3491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0588-C0C7-40FF-B18B-F36441FB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06EF-B5CC-47A3-B6FB-FDD765A0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DEC-FA46-49E3-9BDE-F3020D20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558-04D6-4B79-A8E2-E9B6BAA3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3F9F-56EC-41C8-88B9-CC00698A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E28-1B86-4E81-BF30-BB1B7D7B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85D-9A2D-4483-9898-6FA436AD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40FA-1DF5-483E-8B93-388E36E4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6935-F04C-448A-B7B3-D6277B52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D87-D737-4967-BAC1-3E0D43E8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0E45-870F-46E4-AC1B-8ABC764942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JLubecka\Ustawienia lokalne\Temporary Internet Files\Content.IE5\AJY4M1XL\Roman Dmowski.pp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39640" y="1413000"/>
            <a:ext cx="7632720" cy="42292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Utworzony został 15.08.1917 roku w Lozannie z inicjatywy </a:t>
            </a:r>
            <a:r>
              <a:rPr b="0" lang="pl-PL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Romana Dmowskiego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. Siedzibą Komitetu był Pary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skład Komitetu wchodzili m.in. Ignacy Jan Paderewski, Erazm Piltz, Stanisław Kozicki, Marian Seyda, Maurycy Zamoy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Celem Komitetu było organizowanie Armii Polskiej we Francji oraz współpraca z rządami Francji, Wielkiej Brytanii, Włoch, i USA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kwestii reprezentowania interesów odradzającego się państwa Polskie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Po utworzeniu w styczniu 1919 roku rządu Ignacego Paderewskiego, Komitet stał się oficjalnym reprezentantem rządu Polskiego podczas Paryskiej Konferencji Pokojowej oraz rzecznikiem jego interesów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Calibri"/>
              </a:rPr>
              <a:t>w trakcie Wersalsk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11:51:01Z</dcterms:created>
  <dc:creator>rena</dc:creator>
  <dc:description/>
  <dc:language>en-US</dc:language>
  <cp:lastModifiedBy>IB</cp:lastModifiedBy>
  <dcterms:modified xsi:type="dcterms:W3CDTF">2013-03-14T17:05:13Z</dcterms:modified>
  <cp:revision>10</cp:revision>
  <dc:subject/>
  <dc:title>PowerPoint Presentation</dc:title>
</cp:coreProperties>
</file>