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503-17DA-46E9-BC3E-D8920CB4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0B4-7831-47D0-87C1-2FD5D2D8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B362-229F-4EA9-8FBF-BE7DF987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6315-2E99-4FD2-892F-68624E7A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143-5294-4B35-81BB-1072B878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D99-BC8B-498C-A58E-8CA9A4B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A9A-C7D1-4074-9858-328053E2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CAB4-967E-465E-868E-B234C735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B0C-7948-4819-992B-FE7F5EF3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46AC-B778-4E11-AE4B-0D21DE8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B0D5-50BB-497F-B8C3-C0DB6EB9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02F-1AD4-48D9-8386-EDE83E1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821CC-F0E6-4E4E-B6FF-1FE789B991B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61160" y="5688000"/>
            <a:ext cx="455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6 lub 18.11.1860 – 29.06.19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aderewski"/>
          <p:cNvPicPr/>
          <p:nvPr/>
        </p:nvPicPr>
        <p:blipFill>
          <a:blip r:embed="rId1"/>
          <a:stretch/>
        </p:blipFill>
        <p:spPr>
          <a:xfrm>
            <a:off x="2700360" y="620640"/>
            <a:ext cx="3672000" cy="461808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48000" y="64468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0:57Z</dcterms:modified>
  <cp:revision>3</cp:revision>
  <dc:subject/>
  <dc:title>Slajd 1</dc:title>
</cp:coreProperties>
</file>