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772-80CD-46EF-9F79-AFE22C7A2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3FFB-41C6-46E4-B6C6-ECF2DEBDC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FC35-5BCC-4B60-91E9-9CE74421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835-B3E4-462E-BEA9-04FE97652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704C-720A-4B7F-96D4-E9757C55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F719-4CF4-44EF-9ECD-89AD3258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30CF-1D6F-4538-A4C8-507828C0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AA69-A0E9-41BD-BC77-8AAE2A88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BCE-9A4C-4111-BA41-143BDB84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8AA-13A0-4FDC-BE0E-CC220D2F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7043-0C84-4C83-8EBD-D5FADDCE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E25B-2175-4894-B360-DE5A5195C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1D0A-F5B2-45B4-A079-B4D81CEC2D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600120" y="1413000"/>
            <a:ext cx="7643880" cy="40831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a w 19.10.1918 roku w Cieszy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Dążyła do przejęcia władzy na terenach byłego Księstwa Cieszyńskiego po upadku Cesarstwa Austro-Węgi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grudniu 1918 powołała Tymczasowy Rząd Krajowy Księstwa Cieszyń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 okresie walk pomiędzy wojskiem polskim i oddziałami czechosłowackimi na początku 1919 dążyła, przy wsparciu sił alianckich, do przeprowadzenia plebiscytu na spornych terytori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obliczu niemożności rozwiązania konfliktu oraz po przejęciu części spornych terenów Śląska Cieszyńskiego przez polską administrację centralną, w lipcu 1920 roku uległa rozwiązan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8:42Z</dcterms:created>
  <dc:creator>rena</dc:creator>
  <dc:description/>
  <dc:language>en-US</dc:language>
  <cp:lastModifiedBy>IB</cp:lastModifiedBy>
  <dcterms:modified xsi:type="dcterms:W3CDTF">2013-03-14T17:24:50Z</dcterms:modified>
  <cp:revision>7</cp:revision>
  <dc:subject/>
  <dc:title>Rada Narodowa Księstwa Cieszyńskiego</dc:title>
</cp:coreProperties>
</file>