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1.png" ContentType="image/png"/>
  <Override PartName="/ppt/media/image9.png" ContentType="image/png"/>
  <Override PartName="/ppt/media/image8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37F8-C3B5-4B61-BBC0-3538E0A227C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481E-D75A-4DF5-A2E0-1C13AFD4F2E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67B1-C688-41D4-9988-329809211F2F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5387-833F-4DA1-96DB-8623AD39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C2A-F7EC-473D-A17E-028A98E5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E9C-AF76-499D-9132-00116493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52FE-DCF3-4029-840A-61BEB07C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F438-DCC4-496A-8587-E47C97842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32522-6DB2-4381-8F49-D07C1CE2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57C9-6212-4FF2-892E-24E4AA98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749F-FCBE-486F-8719-29C37361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1FA5-A2EE-4204-8E75-AA24AF6C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447A-E02B-44B5-B87F-8C40CBDD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EEEB-9DA6-4AC9-92A1-2A1F781E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7399-BBA7-4F7F-9FDF-33CB3AF9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F5E9-B9B6-4CA5-9366-0A8F8BFC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83F66-A547-4624-9C7C-8BFF13AA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14381-EF7A-4068-8827-A7AD347A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5F405-34BE-4EC6-A50C-08EF53163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C0BA-BE2C-4A8F-92B4-398DD859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E658-DF79-416F-A854-64D30248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113A-994D-4ABA-9AA7-3F38B0C8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EA37-41E1-43CE-81D0-BA40EF8A1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30C8-02B0-4BF4-9E7D-29B07E71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D6FA-7F47-4587-A216-9443ED7A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2755-1720-48DA-B05B-C86E8BDA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42D8-394E-4002-8798-989F8122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6620-3C23-4266-89CF-6C944B556AB8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2"/>
          <a:stretch/>
        </p:blipFill>
        <p:spPr>
          <a:xfrm>
            <a:off x="0" y="5979960"/>
            <a:ext cx="9144000" cy="9050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45" name="Obraz 2" descr="stopka_poz.gif"/>
          <p:cNvPicPr/>
          <p:nvPr/>
        </p:nvPicPr>
        <p:blipFill>
          <a:blip r:embed="rId4"/>
          <a:stretch/>
        </p:blipFill>
        <p:spPr>
          <a:xfrm>
            <a:off x="0" y="595152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46" name="Obraz 9" descr="nagłówek_poz.gif"/>
          <p:cNvPicPr/>
          <p:nvPr/>
        </p:nvPicPr>
        <p:blipFill>
          <a:blip r:embed="rId5"/>
          <a:stretch/>
        </p:blipFill>
        <p:spPr>
          <a:xfrm>
            <a:off x="0" y="0"/>
            <a:ext cx="9144000" cy="11253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FF9E-40BF-4955-8080-F25CAFAF2A86}" type="slidenum">
              <a:rPr b="0" lang="pl-P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swiat-innaczej.blog.onet.pl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metromsn.gazeta.pl/Lifestyle/1,126513,13600030,Od_lipca_rusza_refundacja_zabiegow_in_vitro__Z_programu.html" TargetMode="External"/><Relationship Id="rId3" Type="http://schemas.openxmlformats.org/officeDocument/2006/relationships/hyperlink" Target="http://metromsn.gazeta.pl/Lifestyle/1,126513,13600030,Od_lipca_rusza_refundacja_zabiegow_in_vitro__Z_programu.html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farmio.com/wady-i-zalety-gmo-wedlug-przeciwnikow-i-zwolennikow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naukawpolsce.pap.pl/aktualnosci/news,393631,o-bakteriach-i-hodowli-in-vitro-podczas-nocy-biologow-w-lublinie.html" TargetMode="External"/><Relationship Id="rId3" Type="http://schemas.openxmlformats.org/officeDocument/2006/relationships/hyperlink" Target="http://www.naukawpolsce.pap.pl/aktualnosci/news,393631,o-bakteriach-i-hodowli-in-vitro-podczas-nocy-biologow-w-lublinie.html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m.onet.pl/wiedza-swiat/nauka,x5mgf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6000" y="1591920"/>
            <a:ext cx="795636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Czy nauka dziś nie budzi wątpliwości?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odtytuł 2"/>
          <p:cNvSpPr/>
          <p:nvPr/>
        </p:nvSpPr>
        <p:spPr>
          <a:xfrm>
            <a:off x="111600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898989"/>
                </a:solidFill>
                <a:latin typeface="Calibri"/>
              </a:rPr>
              <a:t>Bartosz Rzoń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lonowanie zwierząt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rgumenty przeciwników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ylematy natury moralnej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achwianie idei różnorodności gatunkowej przy klonowaniu na dużą skalę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lonowanie jest bardzo kosztown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klonowany organizm  ma taki sam wiek genetyczny jak dawc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odatność na chorob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A Ty jak uważasz? Pomyśl chwilę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1" descr="C:\Program Files\Microsoft Office\MEDIA\CAGCAT10\j0195812.wmf"/>
          <p:cNvPicPr/>
          <p:nvPr/>
        </p:nvPicPr>
        <p:blipFill>
          <a:blip r:embed="rId1"/>
          <a:stretch/>
        </p:blipFill>
        <p:spPr>
          <a:xfrm>
            <a:off x="6443640" y="260280"/>
            <a:ext cx="17510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lonowanie zwierząt, to trudna kwestia,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budząca wiele wątpliwości, 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klonowanie ludzi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Czy to w ogóle jest możliwe…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Powody, dla których aktualnie prowadzi się badania nad klonowaniem ludzi, są następujące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adzieje na otrzymanie naturalnych implantów (np. skóry) i organów do przeszczepu, które, dzięki temu, że będą identyczne genetyczni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 tkankami chorego, nie będą odrzucane przez system immunologiczn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wadzenie badań nad biochemicznym mechanizmem starze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możliwościami cofania lub zatrzymywania tego procesu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wijanie technik sztucznego zapłodnienia – umożliwiające urodzenie dziecka, które posiada geny przynajmniej jednego z rodzic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ożliwość ponownego urodzenia noworodków, które są zdrowe genetycznie, ale zostały nieodwracalnie uszkodzone na skutek ciężkiego przebiegu ciąży lub porod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Skrajnymi, ale potencjalnie wykonalnymi celami technik klonowania ludzi są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asowa produkcja klonów, w celu np. tworzenia z nich zastępów tanich żołnierzy albo niewolnik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dukcja klonów pozbawionych mózgu w celu używania ich jako „zapasowych ciał”. W razie np. nieuleczalnej choroby albo śmierci na skutek urazu istniałaby możliwość wszczepienia mózgu do organizmu „pustego” klona i dalsze życi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dukcja dorosłych klonów w celu pozyskiwania z nich cennych organów do przeszczep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dukcja klonów jako forma świadomego sterowania cechami potomstwa - np. zamiast rodzić „niepewne genetycznie” dzieci, można by mieć dziecko-klona – identycznego ze sobą samym lub innym członkiem rodziny, lub „zamówić” sobie dziecko – klona osoby obdarzonej szczególnymi talent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westia</a:t>
            </a: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aw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Aktualnie w większości krajów wysoko rozwiniętych  zakazano prowadzenia badań nad klonowaniem ludzi w celu ich powielani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awo dopuszcza jednak w mniejszym lub większym stopniu, na bad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 klonowaniem tkanek i embrionów ludzkich w celach medycznyc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lecenie dla uczni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Sięgnij do materiałów do dyskusji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poznaj się z treścią artykułów i zrób notatki. Zastanów się, czy prowadzić nadal badania nad klonowaniem ludzi. Jakie mogą być plusy, jakie zagrożenia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Jakie jest Twoje zdani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" descr="C:\Program Files\Microsoft Office\MEDIA\CAGCAT10\j0195812.wmf"/>
          <p:cNvPicPr/>
          <p:nvPr/>
        </p:nvPicPr>
        <p:blipFill>
          <a:blip r:embed="rId1"/>
          <a:stretch/>
        </p:blipFill>
        <p:spPr>
          <a:xfrm>
            <a:off x="7093080" y="260280"/>
            <a:ext cx="17510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G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rganizmy zmodyfikowane genetycznie (GMO od ang. Genetically Modified Organisms) = organizmy transgeniczne- to organizmy, których geny zostały celowo zmienione przez człowieka. Organizmy te zostały zmienione przy pomocy metod inżynierii genetycznej, w celu uzyskania nowych lub zmiany naturalnych cech fizjologiczny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Historia GMO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adania nad genetycznie modyfikowanymi organizmami rozpoczęt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latach 70 ubiegłego wieku. Na dużą skalę zaczęto sprzedaż komercyjną dopiero w roku 1994 w Stanach Zjednoczonych. Dopuszczono wtedy do sprzedaży pomidory, wyprodukowane przez firmę Calgen, z Kalifornii. Ich sprzedaż prowadzona była tylko przez kilka lat, gdyż produkcja okazała się nieopłacalna. Zmniejszono w nich aktywność genu odpowiadającego za proces dojrzewania i mięknięcia pomidora, co pozwoliło na dłuższą przydatność do spożycia, zachowanie lepszego smaku i możliwość sprzedaży w wyższych cenach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68000" y="148428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Uprawy GMO znajdują się już w 28 krajach na świecie, ale zdecydowanym liderem w zakresie ich powierzchni są nieprzerwanie Stany Zjednoczone. Poza tymi 28 krajami, 31 państw – w tym Polska – dopuszcza import produktów GM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360" y="4581000"/>
            <a:ext cx="4041720" cy="35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2000"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100" spc="-1" strike="noStrike">
                <a:solidFill>
                  <a:srgbClr val="000000"/>
                </a:solidFill>
                <a:latin typeface="Calibri"/>
              </a:rPr>
              <a:t>Rys.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wiat-innaczej.blog.onet.pl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2"/>
          <a:stretch/>
        </p:blipFill>
        <p:spPr>
          <a:xfrm>
            <a:off x="5508720" y="1773360"/>
            <a:ext cx="270036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APŁODNIENIE </a:t>
            </a:r>
            <a:r>
              <a:rPr b="1" i="1" lang="pl-PL" sz="4400" spc="-1" strike="noStrike">
                <a:solidFill>
                  <a:srgbClr val="000000"/>
                </a:solidFill>
                <a:latin typeface="Calibri"/>
              </a:rPr>
              <a:t>IN VITR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metoda zapłodnienia, polegająca na doprowadzeniu do połączenia komórki jajowej i plemnika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w warunkach laboratoryjnych, poza żeńskim układem rozrodczy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778280" y="2492280"/>
            <a:ext cx="3194280" cy="212580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6"/>
          <p:cNvSpPr/>
          <p:nvPr/>
        </p:nvSpPr>
        <p:spPr>
          <a:xfrm>
            <a:off x="4716360" y="4653000"/>
            <a:ext cx="3959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etromsn.gazeta.pl/Lifestyle/1,126513,13600030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Od_lipca_rusza_refundacja_zabiegow_in_vitro__Z_programu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Czy GMO są dobre, czy zł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Jak w większości trudnych zagadnień znajdziemy wielu zwolenników, a także zagorzałych przeciwników, spierających się na argument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219640" y="191628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145" name="pole tekstowe 10"/>
          <p:cNvSpPr/>
          <p:nvPr/>
        </p:nvSpPr>
        <p:spPr>
          <a:xfrm>
            <a:off x="5292720" y="4869000"/>
            <a:ext cx="41752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farmio.com/wady-i-zalety-gmo-wedlug-przeciwnikow-i-zwolennikow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wolennicy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ytwarzanie roślin bardziej odpornych na trudne warunki atmosferyczne- suszę, mróz, zasolenie- co pozwoli na utrzymanie produkcji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nacznie większa odporność na chorob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większenie plonów, na stosunkowo mniejszej powierzchni ziemi, co powoduje mniejsze koszty upraw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szczędność paliwa, czasu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maszyn, w związku ze znacznie mniejszym stosowaniem pestycyd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5003640" y="2852640"/>
            <a:ext cx="3265560" cy="1327320"/>
          </a:xfrm>
          <a:prstGeom prst="rect">
            <a:avLst/>
          </a:prstGeom>
          <a:ln w="0">
            <a:noFill/>
          </a:ln>
        </p:spPr>
      </p:pic>
      <p:sp>
        <p:nvSpPr>
          <p:cNvPr id="149" name="pole tekstowe 5"/>
          <p:cNvSpPr/>
          <p:nvPr/>
        </p:nvSpPr>
        <p:spPr>
          <a:xfrm>
            <a:off x="5003640" y="4221000"/>
            <a:ext cx="4140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http://odkrywcy.pl/kat,111404,title,Zwolennicy-GMO-prof-Weglenski,wid,13707963,wiadomosc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wolenn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36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żywanie mniejszej ilości nawozów, płytsza orka i mniejsze zużycie wody, w związku z tym zmniejszenie erozji gleby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krajach, gdzie brakuje żywności oraz w tych z wysokim zaludnieniem, wzrost plon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polepszenie jakości produktu pomogą likwidować głó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obniżenie kosztów produkcji szczepionek- tworzenie roślin zdolnych do produkcji szczepionek, hormonów, bądź innych związków wykorzystywanych w przemyśle farmaceutycznym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kosmetyczny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42920" y="1341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dukcja zmodyfikowanych roślin przeznaczonych do rekultywacji nieużytków poprzemysłowych (na przykład hałd), bądź roślin przeznaczonych do oczyszczania wó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łuższy termin przydatności do spożyci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5148360" y="4221000"/>
            <a:ext cx="2944800" cy="1944720"/>
          </a:xfrm>
          <a:prstGeom prst="rect">
            <a:avLst/>
          </a:prstGeom>
          <a:ln w="0">
            <a:noFill/>
          </a:ln>
        </p:spPr>
      </p:pic>
      <p:sp>
        <p:nvSpPr>
          <p:cNvPr id="154" name="pole tekstowe 6"/>
          <p:cNvSpPr/>
          <p:nvPr/>
        </p:nvSpPr>
        <p:spPr>
          <a:xfrm>
            <a:off x="5148360" y="6308640"/>
            <a:ext cx="3995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6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http://www.twojaeuropa.pl/259/gmo—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-blogoslawienstwo-czy-przeklenstw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wolenn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dukcja żywności wzbogaconej o białka, witaminy i inne produkty odżywcz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łatwość masowego przemysłowego uprawiani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działania dotyczące ochrony środowisk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odukcja biopaliw z GMO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 zwiększenie bezpieczeństwa energetycznego.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ezydium Polskiej Akademii Nauk stoi na stanowisku, ż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GMO zwiększa produkcję pasz       i żywności o lepszych walorach odżywczych i zdrowotnych, zmniejsza energochłonność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i chemizację rolnictwa oraz jest wykorzystywane w produkcji bioleków, bioenergii </a:t>
            </a:r>
            <a:br>
              <a:rPr sz="2000"/>
            </a:br>
            <a:r>
              <a:rPr b="0" i="1" lang="pl-PL" sz="2000" spc="-1" strike="noStrike">
                <a:solidFill>
                  <a:srgbClr val="000000"/>
                </a:solidFill>
                <a:latin typeface="Calibri"/>
              </a:rPr>
              <a:t>i biomateriałów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GMO tomato. Genetically modified food concept"/>
          <p:cNvPicPr/>
          <p:nvPr/>
        </p:nvPicPr>
        <p:blipFill>
          <a:blip r:embed="rId1"/>
          <a:stretch/>
        </p:blipFill>
        <p:spPr>
          <a:xfrm>
            <a:off x="6875640" y="4508640"/>
            <a:ext cx="1882440" cy="1800000"/>
          </a:xfrm>
          <a:prstGeom prst="rect">
            <a:avLst/>
          </a:prstGeom>
          <a:ln w="0">
            <a:noFill/>
          </a:ln>
        </p:spPr>
      </p:pic>
      <p:sp>
        <p:nvSpPr>
          <p:cNvPr id="159" name="Prostokąt 6"/>
          <p:cNvSpPr/>
          <p:nvPr/>
        </p:nvSpPr>
        <p:spPr>
          <a:xfrm>
            <a:off x="6804000" y="6021360"/>
            <a:ext cx="20890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7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 http://mw.biz.pl/gmo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eciwn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zprzestrzenianie się zmodyfikowanych genów na inne rośliny rosnące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sąsiedztwie, bądź na inne organizmy żyw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przejście genów odpowiedzialnych za odporność do chwastów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powstanie w ten sposób chwastów bardzo mocnych, trudnych do pokonani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yzyko dla owadów zapylających kwiaty roślin zmodyfikowany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(osy, pszczoły, trzmiele)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bezpieczeństwo związane z przepływem toksyn z roślin do gleby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stworzenie zagrożenia dla żyjących w niej zwierząt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6516720" y="4292640"/>
            <a:ext cx="2109600" cy="2141640"/>
          </a:xfrm>
          <a:prstGeom prst="rect">
            <a:avLst/>
          </a:prstGeom>
          <a:ln w="0">
            <a:noFill/>
          </a:ln>
        </p:spPr>
      </p:pic>
      <p:sp>
        <p:nvSpPr>
          <p:cNvPr id="163" name="pole tekstowe 6"/>
          <p:cNvSpPr/>
          <p:nvPr/>
        </p:nvSpPr>
        <p:spPr>
          <a:xfrm>
            <a:off x="6443640" y="6453360"/>
            <a:ext cx="27003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http://ecowawa.pl/index.php/artykuly/id/2/2098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eciwn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niekorzystny wpływ na bioróżnorodność organizm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prawy etyczne stosowania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uprawie roślin transgenicznych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ożliwy negatywny wpływ GMO na zdrowie człowieka, m.in. częstsze występowanie alergi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zależnienie rolników od korporacji biotechnologicznych, będących właścicielami patentów na nasion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wetodlagmo.pl/index.php/do-pobrania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5292720" y="1628640"/>
            <a:ext cx="251928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rzeciwn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rzyszłości mogą występować mutacj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zubożenie gatunków rośli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rak możliwości odwrócenia skutków GMO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geny odpornościowe dodawane roślinom, mogą zwiększać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u człowieka odporność na antybiotyk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5003640" y="1898640"/>
            <a:ext cx="2857680" cy="1981080"/>
          </a:xfrm>
          <a:prstGeom prst="rect">
            <a:avLst/>
          </a:prstGeom>
          <a:ln w="0">
            <a:noFill/>
          </a:ln>
        </p:spPr>
      </p:pic>
      <p:sp>
        <p:nvSpPr>
          <p:cNvPr id="171" name="pole tekstowe 6"/>
          <p:cNvSpPr/>
          <p:nvPr/>
        </p:nvSpPr>
        <p:spPr>
          <a:xfrm>
            <a:off x="5003640" y="3933720"/>
            <a:ext cx="32403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1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http://nonx.pl/czy-unia-europejska-czy-rzad-rp-niszczy-polskie-rolnictwo-skazujac-polakow-na-korporacyjneniewolnictwo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/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lecenie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dla ucznió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A Ty jak sądzisz? Po której stronie się opowiadasz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Zastanów się, przygotuj swoje argumenty do dyskusji i zapisz je skrótowo w materiałach, które otrzymałeś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000" spc="-1" strike="noStrike">
                <a:solidFill>
                  <a:srgbClr val="000000"/>
                </a:solidFill>
                <a:latin typeface="Calibri"/>
              </a:rPr>
              <a:t>Śmiało, wyraź swoje zdanie!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1" descr="C:\Program Files\Microsoft Office\MEDIA\CAGCAT10\j0195812.wmf"/>
          <p:cNvPicPr/>
          <p:nvPr/>
        </p:nvPicPr>
        <p:blipFill>
          <a:blip r:embed="rId1"/>
          <a:stretch/>
        </p:blipFill>
        <p:spPr>
          <a:xfrm>
            <a:off x="7020000" y="189000"/>
            <a:ext cx="17510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Zapraszam do dyskusji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C:\Documents and Settings\Olguś\Ustawienia lokalne\Temporary Internet Files\Content.IE5\EMGI2Y4V\MC900441762[1].png"/>
          <p:cNvPicPr/>
          <p:nvPr/>
        </p:nvPicPr>
        <p:blipFill>
          <a:blip r:embed="rId1"/>
          <a:stretch/>
        </p:blipFill>
        <p:spPr>
          <a:xfrm>
            <a:off x="5796000" y="1268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Documents and Settings\Olguś\Ustawienia lokalne\Temporary Internet Files\Content.IE5\5WV84BV5\MC900441755[1].png"/>
          <p:cNvPicPr/>
          <p:nvPr/>
        </p:nvPicPr>
        <p:blipFill>
          <a:blip r:embed="rId2"/>
          <a:stretch/>
        </p:blipFill>
        <p:spPr>
          <a:xfrm>
            <a:off x="611280" y="134136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Olguś\Ustawienia lokalne\Temporary Internet Files\Content.IE5\VOURK1VJ\MC900389218[1].wmf"/>
          <p:cNvPicPr/>
          <p:nvPr/>
        </p:nvPicPr>
        <p:blipFill>
          <a:blip r:embed="rId3"/>
          <a:stretch/>
        </p:blipFill>
        <p:spPr>
          <a:xfrm>
            <a:off x="3635280" y="3357720"/>
            <a:ext cx="194472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1844280"/>
            <a:ext cx="914400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900" spc="-1" strike="noStrike">
                <a:solidFill>
                  <a:srgbClr val="000000"/>
                </a:solidFill>
                <a:latin typeface="Calibri"/>
              </a:rPr>
              <a:t>Dziękuję za uwagę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Trochę histo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ŚWI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ukces zapłodnienia in vitro został odniesiony przez Roberta Edwardsa, fizjologa z Cambridge we współpracy z ginekologiem-położnikiem Patrickiem Stepto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lipcu 1978 roku na świat przyszła w Wielkiej Brytanii Louise J. Brown, pierwsze „dziecko z probówki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Robert Edwards w 2010 roku otrzymał Nagrodę Nobla w dziedzinie fizjologii i medycyny za to odkryci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Calibri"/>
              </a:rPr>
              <a:t>POLSKA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Polsce, pierwsze dziecko metodą zapłodnienia  in vitro przyszło na świat 9 lat po pierwszych takich narodzinach na świecie, w 1987 roku w Klinice Ginekologii Akademii Medycznej, w Białymstoku, kierowanej przez prof. Mariana Szamatowicz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westia spor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In vitro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nadal pozostaje w naszym kraju kwestią sporną. Po jednej stronie mamy naukowców, którzy swoje poparcie uzasadniają tym, że bezpłodność jest chorobą, a zapłodnienie </a:t>
            </a:r>
            <a:r>
              <a:rPr b="0" i="1" lang="pl-PL" sz="2800" spc="-1" strike="noStrike">
                <a:solidFill>
                  <a:srgbClr val="000000"/>
                </a:solidFill>
                <a:latin typeface="Calibri"/>
              </a:rPr>
              <a:t>in vitro </a:t>
            </a: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to nic innego jak metoda leczenia, a w opozycji znajduje się Kościół katolicki, dla którego jest to łamanie praw naturalnych i boży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" descr="C:\Documents and Settings\Olguś\Pulpit\grafika\2.jpg"/>
          <p:cNvPicPr/>
          <p:nvPr/>
        </p:nvPicPr>
        <p:blipFill>
          <a:blip r:embed="rId1"/>
          <a:stretch/>
        </p:blipFill>
        <p:spPr>
          <a:xfrm>
            <a:off x="5580000" y="3933720"/>
            <a:ext cx="3265560" cy="2165400"/>
          </a:xfrm>
          <a:prstGeom prst="rect">
            <a:avLst/>
          </a:prstGeom>
          <a:ln w="0">
            <a:noFill/>
          </a:ln>
        </p:spPr>
      </p:pic>
      <p:sp>
        <p:nvSpPr>
          <p:cNvPr id="107" name="pole tekstowe 4"/>
          <p:cNvSpPr/>
          <p:nvPr/>
        </p:nvSpPr>
        <p:spPr>
          <a:xfrm>
            <a:off x="5508720" y="6093000"/>
            <a:ext cx="3635280" cy="6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Źródło: 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aukawpolsce.pap.pl/aktualnosci/news,393631,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-bakteriach-i-hodowli-in-vitro-podczas-nocy-biologow-w-lublinie.html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Polecenie dla uczniów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Teraz sięgnij do materiałów do dyskusji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zapoznaj się z argumentami zwolenników oraz przeciwników zapłodnienia </a:t>
            </a: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in vitro</a:t>
            </a: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Po zakończeniu wykładu rozpoczniemy dyskusję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" descr="C:\Program Files\Microsoft Office\MEDIA\CAGCAT10\j0195812.wmf"/>
          <p:cNvPicPr/>
          <p:nvPr/>
        </p:nvPicPr>
        <p:blipFill>
          <a:blip r:embed="rId1"/>
          <a:stretch/>
        </p:blipFill>
        <p:spPr>
          <a:xfrm>
            <a:off x="6443640" y="260280"/>
            <a:ext cx="175104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KLONOWANIE SSAKÓW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68000" y="836280"/>
            <a:ext cx="8218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lonowanie jest to proces prowadzący do powstania klonu, mający na celu wytworzenie potomstwa identycznego pod względem cech i budowy somatycznej, jakie posiada organizm macierzysty. Klon, to organizmu zawierający identyczny lub prawie identyczny materiał genetyczn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języku potocznym klonowaniem nazywamy procesu uzyskiwania kopii identycznej, jak orygina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 dzisiejszych czasach opanowano metody klonowania wielu gatunków roślin oraz zwierzą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lonowanie w przypadku zwierząt zazwyczaj polega na przeniesieniu jądra komórki somatycznej pobranej z klonowanego osobnika, do komórki jajowej pozbawionej jądr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pl-PL" sz="4400" spc="-1" strike="noStrike">
                <a:solidFill>
                  <a:srgbClr val="000000"/>
                </a:solidFill>
                <a:latin typeface="Calibri"/>
              </a:rPr>
              <a:t>Historia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Badania nad klonowaniem zwierząt trwały od początku lat 30 ubiegłego wieku. Pierwszym sklonowanym ssakiem była owca Dolly- 1996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d momentu sklonowania owcy Dolly naukowcy zaczęli zastanawiać się i pracować nad możliwością klonowania ludzi. Rozpoczęto prace. Doniesienia wskazywały, że w 2004r. grupie koreańskich badaczy udało się sklonować ludzki embrion. Okazało się to jednak oszustwem. Istnieje także wiele doniesień o tym, że badania wyszły poza fazę sklonowania embrionu, ale nie ma żadnych oficjalnych informacji, jakoby te dane miały być prawdziw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Klonowanie ssaków jest kwestią sporną </a:t>
            </a:r>
            <a:br>
              <a:rPr sz="3200"/>
            </a:br>
            <a:r>
              <a:rPr b="0" lang="pl-PL" sz="3200" spc="-1" strike="noStrike">
                <a:solidFill>
                  <a:srgbClr val="000000"/>
                </a:solidFill>
                <a:latin typeface="Calibri"/>
              </a:rPr>
              <a:t>i wywiązuje się wokół tego tematu szeroka dyskusj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871800" cy="2673360"/>
          </a:xfrm>
          <a:prstGeom prst="rect">
            <a:avLst/>
          </a:prstGeom>
          <a:ln w="0">
            <a:noFill/>
          </a:ln>
        </p:spPr>
      </p:pic>
      <p:sp>
        <p:nvSpPr>
          <p:cNvPr id="118" name="pole tekstowe 5"/>
          <p:cNvSpPr/>
          <p:nvPr/>
        </p:nvSpPr>
        <p:spPr>
          <a:xfrm>
            <a:off x="2700360" y="5950080"/>
            <a:ext cx="39592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ys. 3 Owca Dol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0000"/>
                </a:solidFill>
                <a:latin typeface="Calibri"/>
              </a:rPr>
              <a:t>Żródło: </a:t>
            </a:r>
            <a:r>
              <a:rPr b="0" lang="pl-PL" sz="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m.onet.pl/wiedza-swiat/nauka,x5mg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Klonowanie zwierząt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Calibri"/>
              </a:rPr>
              <a:t>Argumenty zwolenników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możliwość uzyskania genetycznie zmodyfikowanych narządów zwierzęcych nadających się na przeszczepy dla ludz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tworzenie stada hodowlanego z wyselekcjonowanych,  dobrych osobników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badanie nad możliwością sklonowania już wymarłych gatunków zwierząt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sklonowanie zwierząt zagrożonych wyginięciem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klonowanie dorosłych osobników z chorobami, podobnymi do ludzkich </a:t>
            </a: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i prowadzenie badań na większą skalę nad wynalezieniem leku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9T06:37:45Z</dcterms:created>
  <dc:creator>awrobel</dc:creator>
  <dc:description/>
  <dc:language>en-US</dc:language>
  <cp:lastModifiedBy>Bartek</cp:lastModifiedBy>
  <dcterms:modified xsi:type="dcterms:W3CDTF">2013-06-14T19:29:01Z</dcterms:modified>
  <cp:revision>29</cp:revision>
  <dc:subject/>
  <dc:title>Slajd 1</dc:title>
</cp:coreProperties>
</file>